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2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243320" y="1125360"/>
            <a:ext cx="1428840" cy="1047960"/>
            <a:chOff x="4243320" y="1125360"/>
            <a:chExt cx="1428840" cy="1047960"/>
          </a:xfrm>
        </p:grpSpPr>
        <p:sp>
          <p:nvSpPr>
            <p:cNvPr id="55" name=""/>
            <p:cNvSpPr/>
            <p:nvPr/>
          </p:nvSpPr>
          <p:spPr>
            <a:xfrm>
              <a:off x="4243320" y="1125360"/>
              <a:ext cx="1428840" cy="1047960"/>
            </a:xfrm>
            <a:prstGeom prst="cube">
              <a:avLst>
                <a:gd name="adj" fmla="val 2337"/>
              </a:avLst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243320" y="1125360"/>
              <a:ext cx="1428840" cy="1047960"/>
              <a:chOff x="4243320" y="1125360"/>
              <a:chExt cx="1428840" cy="1047960"/>
            </a:xfrm>
          </p:grpSpPr>
          <p:sp>
            <p:nvSpPr>
              <p:cNvPr id="57" name=""/>
              <p:cNvSpPr/>
              <p:nvPr/>
            </p:nvSpPr>
            <p:spPr>
              <a:xfrm>
                <a:off x="4243320" y="1125360"/>
                <a:ext cx="1428840" cy="1047960"/>
              </a:xfrm>
              <a:prstGeom prst="cube">
                <a:avLst>
                  <a:gd name="adj" fmla="val 2337"/>
                </a:avLst>
              </a:prstGeom>
              <a:gradFill rotWithShape="0">
                <a:gsLst>
                  <a:gs pos="0">
                    <a:srgbClr val="171717"/>
                  </a:gs>
                  <a:gs pos="50000">
                    <a:srgbClr val="333333"/>
                  </a:gs>
                  <a:gs pos="100000">
                    <a:srgbClr val="1717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302360" y="1212480"/>
                <a:ext cx="1280160" cy="902160"/>
              </a:xfrm>
              <a:prstGeom prst="bevel">
                <a:avLst>
                  <a:gd name="adj" fmla="val 3588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17840" y="1226880"/>
                <a:ext cx="1250280" cy="873360"/>
              </a:xfrm>
              <a:prstGeom prst="rect">
                <a:avLst/>
              </a:prstGeom>
              <a:gradFill rotWithShape="0">
                <a:gsLst>
                  <a:gs pos="0">
                    <a:srgbClr val="d7f1fe"/>
                  </a:gs>
                  <a:gs pos="100000">
                    <a:srgbClr val="66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"/>
          <p:cNvGrpSpPr/>
          <p:nvPr/>
        </p:nvGrpSpPr>
        <p:grpSpPr>
          <a:xfrm>
            <a:off x="6116760" y="1125360"/>
            <a:ext cx="1428480" cy="1047960"/>
            <a:chOff x="6116760" y="1125360"/>
            <a:chExt cx="1428480" cy="1047960"/>
          </a:xfrm>
        </p:grpSpPr>
        <p:sp>
          <p:nvSpPr>
            <p:cNvPr id="61" name=""/>
            <p:cNvSpPr/>
            <p:nvPr/>
          </p:nvSpPr>
          <p:spPr>
            <a:xfrm>
              <a:off x="6116760" y="1125360"/>
              <a:ext cx="1428480" cy="1047960"/>
            </a:xfrm>
            <a:prstGeom prst="cube">
              <a:avLst>
                <a:gd name="adj" fmla="val 2337"/>
              </a:avLst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116760" y="1125360"/>
              <a:ext cx="1428480" cy="1047960"/>
              <a:chOff x="6116760" y="1125360"/>
              <a:chExt cx="1428480" cy="1047960"/>
            </a:xfrm>
          </p:grpSpPr>
          <p:sp>
            <p:nvSpPr>
              <p:cNvPr id="63" name=""/>
              <p:cNvSpPr/>
              <p:nvPr/>
            </p:nvSpPr>
            <p:spPr>
              <a:xfrm>
                <a:off x="6116760" y="1125360"/>
                <a:ext cx="1428480" cy="1047960"/>
              </a:xfrm>
              <a:prstGeom prst="cube">
                <a:avLst>
                  <a:gd name="adj" fmla="val 2337"/>
                </a:avLst>
              </a:prstGeom>
              <a:gradFill rotWithShape="0">
                <a:gsLst>
                  <a:gs pos="0">
                    <a:srgbClr val="969696"/>
                  </a:gs>
                  <a:gs pos="50000">
                    <a:srgbClr val="dadada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00000">
                <a:off x="6175440" y="1212480"/>
                <a:ext cx="1279800" cy="902160"/>
              </a:xfrm>
              <a:prstGeom prst="bevel">
                <a:avLst>
                  <a:gd name="adj" fmla="val 3588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191280" y="1226880"/>
                <a:ext cx="1249920" cy="873360"/>
              </a:xfrm>
              <a:prstGeom prst="rect">
                <a:avLst/>
              </a:prstGeom>
              <a:gradFill rotWithShape="0">
                <a:gsLst>
                  <a:gs pos="0">
                    <a:srgbClr val="d7f1fe"/>
                  </a:gs>
                  <a:gs pos="100000">
                    <a:srgbClr val="66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7988400" y="1125360"/>
            <a:ext cx="1428480" cy="1047960"/>
            <a:chOff x="7988400" y="1125360"/>
            <a:chExt cx="1428480" cy="1047960"/>
          </a:xfrm>
        </p:grpSpPr>
        <p:sp>
          <p:nvSpPr>
            <p:cNvPr id="67" name=""/>
            <p:cNvSpPr/>
            <p:nvPr/>
          </p:nvSpPr>
          <p:spPr>
            <a:xfrm>
              <a:off x="7988400" y="1125360"/>
              <a:ext cx="1428480" cy="1047960"/>
            </a:xfrm>
            <a:prstGeom prst="cube">
              <a:avLst>
                <a:gd name="adj" fmla="val 2337"/>
              </a:avLst>
            </a:pr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7988400" y="1125360"/>
              <a:ext cx="1428480" cy="1047960"/>
              <a:chOff x="7988400" y="1125360"/>
              <a:chExt cx="1428480" cy="1047960"/>
            </a:xfrm>
          </p:grpSpPr>
          <p:sp>
            <p:nvSpPr>
              <p:cNvPr id="69" name=""/>
              <p:cNvSpPr/>
              <p:nvPr/>
            </p:nvSpPr>
            <p:spPr>
              <a:xfrm>
                <a:off x="7988400" y="1125360"/>
                <a:ext cx="1428480" cy="1047960"/>
              </a:xfrm>
              <a:prstGeom prst="cube">
                <a:avLst>
                  <a:gd name="adj" fmla="val 2337"/>
                </a:avLst>
              </a:prstGeom>
              <a:gradFill rotWithShape="0">
                <a:gsLst>
                  <a:gs pos="0">
                    <a:srgbClr val="c1c1c1"/>
                  </a:gs>
                  <a:gs pos="50000">
                    <a:srgbClr val="ffffff"/>
                  </a:gs>
                  <a:gs pos="100000">
                    <a:srgbClr val="c1c1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0800000">
                <a:off x="8047080" y="1212480"/>
                <a:ext cx="1279800" cy="902160"/>
              </a:xfrm>
              <a:prstGeom prst="bevel">
                <a:avLst>
                  <a:gd name="adj" fmla="val 3588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062920" y="1226880"/>
                <a:ext cx="1249920" cy="873360"/>
              </a:xfrm>
              <a:prstGeom prst="rect">
                <a:avLst/>
              </a:prstGeom>
              <a:gradFill rotWithShape="0">
                <a:gsLst>
                  <a:gs pos="0">
                    <a:srgbClr val="d7f1fe"/>
                  </a:gs>
                  <a:gs pos="100000">
                    <a:srgbClr val="66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487440" y="1079640"/>
            <a:ext cx="1436760" cy="1054080"/>
            <a:chOff x="487440" y="1079640"/>
            <a:chExt cx="1436760" cy="1054080"/>
          </a:xfrm>
        </p:grpSpPr>
        <p:grpSp>
          <p:nvGrpSpPr>
            <p:cNvPr id="73" name=""/>
            <p:cNvGrpSpPr/>
            <p:nvPr/>
          </p:nvGrpSpPr>
          <p:grpSpPr>
            <a:xfrm>
              <a:off x="487440" y="1079640"/>
              <a:ext cx="1436760" cy="1054080"/>
              <a:chOff x="487440" y="1079640"/>
              <a:chExt cx="1436760" cy="1054080"/>
            </a:xfrm>
          </p:grpSpPr>
          <p:sp>
            <p:nvSpPr>
              <p:cNvPr id="74" name=""/>
              <p:cNvSpPr/>
              <p:nvPr/>
            </p:nvSpPr>
            <p:spPr>
              <a:xfrm>
                <a:off x="487440" y="1079640"/>
                <a:ext cx="1436760" cy="1054080"/>
              </a:xfrm>
              <a:prstGeom prst="cube">
                <a:avLst>
                  <a:gd name="adj" fmla="val 233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0800000">
                <a:off x="546840" y="1167480"/>
                <a:ext cx="1287360" cy="907200"/>
              </a:xfrm>
              <a:prstGeom prst="bevel">
                <a:avLst>
                  <a:gd name="adj" fmla="val 3588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62320" y="1181880"/>
                <a:ext cx="1257480" cy="87840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100000">
                    <a:srgbClr val="005e7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617400" y="124200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7400" y="144036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15760" y="124200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9dfe"/>
                </a:gs>
                <a:gs pos="100000">
                  <a:srgbClr val="cc66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5760" y="144036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bdbd"/>
                </a:gs>
                <a:gs pos="100000">
                  <a:srgbClr val="009999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7400" y="1641240"/>
              <a:ext cx="151920" cy="14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7400" y="184212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bd7c"/>
                </a:gs>
                <a:gs pos="100000">
                  <a:srgbClr val="339933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5760" y="1641240"/>
              <a:ext cx="151920" cy="14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5760" y="184212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18440" y="124200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18440" y="144036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16440" y="124200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5cfe"/>
                </a:gs>
                <a:gs pos="100000">
                  <a:srgbClr val="0000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16440" y="144036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7cbd"/>
                </a:gs>
                <a:gs pos="100000">
                  <a:srgbClr val="333399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18440" y="1641240"/>
              <a:ext cx="151920" cy="14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bdfe"/>
                </a:gs>
                <a:gs pos="100000">
                  <a:srgbClr val="0099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18440" y="184212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dddfe"/>
                </a:gs>
                <a:gs pos="100000">
                  <a:srgbClr val="66cc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6440" y="1641240"/>
              <a:ext cx="152280" cy="14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16440" y="184212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11560" y="124200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11560" y="144036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09560" y="124200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9dfe"/>
                </a:gs>
                <a:gs pos="100000">
                  <a:srgbClr val="cc66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09560" y="144036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bdbd"/>
                </a:gs>
                <a:gs pos="100000">
                  <a:srgbClr val="009999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11560" y="1641240"/>
              <a:ext cx="151920" cy="14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5c5c"/>
                </a:gs>
                <a:gs pos="100000">
                  <a:srgbClr val="ff00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11560" y="184212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09560" y="1641240"/>
              <a:ext cx="151920" cy="14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9560" y="1842120"/>
              <a:ext cx="15192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60520" y="1079640"/>
            <a:ext cx="1440000" cy="1054080"/>
            <a:chOff x="2360520" y="1079640"/>
            <a:chExt cx="1440000" cy="1054080"/>
          </a:xfrm>
        </p:grpSpPr>
        <p:grpSp>
          <p:nvGrpSpPr>
            <p:cNvPr id="102" name=""/>
            <p:cNvGrpSpPr/>
            <p:nvPr/>
          </p:nvGrpSpPr>
          <p:grpSpPr>
            <a:xfrm>
              <a:off x="2360520" y="1079640"/>
              <a:ext cx="1440000" cy="1054080"/>
              <a:chOff x="2360520" y="1079640"/>
              <a:chExt cx="1440000" cy="1054080"/>
            </a:xfrm>
          </p:grpSpPr>
          <p:sp>
            <p:nvSpPr>
              <p:cNvPr id="103" name=""/>
              <p:cNvSpPr/>
              <p:nvPr/>
            </p:nvSpPr>
            <p:spPr>
              <a:xfrm>
                <a:off x="2360520" y="1079640"/>
                <a:ext cx="1440000" cy="1054080"/>
              </a:xfrm>
              <a:prstGeom prst="cube">
                <a:avLst>
                  <a:gd name="adj" fmla="val 2337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0800000">
                <a:off x="2420280" y="1167480"/>
                <a:ext cx="1290240" cy="907200"/>
              </a:xfrm>
              <a:prstGeom prst="bevel">
                <a:avLst>
                  <a:gd name="adj" fmla="val 3588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35400" y="1181880"/>
                <a:ext cx="1260000" cy="87840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100000">
                    <a:srgbClr val="005e7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490840" y="124200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0840" y="144036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89560" y="124200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9dfe"/>
                </a:gs>
                <a:gs pos="100000">
                  <a:srgbClr val="cc66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89560" y="144036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bdbd"/>
                </a:gs>
                <a:gs pos="100000">
                  <a:srgbClr val="009999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90840" y="1641240"/>
              <a:ext cx="152280" cy="14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5c9d"/>
                </a:gs>
                <a:gs pos="100000">
                  <a:srgbClr val="ff0066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90840" y="184212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bd7c"/>
                </a:gs>
                <a:gs pos="100000">
                  <a:srgbClr val="339933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89560" y="1641240"/>
              <a:ext cx="152280" cy="14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89560" y="184212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92600" y="124200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2600" y="144036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91320" y="124200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5cfe"/>
                </a:gs>
                <a:gs pos="100000">
                  <a:srgbClr val="0000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91320" y="144036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7cbd"/>
                </a:gs>
                <a:gs pos="100000">
                  <a:srgbClr val="333399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92600" y="1641240"/>
              <a:ext cx="152280" cy="14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bdfe"/>
                </a:gs>
                <a:gs pos="100000">
                  <a:srgbClr val="0099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2600" y="184212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dddfe"/>
                </a:gs>
                <a:gs pos="100000">
                  <a:srgbClr val="66cc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91320" y="1641240"/>
              <a:ext cx="152280" cy="14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91320" y="184212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86440" y="1242000"/>
              <a:ext cx="15264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86440" y="1440360"/>
              <a:ext cx="15264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85160" y="124200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9dfe"/>
                </a:gs>
                <a:gs pos="100000">
                  <a:srgbClr val="cc66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85160" y="144036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bdbd"/>
                </a:gs>
                <a:gs pos="100000">
                  <a:srgbClr val="009999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86440" y="1641240"/>
              <a:ext cx="152640" cy="14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5c5c"/>
                </a:gs>
                <a:gs pos="100000">
                  <a:srgbClr val="ff00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86440" y="1842120"/>
              <a:ext cx="15264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85160" y="1641240"/>
              <a:ext cx="152280" cy="14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5160" y="1842120"/>
              <a:ext cx="152280" cy="14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514600" y="2798640"/>
            <a:ext cx="1277640" cy="1494000"/>
            <a:chOff x="2514600" y="2798640"/>
            <a:chExt cx="1277640" cy="1494000"/>
          </a:xfrm>
        </p:grpSpPr>
        <p:sp>
          <p:nvSpPr>
            <p:cNvPr id="131" name=""/>
            <p:cNvSpPr/>
            <p:nvPr/>
          </p:nvSpPr>
          <p:spPr>
            <a:xfrm>
              <a:off x="2514600" y="2798640"/>
              <a:ext cx="1034640" cy="1494000"/>
            </a:xfrm>
            <a:custGeom>
              <a:avLst/>
              <a:gdLst>
                <a:gd name="textAreaLeft" fmla="*/ 15480 w 1034640"/>
                <a:gd name="textAreaRight" fmla="*/ 1019160 w 1034640"/>
                <a:gd name="textAreaTop" fmla="*/ 15480 h 1494000"/>
                <a:gd name="textAreaBottom" fmla="*/ 1478520 h 1494000"/>
              </a:gdLst>
              <a:ahLst/>
              <a:rect l="textAreaLeft" t="textAreaTop" r="textAreaRight" b="textAreaBottom"/>
              <a:pathLst>
                <a:path w="21600" h="31187">
                  <a:moveTo>
                    <a:pt x="1127" y="0"/>
                  </a:moveTo>
                  <a:arcTo wR="1127" hR="1127" stAng="16200000" swAng="-5400000"/>
                  <a:lnTo>
                    <a:pt x="0" y="30060"/>
                  </a:lnTo>
                  <a:arcTo wR="1127" hR="1127" stAng="10800000" swAng="-5400000"/>
                  <a:lnTo>
                    <a:pt x="20473" y="31187"/>
                  </a:lnTo>
                  <a:arcTo wR="1127" hR="1127" stAng="5400000" swAng="-5400000"/>
                  <a:lnTo>
                    <a:pt x="21600" y="1127"/>
                  </a:lnTo>
                  <a:arcTo wR="1127" hR="1127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c5c5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1280" y="2875320"/>
              <a:ext cx="880560" cy="1225080"/>
            </a:xfrm>
            <a:custGeom>
              <a:avLst/>
              <a:gdLst>
                <a:gd name="textAreaLeft" fmla="*/ 8640 w 880560"/>
                <a:gd name="textAreaRight" fmla="*/ 871920 w 880560"/>
                <a:gd name="textAreaTop" fmla="*/ 8640 h 1225080"/>
                <a:gd name="textAreaBottom" fmla="*/ 1216440 h 1225080"/>
              </a:gdLst>
              <a:ahLst/>
              <a:rect l="textAreaLeft" t="textAreaTop" r="textAreaRight" b="textAreaBottom"/>
              <a:pathLst>
                <a:path w="21600" h="30048">
                  <a:moveTo>
                    <a:pt x="729" y="0"/>
                  </a:moveTo>
                  <a:arcTo wR="729" hR="729" stAng="16200000" swAng="-5400000"/>
                  <a:lnTo>
                    <a:pt x="0" y="29319"/>
                  </a:lnTo>
                  <a:arcTo wR="729" hR="729" stAng="10800000" swAng="-5400000"/>
                  <a:lnTo>
                    <a:pt x="20871" y="30048"/>
                  </a:lnTo>
                  <a:arcTo wR="729" hR="729" stAng="5400000" swAng="-5400000"/>
                  <a:lnTo>
                    <a:pt x="21600" y="729"/>
                  </a:lnTo>
                  <a:arcTo wR="729" hR="72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29440" y="2914560"/>
              <a:ext cx="803520" cy="11480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668320" y="2952720"/>
              <a:ext cx="726480" cy="533160"/>
              <a:chOff x="2668320" y="2952720"/>
              <a:chExt cx="726480" cy="533160"/>
            </a:xfrm>
          </p:grpSpPr>
          <p:sp>
            <p:nvSpPr>
              <p:cNvPr id="135" name=""/>
              <p:cNvSpPr/>
              <p:nvPr/>
            </p:nvSpPr>
            <p:spPr>
              <a:xfrm>
                <a:off x="2668320" y="295992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ddd5c"/>
                  </a:gs>
                  <a:gs pos="100000">
                    <a:srgbClr val="99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68320" y="315108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58760" y="295992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9dfe"/>
                  </a:gs>
                  <a:gs pos="100000">
                    <a:srgbClr val="cc66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58760" y="315108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cbdbd"/>
                  </a:gs>
                  <a:gs pos="100000">
                    <a:srgbClr val="009999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68320" y="334224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58560" y="316620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58760" y="334224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49720" y="316620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58560" y="295272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c9d5c"/>
                  </a:gs>
                  <a:gs pos="100000">
                    <a:srgbClr val="00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49720" y="295272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e9d5c"/>
                  </a:gs>
                  <a:gs pos="100000">
                    <a:srgbClr val="ff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84280" y="3105000"/>
              <a:ext cx="507960" cy="507960"/>
              <a:chOff x="3284280" y="3105000"/>
              <a:chExt cx="507960" cy="507960"/>
            </a:xfrm>
          </p:grpSpPr>
          <p:sp>
            <p:nvSpPr>
              <p:cNvPr id="146" name=""/>
              <p:cNvSpPr/>
              <p:nvPr/>
            </p:nvSpPr>
            <p:spPr>
              <a:xfrm rot="13500000">
                <a:off x="3531240" y="3031200"/>
                <a:ext cx="48240" cy="621000"/>
              </a:xfrm>
              <a:custGeom>
                <a:avLst/>
                <a:gdLst>
                  <a:gd name="textAreaLeft" fmla="*/ 6840 w 48240"/>
                  <a:gd name="textAreaRight" fmla="*/ 41400 w 48240"/>
                  <a:gd name="textAreaTop" fmla="*/ 6840 h 621000"/>
                  <a:gd name="textAreaBottom" fmla="*/ 614160 h 621000"/>
                </a:gdLst>
                <a:ahLst/>
                <a:rect l="textAreaLeft" t="textAreaTop" r="textAreaRight" b="textAreaBottom"/>
                <a:pathLst>
                  <a:path w="21600" h="276160">
                    <a:moveTo>
                      <a:pt x="10800" y="0"/>
                    </a:moveTo>
                    <a:arcTo wR="10800" hR="10800" stAng="16200000" swAng="-5400000"/>
                    <a:lnTo>
                      <a:pt x="0" y="265360"/>
                    </a:lnTo>
                    <a:arcTo wR="10800" hR="10800" stAng="10800000" swAng="-5400000"/>
                    <a:lnTo>
                      <a:pt x="10800" y="27616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3500000">
                <a:off x="3303360" y="3532320"/>
                <a:ext cx="48240" cy="74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973600" y="4134240"/>
              <a:ext cx="125280" cy="124200"/>
              <a:chOff x="2973600" y="4134240"/>
              <a:chExt cx="125280" cy="124200"/>
            </a:xfrm>
          </p:grpSpPr>
          <p:sp>
            <p:nvSpPr>
              <p:cNvPr id="149" name=""/>
              <p:cNvSpPr/>
              <p:nvPr/>
            </p:nvSpPr>
            <p:spPr>
              <a:xfrm rot="10800000">
                <a:off x="2973600" y="4134240"/>
                <a:ext cx="125280" cy="1242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86200" y="4143960"/>
                <a:ext cx="100800" cy="10476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129120" y="4150440"/>
              <a:ext cx="94320" cy="91800"/>
              <a:chOff x="3129120" y="4150440"/>
              <a:chExt cx="94320" cy="91800"/>
            </a:xfrm>
          </p:grpSpPr>
          <p:sp>
            <p:nvSpPr>
              <p:cNvPr id="152" name=""/>
              <p:cNvSpPr/>
              <p:nvPr/>
            </p:nvSpPr>
            <p:spPr>
              <a:xfrm rot="10800000">
                <a:off x="3129120" y="4150440"/>
                <a:ext cx="94320" cy="918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138840" y="4157640"/>
                <a:ext cx="75960" cy="774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845440" y="4150440"/>
              <a:ext cx="94320" cy="91800"/>
              <a:chOff x="2845440" y="4150440"/>
              <a:chExt cx="94320" cy="91800"/>
            </a:xfrm>
          </p:grpSpPr>
          <p:sp>
            <p:nvSpPr>
              <p:cNvPr id="155" name=""/>
              <p:cNvSpPr/>
              <p:nvPr/>
            </p:nvSpPr>
            <p:spPr>
              <a:xfrm rot="10800000">
                <a:off x="2845440" y="4150440"/>
                <a:ext cx="94320" cy="918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55160" y="4157640"/>
                <a:ext cx="75960" cy="774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631800" y="2798640"/>
            <a:ext cx="1277640" cy="1494000"/>
            <a:chOff x="631800" y="2798640"/>
            <a:chExt cx="1277640" cy="1494000"/>
          </a:xfrm>
        </p:grpSpPr>
        <p:sp>
          <p:nvSpPr>
            <p:cNvPr id="158" name=""/>
            <p:cNvSpPr/>
            <p:nvPr/>
          </p:nvSpPr>
          <p:spPr>
            <a:xfrm>
              <a:off x="631800" y="2798640"/>
              <a:ext cx="1034640" cy="1494000"/>
            </a:xfrm>
            <a:custGeom>
              <a:avLst/>
              <a:gdLst>
                <a:gd name="textAreaLeft" fmla="*/ 15480 w 1034640"/>
                <a:gd name="textAreaRight" fmla="*/ 1019160 w 1034640"/>
                <a:gd name="textAreaTop" fmla="*/ 15480 h 1494000"/>
                <a:gd name="textAreaBottom" fmla="*/ 1478520 h 1494000"/>
              </a:gdLst>
              <a:ahLst/>
              <a:rect l="textAreaLeft" t="textAreaTop" r="textAreaRight" b="textAreaBottom"/>
              <a:pathLst>
                <a:path w="21600" h="31187">
                  <a:moveTo>
                    <a:pt x="1127" y="0"/>
                  </a:moveTo>
                  <a:arcTo wR="1127" hR="1127" stAng="16200000" swAng="-5400000"/>
                  <a:lnTo>
                    <a:pt x="0" y="30060"/>
                  </a:lnTo>
                  <a:arcTo wR="1127" hR="1127" stAng="10800000" swAng="-5400000"/>
                  <a:lnTo>
                    <a:pt x="20473" y="31187"/>
                  </a:lnTo>
                  <a:arcTo wR="1127" hR="1127" stAng="5400000" swAng="-5400000"/>
                  <a:lnTo>
                    <a:pt x="21600" y="1127"/>
                  </a:lnTo>
                  <a:arcTo wR="1127" hR="1127" stAng="0" swAng="-5400000"/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8480" y="2875320"/>
              <a:ext cx="880560" cy="1225080"/>
            </a:xfrm>
            <a:custGeom>
              <a:avLst/>
              <a:gdLst>
                <a:gd name="textAreaLeft" fmla="*/ 8640 w 880560"/>
                <a:gd name="textAreaRight" fmla="*/ 871920 w 880560"/>
                <a:gd name="textAreaTop" fmla="*/ 8640 h 1225080"/>
                <a:gd name="textAreaBottom" fmla="*/ 1216440 h 1225080"/>
              </a:gdLst>
              <a:ahLst/>
              <a:rect l="textAreaLeft" t="textAreaTop" r="textAreaRight" b="textAreaBottom"/>
              <a:pathLst>
                <a:path w="21600" h="30048">
                  <a:moveTo>
                    <a:pt x="729" y="0"/>
                  </a:moveTo>
                  <a:arcTo wR="729" hR="729" stAng="16200000" swAng="-5400000"/>
                  <a:lnTo>
                    <a:pt x="0" y="29319"/>
                  </a:lnTo>
                  <a:arcTo wR="729" hR="729" stAng="10800000" swAng="-5400000"/>
                  <a:lnTo>
                    <a:pt x="20871" y="30048"/>
                  </a:lnTo>
                  <a:arcTo wR="729" hR="729" stAng="5400000" swAng="-5400000"/>
                  <a:lnTo>
                    <a:pt x="21600" y="729"/>
                  </a:lnTo>
                  <a:arcTo wR="729" hR="72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640" y="2914560"/>
              <a:ext cx="803520" cy="11480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85520" y="2952720"/>
              <a:ext cx="726480" cy="533160"/>
              <a:chOff x="785520" y="2952720"/>
              <a:chExt cx="726480" cy="533160"/>
            </a:xfrm>
          </p:grpSpPr>
          <p:sp>
            <p:nvSpPr>
              <p:cNvPr id="162" name=""/>
              <p:cNvSpPr/>
              <p:nvPr/>
            </p:nvSpPr>
            <p:spPr>
              <a:xfrm>
                <a:off x="785520" y="295992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ddd5c"/>
                  </a:gs>
                  <a:gs pos="100000">
                    <a:srgbClr val="99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5520" y="315108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75960" y="295992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9dfe"/>
                  </a:gs>
                  <a:gs pos="100000">
                    <a:srgbClr val="cc66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75960" y="315108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cbdbd"/>
                  </a:gs>
                  <a:gs pos="100000">
                    <a:srgbClr val="009999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85520" y="334224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75760" y="316620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75960" y="334224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66920" y="316620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75760" y="295272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c9d5c"/>
                  </a:gs>
                  <a:gs pos="100000">
                    <a:srgbClr val="00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66920" y="295272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e9d5c"/>
                  </a:gs>
                  <a:gs pos="100000">
                    <a:srgbClr val="ff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401480" y="3105000"/>
              <a:ext cx="507960" cy="507960"/>
              <a:chOff x="1401480" y="3105000"/>
              <a:chExt cx="507960" cy="507960"/>
            </a:xfrm>
          </p:grpSpPr>
          <p:sp>
            <p:nvSpPr>
              <p:cNvPr id="173" name=""/>
              <p:cNvSpPr/>
              <p:nvPr/>
            </p:nvSpPr>
            <p:spPr>
              <a:xfrm rot="13500000">
                <a:off x="1648440" y="3031200"/>
                <a:ext cx="48240" cy="621000"/>
              </a:xfrm>
              <a:custGeom>
                <a:avLst/>
                <a:gdLst>
                  <a:gd name="textAreaLeft" fmla="*/ 6840 w 48240"/>
                  <a:gd name="textAreaRight" fmla="*/ 41400 w 48240"/>
                  <a:gd name="textAreaTop" fmla="*/ 6840 h 621000"/>
                  <a:gd name="textAreaBottom" fmla="*/ 614160 h 621000"/>
                </a:gdLst>
                <a:ahLst/>
                <a:rect l="textAreaLeft" t="textAreaTop" r="textAreaRight" b="textAreaBottom"/>
                <a:pathLst>
                  <a:path w="21600" h="276160">
                    <a:moveTo>
                      <a:pt x="10800" y="0"/>
                    </a:moveTo>
                    <a:arcTo wR="10800" hR="10800" stAng="16200000" swAng="-5400000"/>
                    <a:lnTo>
                      <a:pt x="0" y="265360"/>
                    </a:lnTo>
                    <a:arcTo wR="10800" hR="10800" stAng="10800000" swAng="-5400000"/>
                    <a:lnTo>
                      <a:pt x="10800" y="27616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3500000">
                <a:off x="1420560" y="3532320"/>
                <a:ext cx="48240" cy="74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086840" y="4134240"/>
              <a:ext cx="125280" cy="124200"/>
              <a:chOff x="1086840" y="4134240"/>
              <a:chExt cx="125280" cy="124200"/>
            </a:xfrm>
          </p:grpSpPr>
          <p:sp>
            <p:nvSpPr>
              <p:cNvPr id="176" name=""/>
              <p:cNvSpPr/>
              <p:nvPr/>
            </p:nvSpPr>
            <p:spPr>
              <a:xfrm rot="10800000">
                <a:off x="1086840" y="4134240"/>
                <a:ext cx="125280" cy="12420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99440" y="4143960"/>
                <a:ext cx="100800" cy="10476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242360" y="4150440"/>
              <a:ext cx="94320" cy="91800"/>
              <a:chOff x="1242360" y="4150440"/>
              <a:chExt cx="94320" cy="91800"/>
            </a:xfrm>
          </p:grpSpPr>
          <p:sp>
            <p:nvSpPr>
              <p:cNvPr id="179" name=""/>
              <p:cNvSpPr/>
              <p:nvPr/>
            </p:nvSpPr>
            <p:spPr>
              <a:xfrm rot="10800000">
                <a:off x="1242360" y="4150440"/>
                <a:ext cx="94320" cy="9180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252080" y="4157640"/>
                <a:ext cx="75960" cy="7740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58680" y="4150440"/>
              <a:ext cx="94320" cy="91800"/>
              <a:chOff x="958680" y="4150440"/>
              <a:chExt cx="94320" cy="91800"/>
            </a:xfrm>
          </p:grpSpPr>
          <p:sp>
            <p:nvSpPr>
              <p:cNvPr id="182" name=""/>
              <p:cNvSpPr/>
              <p:nvPr/>
            </p:nvSpPr>
            <p:spPr>
              <a:xfrm rot="10800000">
                <a:off x="958680" y="4150440"/>
                <a:ext cx="94320" cy="9180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68400" y="4157640"/>
                <a:ext cx="75960" cy="7740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2576520" y="4797360"/>
            <a:ext cx="996840" cy="1440000"/>
            <a:chOff x="2576520" y="4797360"/>
            <a:chExt cx="996840" cy="1440000"/>
          </a:xfrm>
        </p:grpSpPr>
        <p:sp>
          <p:nvSpPr>
            <p:cNvPr id="185" name=""/>
            <p:cNvSpPr/>
            <p:nvPr/>
          </p:nvSpPr>
          <p:spPr>
            <a:xfrm>
              <a:off x="2576520" y="4797360"/>
              <a:ext cx="996840" cy="1440000"/>
            </a:xfrm>
            <a:custGeom>
              <a:avLst/>
              <a:gdLst>
                <a:gd name="textAreaLeft" fmla="*/ 15120 w 996840"/>
                <a:gd name="textAreaRight" fmla="*/ 981720 w 996840"/>
                <a:gd name="textAreaTop" fmla="*/ 15120 h 1440000"/>
                <a:gd name="textAreaBottom" fmla="*/ 1424880 h 1440000"/>
              </a:gdLst>
              <a:ahLst/>
              <a:rect l="textAreaLeft" t="textAreaTop" r="textAreaRight" b="textAreaBottom"/>
              <a:pathLst>
                <a:path w="21600" h="31199">
                  <a:moveTo>
                    <a:pt x="1127" y="0"/>
                  </a:moveTo>
                  <a:arcTo wR="1127" hR="1127" stAng="16200000" swAng="-5400000"/>
                  <a:lnTo>
                    <a:pt x="0" y="30072"/>
                  </a:lnTo>
                  <a:arcTo wR="1127" hR="1127" stAng="10800000" swAng="-5400000"/>
                  <a:lnTo>
                    <a:pt x="20473" y="31199"/>
                  </a:lnTo>
                  <a:arcTo wR="1127" hR="1127" stAng="5400000" swAng="-5400000"/>
                  <a:lnTo>
                    <a:pt x="21600" y="1127"/>
                  </a:lnTo>
                  <a:arcTo wR="1127" hR="1127" stAng="0" swAng="-5400000"/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76520" y="4797360"/>
              <a:ext cx="996840" cy="1440000"/>
            </a:xfrm>
            <a:custGeom>
              <a:avLst/>
              <a:gdLst>
                <a:gd name="textAreaLeft" fmla="*/ 15120 w 996840"/>
                <a:gd name="textAreaRight" fmla="*/ 981720 w 996840"/>
                <a:gd name="textAreaTop" fmla="*/ 15120 h 1440000"/>
                <a:gd name="textAreaBottom" fmla="*/ 1424880 h 1440000"/>
              </a:gdLst>
              <a:ahLst/>
              <a:rect l="textAreaLeft" t="textAreaTop" r="textAreaRight" b="textAreaBottom"/>
              <a:pathLst>
                <a:path w="21600" h="31199">
                  <a:moveTo>
                    <a:pt x="1127" y="0"/>
                  </a:moveTo>
                  <a:arcTo wR="1127" hR="1127" stAng="16200000" swAng="-5400000"/>
                  <a:lnTo>
                    <a:pt x="0" y="30072"/>
                  </a:lnTo>
                  <a:arcTo wR="1127" hR="1127" stAng="10800000" swAng="-5400000"/>
                  <a:lnTo>
                    <a:pt x="20473" y="31199"/>
                  </a:lnTo>
                  <a:arcTo wR="1127" hR="1127" stAng="5400000" swAng="-5400000"/>
                  <a:lnTo>
                    <a:pt x="21600" y="1127"/>
                  </a:lnTo>
                  <a:arcTo wR="1127" hR="1127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c5c5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50680" y="4871160"/>
              <a:ext cx="848160" cy="1180800"/>
            </a:xfrm>
            <a:custGeom>
              <a:avLst/>
              <a:gdLst>
                <a:gd name="textAreaLeft" fmla="*/ 8280 w 848160"/>
                <a:gd name="textAreaRight" fmla="*/ 839880 w 848160"/>
                <a:gd name="textAreaTop" fmla="*/ 8280 h 1180800"/>
                <a:gd name="textAreaBottom" fmla="*/ 1172520 h 1180800"/>
              </a:gdLst>
              <a:ahLst/>
              <a:rect l="textAreaLeft" t="textAreaTop" r="textAreaRight" b="textAreaBottom"/>
              <a:pathLst>
                <a:path w="21600" h="30068">
                  <a:moveTo>
                    <a:pt x="729" y="0"/>
                  </a:moveTo>
                  <a:arcTo wR="729" hR="729" stAng="16200000" swAng="-5400000"/>
                  <a:lnTo>
                    <a:pt x="0" y="29339"/>
                  </a:lnTo>
                  <a:arcTo wR="729" hR="729" stAng="10800000" swAng="-5400000"/>
                  <a:lnTo>
                    <a:pt x="20871" y="30068"/>
                  </a:lnTo>
                  <a:arcTo wR="729" hR="729" stAng="5400000" swAng="-5400000"/>
                  <a:lnTo>
                    <a:pt x="21600" y="729"/>
                  </a:lnTo>
                  <a:arcTo wR="729" hR="72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87040" y="4908960"/>
              <a:ext cx="774360" cy="1106640"/>
            </a:xfrm>
            <a:prstGeom prst="rect">
              <a:avLst/>
            </a:prstGeom>
            <a:gradFill rotWithShape="0">
              <a:gsLst>
                <a:gs pos="0">
                  <a:srgbClr val="c7e2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018960" y="6084360"/>
              <a:ext cx="120960" cy="119880"/>
              <a:chOff x="3018960" y="6084360"/>
              <a:chExt cx="120960" cy="119880"/>
            </a:xfrm>
          </p:grpSpPr>
          <p:sp>
            <p:nvSpPr>
              <p:cNvPr id="190" name=""/>
              <p:cNvSpPr/>
              <p:nvPr/>
            </p:nvSpPr>
            <p:spPr>
              <a:xfrm rot="10800000">
                <a:off x="3018960" y="6084360"/>
                <a:ext cx="120960" cy="11988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31200" y="6093720"/>
                <a:ext cx="97560" cy="10116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168360" y="6100560"/>
              <a:ext cx="91080" cy="88560"/>
              <a:chOff x="3168360" y="6100560"/>
              <a:chExt cx="91080" cy="88560"/>
            </a:xfrm>
          </p:grpSpPr>
          <p:sp>
            <p:nvSpPr>
              <p:cNvPr id="193" name=""/>
              <p:cNvSpPr/>
              <p:nvPr/>
            </p:nvSpPr>
            <p:spPr>
              <a:xfrm rot="10800000">
                <a:off x="3168360" y="6100560"/>
                <a:ext cx="91080" cy="8856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77360" y="6107040"/>
                <a:ext cx="73440" cy="7488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895120" y="6100560"/>
              <a:ext cx="91080" cy="88560"/>
              <a:chOff x="2895120" y="6100560"/>
              <a:chExt cx="91080" cy="88560"/>
            </a:xfrm>
          </p:grpSpPr>
          <p:sp>
            <p:nvSpPr>
              <p:cNvPr id="196" name=""/>
              <p:cNvSpPr/>
              <p:nvPr/>
            </p:nvSpPr>
            <p:spPr>
              <a:xfrm rot="10800000">
                <a:off x="2895120" y="6100560"/>
                <a:ext cx="91080" cy="8856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04120" y="6107040"/>
                <a:ext cx="73440" cy="7488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704880" y="4797360"/>
            <a:ext cx="996840" cy="1440000"/>
            <a:chOff x="704880" y="4797360"/>
            <a:chExt cx="996840" cy="1440000"/>
          </a:xfrm>
        </p:grpSpPr>
        <p:sp>
          <p:nvSpPr>
            <p:cNvPr id="199" name=""/>
            <p:cNvSpPr/>
            <p:nvPr/>
          </p:nvSpPr>
          <p:spPr>
            <a:xfrm>
              <a:off x="704880" y="4797360"/>
              <a:ext cx="996840" cy="1440000"/>
            </a:xfrm>
            <a:custGeom>
              <a:avLst/>
              <a:gdLst>
                <a:gd name="textAreaLeft" fmla="*/ 15120 w 996840"/>
                <a:gd name="textAreaRight" fmla="*/ 981720 w 996840"/>
                <a:gd name="textAreaTop" fmla="*/ 15120 h 1440000"/>
                <a:gd name="textAreaBottom" fmla="*/ 1424880 h 1440000"/>
              </a:gdLst>
              <a:ahLst/>
              <a:rect l="textAreaLeft" t="textAreaTop" r="textAreaRight" b="textAreaBottom"/>
              <a:pathLst>
                <a:path w="21600" h="31199">
                  <a:moveTo>
                    <a:pt x="1127" y="0"/>
                  </a:moveTo>
                  <a:arcTo wR="1127" hR="1127" stAng="16200000" swAng="-5400000"/>
                  <a:lnTo>
                    <a:pt x="0" y="30072"/>
                  </a:lnTo>
                  <a:arcTo wR="1127" hR="1127" stAng="10800000" swAng="-5400000"/>
                  <a:lnTo>
                    <a:pt x="20473" y="31199"/>
                  </a:lnTo>
                  <a:arcTo wR="1127" hR="1127" stAng="5400000" swAng="-5400000"/>
                  <a:lnTo>
                    <a:pt x="21600" y="1127"/>
                  </a:lnTo>
                  <a:arcTo wR="1127" hR="1127" stAng="0" swAng="-5400000"/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4880" y="4797360"/>
              <a:ext cx="996840" cy="1440000"/>
            </a:xfrm>
            <a:custGeom>
              <a:avLst/>
              <a:gdLst>
                <a:gd name="textAreaLeft" fmla="*/ 15120 w 996840"/>
                <a:gd name="textAreaRight" fmla="*/ 981720 w 996840"/>
                <a:gd name="textAreaTop" fmla="*/ 15120 h 1440000"/>
                <a:gd name="textAreaBottom" fmla="*/ 1424880 h 1440000"/>
              </a:gdLst>
              <a:ahLst/>
              <a:rect l="textAreaLeft" t="textAreaTop" r="textAreaRight" b="textAreaBottom"/>
              <a:pathLst>
                <a:path w="21600" h="31199">
                  <a:moveTo>
                    <a:pt x="1127" y="0"/>
                  </a:moveTo>
                  <a:arcTo wR="1127" hR="1127" stAng="16200000" swAng="-5400000"/>
                  <a:lnTo>
                    <a:pt x="0" y="30072"/>
                  </a:lnTo>
                  <a:arcTo wR="1127" hR="1127" stAng="10800000" swAng="-5400000"/>
                  <a:lnTo>
                    <a:pt x="20473" y="31199"/>
                  </a:lnTo>
                  <a:arcTo wR="1127" hR="1127" stAng="5400000" swAng="-5400000"/>
                  <a:lnTo>
                    <a:pt x="21600" y="1127"/>
                  </a:lnTo>
                  <a:arcTo wR="1127" hR="1127" stAng="0" swAng="-5400000"/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8680" y="4871160"/>
              <a:ext cx="848520" cy="1180800"/>
            </a:xfrm>
            <a:custGeom>
              <a:avLst/>
              <a:gdLst>
                <a:gd name="textAreaLeft" fmla="*/ 8280 w 848520"/>
                <a:gd name="textAreaRight" fmla="*/ 840240 w 848520"/>
                <a:gd name="textAreaTop" fmla="*/ 8280 h 1180800"/>
                <a:gd name="textAreaBottom" fmla="*/ 1172520 h 1180800"/>
              </a:gdLst>
              <a:ahLst/>
              <a:rect l="textAreaLeft" t="textAreaTop" r="textAreaRight" b="textAreaBottom"/>
              <a:pathLst>
                <a:path w="21600" h="30055">
                  <a:moveTo>
                    <a:pt x="729" y="0"/>
                  </a:moveTo>
                  <a:arcTo wR="729" hR="729" stAng="16200000" swAng="-5400000"/>
                  <a:lnTo>
                    <a:pt x="0" y="29326"/>
                  </a:lnTo>
                  <a:arcTo wR="729" hR="729" stAng="10800000" swAng="-5400000"/>
                  <a:lnTo>
                    <a:pt x="20871" y="30055"/>
                  </a:lnTo>
                  <a:arcTo wR="729" hR="729" stAng="5400000" swAng="-5400000"/>
                  <a:lnTo>
                    <a:pt x="21600" y="729"/>
                  </a:lnTo>
                  <a:arcTo wR="729" hR="72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5040" y="4908960"/>
              <a:ext cx="774360" cy="1106640"/>
            </a:xfrm>
            <a:prstGeom prst="rect">
              <a:avLst/>
            </a:prstGeom>
            <a:gradFill rotWithShape="0">
              <a:gsLst>
                <a:gs pos="0">
                  <a:srgbClr val="c7e2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143360" y="6084360"/>
              <a:ext cx="120960" cy="119880"/>
              <a:chOff x="1143360" y="6084360"/>
              <a:chExt cx="120960" cy="119880"/>
            </a:xfrm>
          </p:grpSpPr>
          <p:sp>
            <p:nvSpPr>
              <p:cNvPr id="204" name=""/>
              <p:cNvSpPr/>
              <p:nvPr/>
            </p:nvSpPr>
            <p:spPr>
              <a:xfrm rot="10800000">
                <a:off x="1143360" y="6084360"/>
                <a:ext cx="120960" cy="11988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55600" y="6093720"/>
                <a:ext cx="97560" cy="10116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1293120" y="6100560"/>
              <a:ext cx="90720" cy="88560"/>
              <a:chOff x="1293120" y="6100560"/>
              <a:chExt cx="90720" cy="88560"/>
            </a:xfrm>
          </p:grpSpPr>
          <p:sp>
            <p:nvSpPr>
              <p:cNvPr id="207" name=""/>
              <p:cNvSpPr/>
              <p:nvPr/>
            </p:nvSpPr>
            <p:spPr>
              <a:xfrm rot="10800000">
                <a:off x="1293120" y="6100560"/>
                <a:ext cx="90720" cy="8856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02480" y="6107040"/>
                <a:ext cx="73080" cy="7488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019520" y="6100560"/>
              <a:ext cx="90720" cy="88560"/>
              <a:chOff x="1019520" y="6100560"/>
              <a:chExt cx="90720" cy="88560"/>
            </a:xfrm>
          </p:grpSpPr>
          <p:sp>
            <p:nvSpPr>
              <p:cNvPr id="210" name=""/>
              <p:cNvSpPr/>
              <p:nvPr/>
            </p:nvSpPr>
            <p:spPr>
              <a:xfrm rot="10800000">
                <a:off x="1019520" y="6100560"/>
                <a:ext cx="90720" cy="8856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028880" y="6107040"/>
                <a:ext cx="73080" cy="7488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4376880" y="2798640"/>
            <a:ext cx="1277280" cy="1494000"/>
            <a:chOff x="4376880" y="2798640"/>
            <a:chExt cx="1277280" cy="1494000"/>
          </a:xfrm>
        </p:grpSpPr>
        <p:sp>
          <p:nvSpPr>
            <p:cNvPr id="213" name=""/>
            <p:cNvSpPr/>
            <p:nvPr/>
          </p:nvSpPr>
          <p:spPr>
            <a:xfrm>
              <a:off x="4376880" y="2798640"/>
              <a:ext cx="1034640" cy="1494000"/>
            </a:xfrm>
            <a:custGeom>
              <a:avLst/>
              <a:gdLst>
                <a:gd name="textAreaLeft" fmla="*/ 15480 w 1034640"/>
                <a:gd name="textAreaRight" fmla="*/ 1019160 w 1034640"/>
                <a:gd name="textAreaTop" fmla="*/ 15480 h 1494000"/>
                <a:gd name="textAreaBottom" fmla="*/ 1478520 h 1494000"/>
              </a:gdLst>
              <a:ahLst/>
              <a:rect l="textAreaLeft" t="textAreaTop" r="textAreaRight" b="textAreaBottom"/>
              <a:pathLst>
                <a:path w="21600" h="31187">
                  <a:moveTo>
                    <a:pt x="1127" y="0"/>
                  </a:moveTo>
                  <a:arcTo wR="1127" hR="1127" stAng="16200000" swAng="-5400000"/>
                  <a:lnTo>
                    <a:pt x="0" y="30060"/>
                  </a:lnTo>
                  <a:arcTo wR="1127" hR="1127" stAng="10800000" swAng="-5400000"/>
                  <a:lnTo>
                    <a:pt x="20473" y="31187"/>
                  </a:lnTo>
                  <a:arcTo wR="1127" hR="1127" stAng="5400000" swAng="-5400000"/>
                  <a:lnTo>
                    <a:pt x="21600" y="1127"/>
                  </a:lnTo>
                  <a:arcTo wR="1127" hR="1127" stAng="0" swAng="-5400000"/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ad5c5c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53560" y="2875320"/>
              <a:ext cx="880560" cy="1225080"/>
            </a:xfrm>
            <a:custGeom>
              <a:avLst/>
              <a:gdLst>
                <a:gd name="textAreaLeft" fmla="*/ 8640 w 880560"/>
                <a:gd name="textAreaRight" fmla="*/ 871920 w 880560"/>
                <a:gd name="textAreaTop" fmla="*/ 8640 h 1225080"/>
                <a:gd name="textAreaBottom" fmla="*/ 1216440 h 1225080"/>
              </a:gdLst>
              <a:ahLst/>
              <a:rect l="textAreaLeft" t="textAreaTop" r="textAreaRight" b="textAreaBottom"/>
              <a:pathLst>
                <a:path w="21600" h="30048">
                  <a:moveTo>
                    <a:pt x="729" y="0"/>
                  </a:moveTo>
                  <a:arcTo wR="729" hR="729" stAng="16200000" swAng="-5400000"/>
                  <a:lnTo>
                    <a:pt x="0" y="29319"/>
                  </a:lnTo>
                  <a:arcTo wR="729" hR="729" stAng="10800000" swAng="-5400000"/>
                  <a:lnTo>
                    <a:pt x="20871" y="30048"/>
                  </a:lnTo>
                  <a:arcTo wR="729" hR="729" stAng="5400000" swAng="-5400000"/>
                  <a:lnTo>
                    <a:pt x="21600" y="729"/>
                  </a:lnTo>
                  <a:arcTo wR="729" hR="72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1720" y="2914560"/>
              <a:ext cx="803160" cy="11480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4530600" y="2952720"/>
              <a:ext cx="726120" cy="533160"/>
              <a:chOff x="4530600" y="2952720"/>
              <a:chExt cx="726120" cy="533160"/>
            </a:xfrm>
          </p:grpSpPr>
          <p:sp>
            <p:nvSpPr>
              <p:cNvPr id="217" name=""/>
              <p:cNvSpPr/>
              <p:nvPr/>
            </p:nvSpPr>
            <p:spPr>
              <a:xfrm>
                <a:off x="4530600" y="295992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ddd5c"/>
                  </a:gs>
                  <a:gs pos="100000">
                    <a:srgbClr val="99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30600" y="315108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21040" y="295992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9dfe"/>
                  </a:gs>
                  <a:gs pos="100000">
                    <a:srgbClr val="cc66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21040" y="315108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cbdbd"/>
                  </a:gs>
                  <a:gs pos="100000">
                    <a:srgbClr val="009999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30600" y="334224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0840" y="316620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21040" y="334224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11640" y="316620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20840" y="295272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c9d5c"/>
                  </a:gs>
                  <a:gs pos="100000">
                    <a:srgbClr val="00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11640" y="295272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e9d5c"/>
                  </a:gs>
                  <a:gs pos="100000">
                    <a:srgbClr val="ff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146560" y="3105360"/>
              <a:ext cx="507600" cy="507600"/>
              <a:chOff x="5146560" y="3105360"/>
              <a:chExt cx="507600" cy="507600"/>
            </a:xfrm>
          </p:grpSpPr>
          <p:sp>
            <p:nvSpPr>
              <p:cNvPr id="228" name=""/>
              <p:cNvSpPr/>
              <p:nvPr/>
            </p:nvSpPr>
            <p:spPr>
              <a:xfrm rot="13500000">
                <a:off x="5393520" y="3031560"/>
                <a:ext cx="48240" cy="620640"/>
              </a:xfrm>
              <a:custGeom>
                <a:avLst/>
                <a:gdLst>
                  <a:gd name="textAreaLeft" fmla="*/ 6840 w 48240"/>
                  <a:gd name="textAreaRight" fmla="*/ 41400 w 48240"/>
                  <a:gd name="textAreaTop" fmla="*/ 6840 h 620640"/>
                  <a:gd name="textAreaBottom" fmla="*/ 613800 h 620640"/>
                </a:gdLst>
                <a:ahLst/>
                <a:rect l="textAreaLeft" t="textAreaTop" r="textAreaRight" b="textAreaBottom"/>
                <a:pathLst>
                  <a:path w="21600" h="276000">
                    <a:moveTo>
                      <a:pt x="10800" y="0"/>
                    </a:moveTo>
                    <a:arcTo wR="10800" hR="10800" stAng="16200000" swAng="-5400000"/>
                    <a:lnTo>
                      <a:pt x="0" y="265200"/>
                    </a:lnTo>
                    <a:arcTo wR="10800" hR="10800" stAng="10800000" swAng="-5400000"/>
                    <a:lnTo>
                      <a:pt x="10800" y="27600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3500000">
                <a:off x="5165640" y="3532320"/>
                <a:ext cx="48240" cy="74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835880" y="4134240"/>
              <a:ext cx="125280" cy="124200"/>
              <a:chOff x="4835880" y="4134240"/>
              <a:chExt cx="125280" cy="124200"/>
            </a:xfrm>
          </p:grpSpPr>
          <p:sp>
            <p:nvSpPr>
              <p:cNvPr id="231" name=""/>
              <p:cNvSpPr/>
              <p:nvPr/>
            </p:nvSpPr>
            <p:spPr>
              <a:xfrm rot="10800000">
                <a:off x="4835880" y="4134240"/>
                <a:ext cx="125280" cy="1242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48480" y="4143960"/>
                <a:ext cx="100800" cy="10476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991040" y="4150440"/>
              <a:ext cx="94320" cy="91800"/>
              <a:chOff x="4991040" y="4150440"/>
              <a:chExt cx="94320" cy="91800"/>
            </a:xfrm>
          </p:grpSpPr>
          <p:sp>
            <p:nvSpPr>
              <p:cNvPr id="234" name=""/>
              <p:cNvSpPr/>
              <p:nvPr/>
            </p:nvSpPr>
            <p:spPr>
              <a:xfrm rot="10800000">
                <a:off x="4991040" y="4150440"/>
                <a:ext cx="94320" cy="918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00760" y="4157640"/>
                <a:ext cx="75960" cy="774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707360" y="4150440"/>
              <a:ext cx="94320" cy="91800"/>
              <a:chOff x="4707360" y="4150440"/>
              <a:chExt cx="94320" cy="91800"/>
            </a:xfrm>
          </p:grpSpPr>
          <p:sp>
            <p:nvSpPr>
              <p:cNvPr id="237" name=""/>
              <p:cNvSpPr/>
              <p:nvPr/>
            </p:nvSpPr>
            <p:spPr>
              <a:xfrm rot="10800000">
                <a:off x="4707360" y="4150440"/>
                <a:ext cx="94320" cy="918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17080" y="4157640"/>
                <a:ext cx="75960" cy="774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6176880" y="2797200"/>
            <a:ext cx="1344240" cy="1493640"/>
            <a:chOff x="6176880" y="2797200"/>
            <a:chExt cx="1344240" cy="1493640"/>
          </a:xfrm>
        </p:grpSpPr>
        <p:sp>
          <p:nvSpPr>
            <p:cNvPr id="240" name=""/>
            <p:cNvSpPr/>
            <p:nvPr/>
          </p:nvSpPr>
          <p:spPr>
            <a:xfrm>
              <a:off x="6176880" y="2797200"/>
              <a:ext cx="1035000" cy="1493640"/>
            </a:xfrm>
            <a:custGeom>
              <a:avLst/>
              <a:gdLst>
                <a:gd name="textAreaLeft" fmla="*/ 15480 w 1035000"/>
                <a:gd name="textAreaRight" fmla="*/ 1019520 w 1035000"/>
                <a:gd name="textAreaTop" fmla="*/ 15480 h 1493640"/>
                <a:gd name="textAreaBottom" fmla="*/ 1478160 h 1493640"/>
              </a:gdLst>
              <a:ahLst/>
              <a:rect l="textAreaLeft" t="textAreaTop" r="textAreaRight" b="textAreaBottom"/>
              <a:pathLst>
                <a:path w="21600" h="31168">
                  <a:moveTo>
                    <a:pt x="1127" y="0"/>
                  </a:moveTo>
                  <a:arcTo wR="1127" hR="1127" stAng="16200000" swAng="-5400000"/>
                  <a:lnTo>
                    <a:pt x="0" y="30041"/>
                  </a:lnTo>
                  <a:arcTo wR="1127" hR="1127" stAng="10800000" swAng="-5400000"/>
                  <a:lnTo>
                    <a:pt x="20473" y="31168"/>
                  </a:lnTo>
                  <a:arcTo wR="1127" hR="1127" stAng="5400000" swAng="-5400000"/>
                  <a:lnTo>
                    <a:pt x="21600" y="1127"/>
                  </a:lnTo>
                  <a:arcTo wR="1127" hR="1127" stAng="0" swAng="-5400000"/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e6e6e6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3560" y="2873880"/>
              <a:ext cx="880560" cy="1224720"/>
            </a:xfrm>
            <a:custGeom>
              <a:avLst/>
              <a:gdLst>
                <a:gd name="textAreaLeft" fmla="*/ 8640 w 880560"/>
                <a:gd name="textAreaRight" fmla="*/ 871920 w 880560"/>
                <a:gd name="textAreaTop" fmla="*/ 8640 h 1224720"/>
                <a:gd name="textAreaBottom" fmla="*/ 1216080 h 1224720"/>
              </a:gdLst>
              <a:ahLst/>
              <a:rect l="textAreaLeft" t="textAreaTop" r="textAreaRight" b="textAreaBottom"/>
              <a:pathLst>
                <a:path w="21600" h="30039">
                  <a:moveTo>
                    <a:pt x="729" y="0"/>
                  </a:moveTo>
                  <a:arcTo wR="729" hR="729" stAng="16200000" swAng="-5400000"/>
                  <a:lnTo>
                    <a:pt x="0" y="29310"/>
                  </a:lnTo>
                  <a:arcTo wR="729" hR="729" stAng="10800000" swAng="-5400000"/>
                  <a:lnTo>
                    <a:pt x="20871" y="30039"/>
                  </a:lnTo>
                  <a:arcTo wR="729" hR="729" stAng="5400000" swAng="-5400000"/>
                  <a:lnTo>
                    <a:pt x="21600" y="729"/>
                  </a:lnTo>
                  <a:arcTo wR="729" hR="72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91720" y="2913120"/>
              <a:ext cx="803880" cy="11476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330960" y="2950920"/>
              <a:ext cx="726120" cy="533160"/>
              <a:chOff x="6330960" y="2950920"/>
              <a:chExt cx="726120" cy="533160"/>
            </a:xfrm>
          </p:grpSpPr>
          <p:sp>
            <p:nvSpPr>
              <p:cNvPr id="244" name=""/>
              <p:cNvSpPr/>
              <p:nvPr/>
            </p:nvSpPr>
            <p:spPr>
              <a:xfrm>
                <a:off x="6330960" y="295812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ddd5c"/>
                  </a:gs>
                  <a:gs pos="100000">
                    <a:srgbClr val="99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960" y="314928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21400" y="295812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9dfe"/>
                  </a:gs>
                  <a:gs pos="100000">
                    <a:srgbClr val="cc66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521400" y="314928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cbdbd"/>
                  </a:gs>
                  <a:gs pos="100000">
                    <a:srgbClr val="009999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30960" y="334044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21200" y="316440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521400" y="334044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912000" y="316440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21200" y="295092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c9d5c"/>
                  </a:gs>
                  <a:gs pos="100000">
                    <a:srgbClr val="00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12000" y="295092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e9d5c"/>
                  </a:gs>
                  <a:gs pos="100000">
                    <a:srgbClr val="ff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631920" y="4132800"/>
              <a:ext cx="125280" cy="123840"/>
              <a:chOff x="6631920" y="4132800"/>
              <a:chExt cx="125280" cy="123840"/>
            </a:xfrm>
          </p:grpSpPr>
          <p:sp>
            <p:nvSpPr>
              <p:cNvPr id="255" name=""/>
              <p:cNvSpPr/>
              <p:nvPr/>
            </p:nvSpPr>
            <p:spPr>
              <a:xfrm rot="10800000">
                <a:off x="6631920" y="4132800"/>
                <a:ext cx="125280" cy="12384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44520" y="4142160"/>
                <a:ext cx="100800" cy="10440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787440" y="4148640"/>
              <a:ext cx="94320" cy="91800"/>
              <a:chOff x="6787440" y="4148640"/>
              <a:chExt cx="94320" cy="91800"/>
            </a:xfrm>
          </p:grpSpPr>
          <p:sp>
            <p:nvSpPr>
              <p:cNvPr id="258" name=""/>
              <p:cNvSpPr/>
              <p:nvPr/>
            </p:nvSpPr>
            <p:spPr>
              <a:xfrm rot="10800000">
                <a:off x="6787440" y="4148640"/>
                <a:ext cx="94320" cy="9180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97160" y="4155840"/>
                <a:ext cx="75960" cy="7740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503760" y="4148640"/>
              <a:ext cx="94320" cy="91800"/>
              <a:chOff x="6503760" y="4148640"/>
              <a:chExt cx="94320" cy="91800"/>
            </a:xfrm>
          </p:grpSpPr>
          <p:sp>
            <p:nvSpPr>
              <p:cNvPr id="261" name=""/>
              <p:cNvSpPr/>
              <p:nvPr/>
            </p:nvSpPr>
            <p:spPr>
              <a:xfrm rot="10800000">
                <a:off x="6503760" y="4148640"/>
                <a:ext cx="94320" cy="9180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513480" y="4155840"/>
                <a:ext cx="75960" cy="77400"/>
              </a:xfrm>
              <a:prstGeom prst="ellipse">
                <a:avLst/>
              </a:prstGeom>
              <a:gradFill rotWithShape="0">
                <a:gsLst>
                  <a:gs pos="0">
                    <a:srgbClr val="a9a9a9"/>
                  </a:gs>
                  <a:gs pos="100000">
                    <a:srgbClr val="80808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752880" y="3335040"/>
              <a:ext cx="768240" cy="924480"/>
              <a:chOff x="6752880" y="3335040"/>
              <a:chExt cx="768240" cy="92448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6752880" y="3335040"/>
                <a:ext cx="767880" cy="924480"/>
                <a:chOff x="6752880" y="3335040"/>
                <a:chExt cx="767880" cy="924480"/>
              </a:xfrm>
            </p:grpSpPr>
            <p:sp>
              <p:nvSpPr>
                <p:cNvPr id="265" name=""/>
                <p:cNvSpPr/>
                <p:nvPr/>
              </p:nvSpPr>
              <p:spPr>
                <a:xfrm rot="20700000">
                  <a:off x="6950520" y="3640320"/>
                  <a:ext cx="233280" cy="228960"/>
                </a:xfrm>
                <a:custGeom>
                  <a:avLst/>
                  <a:gdLst/>
                  <a:ahLst/>
                  <a:rect l="l" t="t" r="r" b="b"/>
                  <a:pathLst>
                    <a:path w="470" h="461">
                      <a:moveTo>
                        <a:pt x="197" y="0"/>
                      </a:moveTo>
                      <a:cubicBezTo>
                        <a:pt x="148" y="20"/>
                        <a:pt x="41" y="80"/>
                        <a:pt x="16" y="131"/>
                      </a:cubicBezTo>
                      <a:cubicBezTo>
                        <a:pt x="0" y="186"/>
                        <a:pt x="27" y="254"/>
                        <a:pt x="48" y="309"/>
                      </a:cubicBezTo>
                      <a:lnTo>
                        <a:pt x="145" y="461"/>
                      </a:lnTo>
                      <a:lnTo>
                        <a:pt x="373" y="435"/>
                      </a:lnTo>
                      <a:lnTo>
                        <a:pt x="470" y="233"/>
                      </a:lnTo>
                      <a:lnTo>
                        <a:pt x="373" y="81"/>
                      </a:lnTo>
                      <a:lnTo>
                        <a:pt x="311" y="9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20700000">
                  <a:off x="7019640" y="3708360"/>
                  <a:ext cx="112320" cy="84240"/>
                </a:xfrm>
                <a:custGeom>
                  <a:avLst/>
                  <a:gdLst/>
                  <a:ahLst/>
                  <a:rect l="l" t="t" r="r" b="b"/>
                  <a:pathLst>
                    <a:path w="227" h="170">
                      <a:moveTo>
                        <a:pt x="0" y="0"/>
                      </a:moveTo>
                      <a:lnTo>
                        <a:pt x="57" y="85"/>
                      </a:lnTo>
                      <a:lnTo>
                        <a:pt x="29" y="170"/>
                      </a:lnTo>
                      <a:lnTo>
                        <a:pt x="85" y="113"/>
                      </a:lnTo>
                      <a:lnTo>
                        <a:pt x="142" y="170"/>
                      </a:lnTo>
                      <a:lnTo>
                        <a:pt x="227" y="113"/>
                      </a:lnTo>
                      <a:lnTo>
                        <a:pt x="170" y="0"/>
                      </a:lnTo>
                      <a:lnTo>
                        <a:pt x="85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20700000">
                  <a:off x="6846480" y="3396240"/>
                  <a:ext cx="580320" cy="801720"/>
                </a:xfrm>
                <a:custGeom>
                  <a:avLst/>
                  <a:gdLst/>
                  <a:ahLst/>
                  <a:rect l="l" t="t" r="r" b="b"/>
                  <a:pathLst>
                    <a:path w="1170" h="1614">
                      <a:moveTo>
                        <a:pt x="234" y="56"/>
                      </a:moveTo>
                      <a:lnTo>
                        <a:pt x="459" y="176"/>
                      </a:lnTo>
                      <a:lnTo>
                        <a:pt x="642" y="338"/>
                      </a:lnTo>
                      <a:lnTo>
                        <a:pt x="804" y="507"/>
                      </a:lnTo>
                      <a:cubicBezTo>
                        <a:pt x="856" y="576"/>
                        <a:pt x="915" y="659"/>
                        <a:pt x="954" y="753"/>
                      </a:cubicBezTo>
                      <a:cubicBezTo>
                        <a:pt x="993" y="847"/>
                        <a:pt x="1017" y="978"/>
                        <a:pt x="1038" y="1074"/>
                      </a:cubicBezTo>
                      <a:cubicBezTo>
                        <a:pt x="1059" y="1170"/>
                        <a:pt x="1061" y="1242"/>
                        <a:pt x="1083" y="1332"/>
                      </a:cubicBezTo>
                      <a:lnTo>
                        <a:pt x="1170" y="1614"/>
                      </a:lnTo>
                      <a:lnTo>
                        <a:pt x="780" y="1614"/>
                      </a:lnTo>
                      <a:cubicBezTo>
                        <a:pt x="667" y="1572"/>
                        <a:pt x="566" y="1462"/>
                        <a:pt x="489" y="1359"/>
                      </a:cubicBezTo>
                      <a:cubicBezTo>
                        <a:pt x="406" y="1257"/>
                        <a:pt x="388" y="1081"/>
                        <a:pt x="321" y="997"/>
                      </a:cubicBezTo>
                      <a:lnTo>
                        <a:pt x="162" y="885"/>
                      </a:lnTo>
                      <a:lnTo>
                        <a:pt x="66" y="770"/>
                      </a:lnTo>
                      <a:cubicBezTo>
                        <a:pt x="50" y="732"/>
                        <a:pt x="47" y="676"/>
                        <a:pt x="66" y="657"/>
                      </a:cubicBezTo>
                      <a:cubicBezTo>
                        <a:pt x="85" y="638"/>
                        <a:pt x="141" y="652"/>
                        <a:pt x="179" y="657"/>
                      </a:cubicBezTo>
                      <a:cubicBezTo>
                        <a:pt x="213" y="663"/>
                        <a:pt x="242" y="679"/>
                        <a:pt x="270" y="693"/>
                      </a:cubicBezTo>
                      <a:cubicBezTo>
                        <a:pt x="298" y="707"/>
                        <a:pt x="314" y="724"/>
                        <a:pt x="349" y="742"/>
                      </a:cubicBezTo>
                      <a:cubicBezTo>
                        <a:pt x="384" y="760"/>
                        <a:pt x="449" y="810"/>
                        <a:pt x="477" y="801"/>
                      </a:cubicBezTo>
                      <a:cubicBezTo>
                        <a:pt x="505" y="792"/>
                        <a:pt x="515" y="727"/>
                        <a:pt x="519" y="685"/>
                      </a:cubicBezTo>
                      <a:lnTo>
                        <a:pt x="486" y="573"/>
                      </a:lnTo>
                      <a:lnTo>
                        <a:pt x="406" y="459"/>
                      </a:lnTo>
                      <a:lnTo>
                        <a:pt x="279" y="288"/>
                      </a:lnTo>
                      <a:lnTo>
                        <a:pt x="66" y="155"/>
                      </a:lnTo>
                      <a:cubicBezTo>
                        <a:pt x="24" y="114"/>
                        <a:pt x="0" y="84"/>
                        <a:pt x="24" y="42"/>
                      </a:cubicBezTo>
                      <a:cubicBezTo>
                        <a:pt x="48" y="0"/>
                        <a:pt x="86" y="34"/>
                        <a:pt x="123" y="33"/>
                      </a:cubicBezTo>
                      <a:lnTo>
                        <a:pt x="234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6753240" y="3335040"/>
                <a:ext cx="767880" cy="924480"/>
                <a:chOff x="6753240" y="3335040"/>
                <a:chExt cx="767880" cy="924480"/>
              </a:xfrm>
            </p:grpSpPr>
            <p:sp>
              <p:nvSpPr>
                <p:cNvPr id="269" name=""/>
                <p:cNvSpPr/>
                <p:nvPr/>
              </p:nvSpPr>
              <p:spPr>
                <a:xfrm rot="20700000">
                  <a:off x="6950880" y="3640680"/>
                  <a:ext cx="233280" cy="228960"/>
                </a:xfrm>
                <a:custGeom>
                  <a:avLst/>
                  <a:gdLst/>
                  <a:ahLst/>
                  <a:rect l="l" t="t" r="r" b="b"/>
                  <a:pathLst>
                    <a:path w="470" h="461">
                      <a:moveTo>
                        <a:pt x="197" y="0"/>
                      </a:moveTo>
                      <a:cubicBezTo>
                        <a:pt x="148" y="20"/>
                        <a:pt x="41" y="80"/>
                        <a:pt x="16" y="131"/>
                      </a:cubicBezTo>
                      <a:cubicBezTo>
                        <a:pt x="0" y="186"/>
                        <a:pt x="27" y="254"/>
                        <a:pt x="48" y="309"/>
                      </a:cubicBezTo>
                      <a:lnTo>
                        <a:pt x="145" y="461"/>
                      </a:lnTo>
                      <a:lnTo>
                        <a:pt x="373" y="435"/>
                      </a:lnTo>
                      <a:lnTo>
                        <a:pt x="470" y="233"/>
                      </a:lnTo>
                      <a:lnTo>
                        <a:pt x="373" y="81"/>
                      </a:lnTo>
                      <a:lnTo>
                        <a:pt x="311" y="9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bb8c"/>
                    </a:gs>
                    <a:gs pos="100000">
                      <a:srgbClr val="ffcc9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20700000">
                  <a:off x="7020000" y="3708360"/>
                  <a:ext cx="112320" cy="84240"/>
                </a:xfrm>
                <a:custGeom>
                  <a:avLst/>
                  <a:gdLst/>
                  <a:ahLst/>
                  <a:rect l="l" t="t" r="r" b="b"/>
                  <a:pathLst>
                    <a:path w="227" h="170">
                      <a:moveTo>
                        <a:pt x="0" y="0"/>
                      </a:moveTo>
                      <a:lnTo>
                        <a:pt x="57" y="85"/>
                      </a:lnTo>
                      <a:lnTo>
                        <a:pt x="29" y="170"/>
                      </a:lnTo>
                      <a:lnTo>
                        <a:pt x="85" y="113"/>
                      </a:lnTo>
                      <a:lnTo>
                        <a:pt x="142" y="170"/>
                      </a:lnTo>
                      <a:lnTo>
                        <a:pt x="227" y="113"/>
                      </a:lnTo>
                      <a:lnTo>
                        <a:pt x="170" y="0"/>
                      </a:lnTo>
                      <a:lnTo>
                        <a:pt x="85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700000">
                  <a:off x="6846840" y="3396240"/>
                  <a:ext cx="580320" cy="801720"/>
                </a:xfrm>
                <a:custGeom>
                  <a:avLst/>
                  <a:gdLst/>
                  <a:ahLst/>
                  <a:rect l="l" t="t" r="r" b="b"/>
                  <a:pathLst>
                    <a:path w="1170" h="1614">
                      <a:moveTo>
                        <a:pt x="234" y="56"/>
                      </a:moveTo>
                      <a:lnTo>
                        <a:pt x="459" y="176"/>
                      </a:lnTo>
                      <a:lnTo>
                        <a:pt x="642" y="338"/>
                      </a:lnTo>
                      <a:lnTo>
                        <a:pt x="804" y="507"/>
                      </a:lnTo>
                      <a:cubicBezTo>
                        <a:pt x="856" y="576"/>
                        <a:pt x="915" y="659"/>
                        <a:pt x="954" y="753"/>
                      </a:cubicBezTo>
                      <a:cubicBezTo>
                        <a:pt x="993" y="847"/>
                        <a:pt x="1017" y="978"/>
                        <a:pt x="1038" y="1074"/>
                      </a:cubicBezTo>
                      <a:cubicBezTo>
                        <a:pt x="1059" y="1170"/>
                        <a:pt x="1061" y="1242"/>
                        <a:pt x="1083" y="1332"/>
                      </a:cubicBezTo>
                      <a:lnTo>
                        <a:pt x="1170" y="1614"/>
                      </a:lnTo>
                      <a:lnTo>
                        <a:pt x="780" y="1614"/>
                      </a:lnTo>
                      <a:cubicBezTo>
                        <a:pt x="667" y="1572"/>
                        <a:pt x="566" y="1462"/>
                        <a:pt x="489" y="1359"/>
                      </a:cubicBezTo>
                      <a:cubicBezTo>
                        <a:pt x="406" y="1257"/>
                        <a:pt x="388" y="1081"/>
                        <a:pt x="321" y="997"/>
                      </a:cubicBezTo>
                      <a:lnTo>
                        <a:pt x="162" y="885"/>
                      </a:lnTo>
                      <a:lnTo>
                        <a:pt x="66" y="770"/>
                      </a:lnTo>
                      <a:cubicBezTo>
                        <a:pt x="50" y="732"/>
                        <a:pt x="47" y="676"/>
                        <a:pt x="66" y="657"/>
                      </a:cubicBezTo>
                      <a:cubicBezTo>
                        <a:pt x="85" y="638"/>
                        <a:pt x="141" y="652"/>
                        <a:pt x="179" y="657"/>
                      </a:cubicBezTo>
                      <a:cubicBezTo>
                        <a:pt x="213" y="663"/>
                        <a:pt x="242" y="679"/>
                        <a:pt x="270" y="693"/>
                      </a:cubicBezTo>
                      <a:cubicBezTo>
                        <a:pt x="298" y="707"/>
                        <a:pt x="314" y="724"/>
                        <a:pt x="349" y="742"/>
                      </a:cubicBezTo>
                      <a:cubicBezTo>
                        <a:pt x="384" y="760"/>
                        <a:pt x="449" y="810"/>
                        <a:pt x="477" y="801"/>
                      </a:cubicBezTo>
                      <a:cubicBezTo>
                        <a:pt x="505" y="792"/>
                        <a:pt x="515" y="727"/>
                        <a:pt x="519" y="685"/>
                      </a:cubicBezTo>
                      <a:lnTo>
                        <a:pt x="486" y="573"/>
                      </a:lnTo>
                      <a:lnTo>
                        <a:pt x="406" y="459"/>
                      </a:lnTo>
                      <a:lnTo>
                        <a:pt x="279" y="288"/>
                      </a:lnTo>
                      <a:lnTo>
                        <a:pt x="66" y="155"/>
                      </a:lnTo>
                      <a:cubicBezTo>
                        <a:pt x="24" y="114"/>
                        <a:pt x="0" y="84"/>
                        <a:pt x="24" y="42"/>
                      </a:cubicBezTo>
                      <a:cubicBezTo>
                        <a:pt x="48" y="0"/>
                        <a:pt x="86" y="34"/>
                        <a:pt x="123" y="33"/>
                      </a:cubicBezTo>
                      <a:lnTo>
                        <a:pt x="234" y="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dfc0"/>
                    </a:gs>
                    <a:gs pos="100000">
                      <a:srgbClr val="ffcc9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"/>
          <p:cNvGrpSpPr/>
          <p:nvPr/>
        </p:nvGrpSpPr>
        <p:grpSpPr>
          <a:xfrm>
            <a:off x="8002440" y="2797200"/>
            <a:ext cx="1365120" cy="1493640"/>
            <a:chOff x="8002440" y="2797200"/>
            <a:chExt cx="1365120" cy="1493640"/>
          </a:xfrm>
        </p:grpSpPr>
        <p:sp>
          <p:nvSpPr>
            <p:cNvPr id="273" name=""/>
            <p:cNvSpPr/>
            <p:nvPr/>
          </p:nvSpPr>
          <p:spPr>
            <a:xfrm>
              <a:off x="8002440" y="2797200"/>
              <a:ext cx="1035360" cy="1493640"/>
            </a:xfrm>
            <a:custGeom>
              <a:avLst/>
              <a:gdLst>
                <a:gd name="textAreaLeft" fmla="*/ 15480 w 1035360"/>
                <a:gd name="textAreaRight" fmla="*/ 1019880 w 1035360"/>
                <a:gd name="textAreaTop" fmla="*/ 15480 h 1493640"/>
                <a:gd name="textAreaBottom" fmla="*/ 1478160 h 1493640"/>
              </a:gdLst>
              <a:ahLst/>
              <a:rect l="textAreaLeft" t="textAreaTop" r="textAreaRight" b="textAreaBottom"/>
              <a:pathLst>
                <a:path w="21600" h="31157">
                  <a:moveTo>
                    <a:pt x="1127" y="0"/>
                  </a:moveTo>
                  <a:arcTo wR="1127" hR="1127" stAng="16200000" swAng="-5400000"/>
                  <a:lnTo>
                    <a:pt x="0" y="30030"/>
                  </a:lnTo>
                  <a:arcTo wR="1127" hR="1127" stAng="10800000" swAng="-5400000"/>
                  <a:lnTo>
                    <a:pt x="20473" y="31157"/>
                  </a:lnTo>
                  <a:arcTo wR="1127" hR="1127" stAng="5400000" swAng="-5400000"/>
                  <a:lnTo>
                    <a:pt x="21600" y="1127"/>
                  </a:lnTo>
                  <a:arcTo wR="1127" hR="1127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5c5c5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79120" y="2873880"/>
              <a:ext cx="881280" cy="1224720"/>
            </a:xfrm>
            <a:custGeom>
              <a:avLst/>
              <a:gdLst>
                <a:gd name="textAreaLeft" fmla="*/ 8640 w 881280"/>
                <a:gd name="textAreaRight" fmla="*/ 872640 w 881280"/>
                <a:gd name="textAreaTop" fmla="*/ 8640 h 1224720"/>
                <a:gd name="textAreaBottom" fmla="*/ 1216080 h 1224720"/>
              </a:gdLst>
              <a:ahLst/>
              <a:rect l="textAreaLeft" t="textAreaTop" r="textAreaRight" b="textAreaBottom"/>
              <a:pathLst>
                <a:path w="21600" h="30014">
                  <a:moveTo>
                    <a:pt x="729" y="0"/>
                  </a:moveTo>
                  <a:arcTo wR="729" hR="729" stAng="16200000" swAng="-5400000"/>
                  <a:lnTo>
                    <a:pt x="0" y="29285"/>
                  </a:lnTo>
                  <a:arcTo wR="729" hR="729" stAng="10800000" swAng="-5400000"/>
                  <a:lnTo>
                    <a:pt x="20871" y="30014"/>
                  </a:lnTo>
                  <a:arcTo wR="729" hR="729" stAng="5400000" swAng="-5400000"/>
                  <a:lnTo>
                    <a:pt x="21600" y="729"/>
                  </a:lnTo>
                  <a:arcTo wR="729" hR="729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17280" y="2913120"/>
              <a:ext cx="804240" cy="11476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8156520" y="2950920"/>
              <a:ext cx="726480" cy="533160"/>
              <a:chOff x="8156520" y="2950920"/>
              <a:chExt cx="726480" cy="533160"/>
            </a:xfrm>
          </p:grpSpPr>
          <p:sp>
            <p:nvSpPr>
              <p:cNvPr id="277" name=""/>
              <p:cNvSpPr/>
              <p:nvPr/>
            </p:nvSpPr>
            <p:spPr>
              <a:xfrm>
                <a:off x="8156520" y="295812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ddd5c"/>
                  </a:gs>
                  <a:gs pos="100000">
                    <a:srgbClr val="99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156520" y="314928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346960" y="295812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9dfe"/>
                  </a:gs>
                  <a:gs pos="100000">
                    <a:srgbClr val="cc66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346960" y="314928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cbdbd"/>
                  </a:gs>
                  <a:gs pos="100000">
                    <a:srgbClr val="009999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156520" y="334044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546760" y="316440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346960" y="334044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737920" y="316440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46760" y="2950920"/>
                <a:ext cx="14544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c9d5c"/>
                  </a:gs>
                  <a:gs pos="100000">
                    <a:srgbClr val="00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37920" y="2950920"/>
                <a:ext cx="145080" cy="143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e9d5c"/>
                  </a:gs>
                  <a:gs pos="100000">
                    <a:srgbClr val="ff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8461440" y="4132800"/>
              <a:ext cx="125640" cy="123840"/>
              <a:chOff x="8461440" y="4132800"/>
              <a:chExt cx="125640" cy="123840"/>
            </a:xfrm>
          </p:grpSpPr>
          <p:sp>
            <p:nvSpPr>
              <p:cNvPr id="288" name=""/>
              <p:cNvSpPr/>
              <p:nvPr/>
            </p:nvSpPr>
            <p:spPr>
              <a:xfrm rot="10800000">
                <a:off x="8461440" y="4132800"/>
                <a:ext cx="125640" cy="12384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474400" y="4142160"/>
                <a:ext cx="101160" cy="1044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616960" y="4148640"/>
              <a:ext cx="94680" cy="91800"/>
              <a:chOff x="8616960" y="4148640"/>
              <a:chExt cx="94680" cy="91800"/>
            </a:xfrm>
          </p:grpSpPr>
          <p:sp>
            <p:nvSpPr>
              <p:cNvPr id="291" name=""/>
              <p:cNvSpPr/>
              <p:nvPr/>
            </p:nvSpPr>
            <p:spPr>
              <a:xfrm rot="10800000">
                <a:off x="8616960" y="4148640"/>
                <a:ext cx="94680" cy="918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626320" y="4155840"/>
                <a:ext cx="76320" cy="774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8332920" y="4148640"/>
              <a:ext cx="94680" cy="91800"/>
              <a:chOff x="8332920" y="4148640"/>
              <a:chExt cx="94680" cy="91800"/>
            </a:xfrm>
          </p:grpSpPr>
          <p:sp>
            <p:nvSpPr>
              <p:cNvPr id="294" name=""/>
              <p:cNvSpPr/>
              <p:nvPr/>
            </p:nvSpPr>
            <p:spPr>
              <a:xfrm rot="10800000">
                <a:off x="8332920" y="4148640"/>
                <a:ext cx="94680" cy="918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342280" y="4155840"/>
                <a:ext cx="76320" cy="77400"/>
              </a:xfrm>
              <a:prstGeom prst="ellipse">
                <a:avLst/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8598960" y="3310920"/>
              <a:ext cx="768600" cy="924840"/>
              <a:chOff x="8598960" y="3310920"/>
              <a:chExt cx="768600" cy="9248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8598960" y="3310920"/>
                <a:ext cx="768240" cy="924480"/>
                <a:chOff x="8598960" y="3310920"/>
                <a:chExt cx="768240" cy="924480"/>
              </a:xfrm>
            </p:grpSpPr>
            <p:sp>
              <p:nvSpPr>
                <p:cNvPr id="298" name=""/>
                <p:cNvSpPr/>
                <p:nvPr/>
              </p:nvSpPr>
              <p:spPr>
                <a:xfrm rot="20700000">
                  <a:off x="8796600" y="3616200"/>
                  <a:ext cx="233280" cy="228960"/>
                </a:xfrm>
                <a:custGeom>
                  <a:avLst/>
                  <a:gdLst/>
                  <a:ahLst/>
                  <a:rect l="l" t="t" r="r" b="b"/>
                  <a:pathLst>
                    <a:path w="470" h="461">
                      <a:moveTo>
                        <a:pt x="197" y="0"/>
                      </a:moveTo>
                      <a:cubicBezTo>
                        <a:pt x="148" y="20"/>
                        <a:pt x="41" y="80"/>
                        <a:pt x="16" y="131"/>
                      </a:cubicBezTo>
                      <a:cubicBezTo>
                        <a:pt x="0" y="186"/>
                        <a:pt x="27" y="254"/>
                        <a:pt x="48" y="309"/>
                      </a:cubicBezTo>
                      <a:lnTo>
                        <a:pt x="145" y="461"/>
                      </a:lnTo>
                      <a:lnTo>
                        <a:pt x="373" y="435"/>
                      </a:lnTo>
                      <a:lnTo>
                        <a:pt x="470" y="233"/>
                      </a:lnTo>
                      <a:lnTo>
                        <a:pt x="373" y="81"/>
                      </a:lnTo>
                      <a:lnTo>
                        <a:pt x="311" y="9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20700000">
                  <a:off x="8866080" y="3684240"/>
                  <a:ext cx="112680" cy="84240"/>
                </a:xfrm>
                <a:custGeom>
                  <a:avLst/>
                  <a:gdLst/>
                  <a:ahLst/>
                  <a:rect l="l" t="t" r="r" b="b"/>
                  <a:pathLst>
                    <a:path w="227" h="170">
                      <a:moveTo>
                        <a:pt x="0" y="0"/>
                      </a:moveTo>
                      <a:lnTo>
                        <a:pt x="57" y="85"/>
                      </a:lnTo>
                      <a:lnTo>
                        <a:pt x="29" y="170"/>
                      </a:lnTo>
                      <a:lnTo>
                        <a:pt x="85" y="113"/>
                      </a:lnTo>
                      <a:lnTo>
                        <a:pt x="142" y="170"/>
                      </a:lnTo>
                      <a:lnTo>
                        <a:pt x="227" y="113"/>
                      </a:lnTo>
                      <a:lnTo>
                        <a:pt x="170" y="0"/>
                      </a:lnTo>
                      <a:lnTo>
                        <a:pt x="85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0700000">
                  <a:off x="8692560" y="3372120"/>
                  <a:ext cx="580680" cy="801720"/>
                </a:xfrm>
                <a:custGeom>
                  <a:avLst/>
                  <a:gdLst/>
                  <a:ahLst/>
                  <a:rect l="l" t="t" r="r" b="b"/>
                  <a:pathLst>
                    <a:path w="1170" h="1614">
                      <a:moveTo>
                        <a:pt x="234" y="56"/>
                      </a:moveTo>
                      <a:lnTo>
                        <a:pt x="459" y="176"/>
                      </a:lnTo>
                      <a:lnTo>
                        <a:pt x="642" y="338"/>
                      </a:lnTo>
                      <a:lnTo>
                        <a:pt x="804" y="507"/>
                      </a:lnTo>
                      <a:cubicBezTo>
                        <a:pt x="856" y="576"/>
                        <a:pt x="915" y="659"/>
                        <a:pt x="954" y="753"/>
                      </a:cubicBezTo>
                      <a:cubicBezTo>
                        <a:pt x="993" y="847"/>
                        <a:pt x="1017" y="978"/>
                        <a:pt x="1038" y="1074"/>
                      </a:cubicBezTo>
                      <a:cubicBezTo>
                        <a:pt x="1059" y="1170"/>
                        <a:pt x="1061" y="1242"/>
                        <a:pt x="1083" y="1332"/>
                      </a:cubicBezTo>
                      <a:lnTo>
                        <a:pt x="1170" y="1614"/>
                      </a:lnTo>
                      <a:lnTo>
                        <a:pt x="780" y="1614"/>
                      </a:lnTo>
                      <a:cubicBezTo>
                        <a:pt x="667" y="1572"/>
                        <a:pt x="566" y="1462"/>
                        <a:pt x="489" y="1359"/>
                      </a:cubicBezTo>
                      <a:cubicBezTo>
                        <a:pt x="406" y="1257"/>
                        <a:pt x="388" y="1081"/>
                        <a:pt x="321" y="997"/>
                      </a:cubicBezTo>
                      <a:lnTo>
                        <a:pt x="162" y="885"/>
                      </a:lnTo>
                      <a:lnTo>
                        <a:pt x="66" y="770"/>
                      </a:lnTo>
                      <a:cubicBezTo>
                        <a:pt x="50" y="732"/>
                        <a:pt x="47" y="676"/>
                        <a:pt x="66" y="657"/>
                      </a:cubicBezTo>
                      <a:cubicBezTo>
                        <a:pt x="85" y="638"/>
                        <a:pt x="141" y="652"/>
                        <a:pt x="179" y="657"/>
                      </a:cubicBezTo>
                      <a:cubicBezTo>
                        <a:pt x="213" y="663"/>
                        <a:pt x="242" y="679"/>
                        <a:pt x="270" y="693"/>
                      </a:cubicBezTo>
                      <a:cubicBezTo>
                        <a:pt x="298" y="707"/>
                        <a:pt x="314" y="724"/>
                        <a:pt x="349" y="742"/>
                      </a:cubicBezTo>
                      <a:cubicBezTo>
                        <a:pt x="384" y="760"/>
                        <a:pt x="449" y="810"/>
                        <a:pt x="477" y="801"/>
                      </a:cubicBezTo>
                      <a:cubicBezTo>
                        <a:pt x="505" y="792"/>
                        <a:pt x="515" y="727"/>
                        <a:pt x="519" y="685"/>
                      </a:cubicBezTo>
                      <a:lnTo>
                        <a:pt x="486" y="573"/>
                      </a:lnTo>
                      <a:lnTo>
                        <a:pt x="406" y="459"/>
                      </a:lnTo>
                      <a:lnTo>
                        <a:pt x="279" y="288"/>
                      </a:lnTo>
                      <a:lnTo>
                        <a:pt x="66" y="155"/>
                      </a:lnTo>
                      <a:cubicBezTo>
                        <a:pt x="24" y="114"/>
                        <a:pt x="0" y="84"/>
                        <a:pt x="24" y="42"/>
                      </a:cubicBezTo>
                      <a:cubicBezTo>
                        <a:pt x="48" y="0"/>
                        <a:pt x="86" y="34"/>
                        <a:pt x="123" y="33"/>
                      </a:cubicBezTo>
                      <a:lnTo>
                        <a:pt x="234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8599320" y="3311280"/>
                <a:ext cx="768240" cy="924480"/>
                <a:chOff x="8599320" y="3311280"/>
                <a:chExt cx="768240" cy="924480"/>
              </a:xfrm>
            </p:grpSpPr>
            <p:sp>
              <p:nvSpPr>
                <p:cNvPr id="302" name=""/>
                <p:cNvSpPr/>
                <p:nvPr/>
              </p:nvSpPr>
              <p:spPr>
                <a:xfrm rot="20700000">
                  <a:off x="8796960" y="3616560"/>
                  <a:ext cx="233280" cy="228960"/>
                </a:xfrm>
                <a:custGeom>
                  <a:avLst/>
                  <a:gdLst/>
                  <a:ahLst/>
                  <a:rect l="l" t="t" r="r" b="b"/>
                  <a:pathLst>
                    <a:path w="470" h="461">
                      <a:moveTo>
                        <a:pt x="197" y="0"/>
                      </a:moveTo>
                      <a:cubicBezTo>
                        <a:pt x="148" y="20"/>
                        <a:pt x="41" y="80"/>
                        <a:pt x="16" y="131"/>
                      </a:cubicBezTo>
                      <a:cubicBezTo>
                        <a:pt x="0" y="186"/>
                        <a:pt x="27" y="254"/>
                        <a:pt x="48" y="309"/>
                      </a:cubicBezTo>
                      <a:lnTo>
                        <a:pt x="145" y="461"/>
                      </a:lnTo>
                      <a:lnTo>
                        <a:pt x="373" y="435"/>
                      </a:lnTo>
                      <a:lnTo>
                        <a:pt x="470" y="233"/>
                      </a:lnTo>
                      <a:lnTo>
                        <a:pt x="373" y="81"/>
                      </a:lnTo>
                      <a:lnTo>
                        <a:pt x="311" y="9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bb8c"/>
                    </a:gs>
                    <a:gs pos="100000">
                      <a:srgbClr val="ffcc9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20700000">
                  <a:off x="8866440" y="3684240"/>
                  <a:ext cx="112680" cy="84240"/>
                </a:xfrm>
                <a:custGeom>
                  <a:avLst/>
                  <a:gdLst/>
                  <a:ahLst/>
                  <a:rect l="l" t="t" r="r" b="b"/>
                  <a:pathLst>
                    <a:path w="227" h="170">
                      <a:moveTo>
                        <a:pt x="0" y="0"/>
                      </a:moveTo>
                      <a:lnTo>
                        <a:pt x="57" y="85"/>
                      </a:lnTo>
                      <a:lnTo>
                        <a:pt x="29" y="170"/>
                      </a:lnTo>
                      <a:lnTo>
                        <a:pt x="85" y="113"/>
                      </a:lnTo>
                      <a:lnTo>
                        <a:pt x="142" y="170"/>
                      </a:lnTo>
                      <a:lnTo>
                        <a:pt x="227" y="113"/>
                      </a:lnTo>
                      <a:lnTo>
                        <a:pt x="170" y="0"/>
                      </a:lnTo>
                      <a:lnTo>
                        <a:pt x="85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20700000">
                  <a:off x="8692920" y="3372480"/>
                  <a:ext cx="580680" cy="801720"/>
                </a:xfrm>
                <a:custGeom>
                  <a:avLst/>
                  <a:gdLst/>
                  <a:ahLst/>
                  <a:rect l="l" t="t" r="r" b="b"/>
                  <a:pathLst>
                    <a:path w="1170" h="1614">
                      <a:moveTo>
                        <a:pt x="234" y="56"/>
                      </a:moveTo>
                      <a:lnTo>
                        <a:pt x="459" y="176"/>
                      </a:lnTo>
                      <a:lnTo>
                        <a:pt x="642" y="338"/>
                      </a:lnTo>
                      <a:lnTo>
                        <a:pt x="804" y="507"/>
                      </a:lnTo>
                      <a:cubicBezTo>
                        <a:pt x="856" y="576"/>
                        <a:pt x="915" y="659"/>
                        <a:pt x="954" y="753"/>
                      </a:cubicBezTo>
                      <a:cubicBezTo>
                        <a:pt x="993" y="847"/>
                        <a:pt x="1017" y="978"/>
                        <a:pt x="1038" y="1074"/>
                      </a:cubicBezTo>
                      <a:cubicBezTo>
                        <a:pt x="1059" y="1170"/>
                        <a:pt x="1061" y="1242"/>
                        <a:pt x="1083" y="1332"/>
                      </a:cubicBezTo>
                      <a:lnTo>
                        <a:pt x="1170" y="1614"/>
                      </a:lnTo>
                      <a:lnTo>
                        <a:pt x="780" y="1614"/>
                      </a:lnTo>
                      <a:cubicBezTo>
                        <a:pt x="667" y="1572"/>
                        <a:pt x="566" y="1462"/>
                        <a:pt x="489" y="1359"/>
                      </a:cubicBezTo>
                      <a:cubicBezTo>
                        <a:pt x="406" y="1257"/>
                        <a:pt x="388" y="1081"/>
                        <a:pt x="321" y="997"/>
                      </a:cubicBezTo>
                      <a:lnTo>
                        <a:pt x="162" y="885"/>
                      </a:lnTo>
                      <a:lnTo>
                        <a:pt x="66" y="770"/>
                      </a:lnTo>
                      <a:cubicBezTo>
                        <a:pt x="50" y="732"/>
                        <a:pt x="47" y="676"/>
                        <a:pt x="66" y="657"/>
                      </a:cubicBezTo>
                      <a:cubicBezTo>
                        <a:pt x="85" y="638"/>
                        <a:pt x="141" y="652"/>
                        <a:pt x="179" y="657"/>
                      </a:cubicBezTo>
                      <a:cubicBezTo>
                        <a:pt x="213" y="663"/>
                        <a:pt x="242" y="679"/>
                        <a:pt x="270" y="693"/>
                      </a:cubicBezTo>
                      <a:cubicBezTo>
                        <a:pt x="298" y="707"/>
                        <a:pt x="314" y="724"/>
                        <a:pt x="349" y="742"/>
                      </a:cubicBezTo>
                      <a:cubicBezTo>
                        <a:pt x="384" y="760"/>
                        <a:pt x="449" y="810"/>
                        <a:pt x="477" y="801"/>
                      </a:cubicBezTo>
                      <a:cubicBezTo>
                        <a:pt x="505" y="792"/>
                        <a:pt x="515" y="727"/>
                        <a:pt x="519" y="685"/>
                      </a:cubicBezTo>
                      <a:lnTo>
                        <a:pt x="486" y="573"/>
                      </a:lnTo>
                      <a:lnTo>
                        <a:pt x="406" y="459"/>
                      </a:lnTo>
                      <a:lnTo>
                        <a:pt x="279" y="288"/>
                      </a:lnTo>
                      <a:lnTo>
                        <a:pt x="66" y="155"/>
                      </a:lnTo>
                      <a:cubicBezTo>
                        <a:pt x="24" y="114"/>
                        <a:pt x="0" y="84"/>
                        <a:pt x="24" y="42"/>
                      </a:cubicBezTo>
                      <a:cubicBezTo>
                        <a:pt x="48" y="0"/>
                        <a:pt x="86" y="34"/>
                        <a:pt x="123" y="33"/>
                      </a:cubicBezTo>
                      <a:lnTo>
                        <a:pt x="234" y="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dfc0"/>
                    </a:gs>
                    <a:gs pos="100000">
                      <a:srgbClr val="ffcc9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5" name=""/>
          <p:cNvGrpSpPr/>
          <p:nvPr/>
        </p:nvGrpSpPr>
        <p:grpSpPr>
          <a:xfrm>
            <a:off x="4232160" y="5003640"/>
            <a:ext cx="1420560" cy="1022400"/>
            <a:chOff x="4232160" y="5003640"/>
            <a:chExt cx="1420560" cy="1022400"/>
          </a:xfrm>
        </p:grpSpPr>
        <p:grpSp>
          <p:nvGrpSpPr>
            <p:cNvPr id="306" name=""/>
            <p:cNvGrpSpPr/>
            <p:nvPr/>
          </p:nvGrpSpPr>
          <p:grpSpPr>
            <a:xfrm>
              <a:off x="4232160" y="5003640"/>
              <a:ext cx="1420560" cy="1022400"/>
              <a:chOff x="4232160" y="5003640"/>
              <a:chExt cx="1420560" cy="1022400"/>
            </a:xfrm>
          </p:grpSpPr>
          <p:sp>
            <p:nvSpPr>
              <p:cNvPr id="307" name=""/>
              <p:cNvSpPr/>
              <p:nvPr/>
            </p:nvSpPr>
            <p:spPr>
              <a:xfrm>
                <a:off x="5590440" y="5130360"/>
                <a:ext cx="62280" cy="129240"/>
              </a:xfrm>
              <a:custGeom>
                <a:avLst/>
                <a:gdLst>
                  <a:gd name="textAreaLeft" fmla="*/ 3960 w 62280"/>
                  <a:gd name="textAreaRight" fmla="*/ 58320 w 62280"/>
                  <a:gd name="textAreaTop" fmla="*/ 3960 h 129240"/>
                  <a:gd name="textAreaBottom" fmla="*/ 125280 h 129240"/>
                </a:gdLst>
                <a:ahLst/>
                <a:rect l="textAreaLeft" t="textAreaTop" r="textAreaRight" b="textAreaBottom"/>
                <a:pathLst>
                  <a:path w="21600" h="44690">
                    <a:moveTo>
                      <a:pt x="4926" y="0"/>
                    </a:moveTo>
                    <a:arcTo wR="4926" hR="4926" stAng="16200000" swAng="-5400000"/>
                    <a:lnTo>
                      <a:pt x="0" y="39764"/>
                    </a:lnTo>
                    <a:arcTo wR="4926" hR="4926" stAng="10800000" swAng="-5400000"/>
                    <a:lnTo>
                      <a:pt x="16674" y="44690"/>
                    </a:lnTo>
                    <a:arcTo wR="4926" hR="4926" stAng="5400000" swAng="-5400000"/>
                    <a:lnTo>
                      <a:pt x="21600" y="4926"/>
                    </a:lnTo>
                    <a:arcTo wR="4926" hR="4926" stAng="0" swAng="-5400000"/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90440" y="5290560"/>
                <a:ext cx="62280" cy="129240"/>
              </a:xfrm>
              <a:custGeom>
                <a:avLst/>
                <a:gdLst>
                  <a:gd name="textAreaLeft" fmla="*/ 3960 w 62280"/>
                  <a:gd name="textAreaRight" fmla="*/ 58320 w 62280"/>
                  <a:gd name="textAreaTop" fmla="*/ 3960 h 129240"/>
                  <a:gd name="textAreaBottom" fmla="*/ 125280 h 129240"/>
                </a:gdLst>
                <a:ahLst/>
                <a:rect l="textAreaLeft" t="textAreaTop" r="textAreaRight" b="textAreaBottom"/>
                <a:pathLst>
                  <a:path w="21600" h="44690">
                    <a:moveTo>
                      <a:pt x="4926" y="0"/>
                    </a:moveTo>
                    <a:arcTo wR="4926" hR="4926" stAng="16200000" swAng="-5400000"/>
                    <a:lnTo>
                      <a:pt x="0" y="39764"/>
                    </a:lnTo>
                    <a:arcTo wR="4926" hR="4926" stAng="10800000" swAng="-5400000"/>
                    <a:lnTo>
                      <a:pt x="16674" y="44690"/>
                    </a:lnTo>
                    <a:arcTo wR="4926" hR="4926" stAng="5400000" swAng="-5400000"/>
                    <a:lnTo>
                      <a:pt x="21600" y="4926"/>
                    </a:lnTo>
                    <a:arcTo wR="4926" hR="4926" stAng="0" swAng="-5400000"/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32160" y="5003640"/>
                <a:ext cx="1404720" cy="1022400"/>
              </a:xfrm>
              <a:prstGeom prst="roundRect">
                <a:avLst>
                  <a:gd name="adj" fmla="val 5954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95880" y="5067720"/>
                <a:ext cx="1276920" cy="7981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27920" y="5099760"/>
                <a:ext cx="1212480" cy="7336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69720" y="5929920"/>
                <a:ext cx="129240" cy="320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92880" y="5898960"/>
                <a:ext cx="95760" cy="946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0800000">
                <a:off x="5508720" y="5913720"/>
                <a:ext cx="63720" cy="651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295880" y="5067720"/>
                <a:ext cx="1276920" cy="798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279680" y="5898960"/>
                <a:ext cx="96120" cy="946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0800000">
                <a:off x="4295880" y="5913720"/>
                <a:ext cx="64080" cy="651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232160" y="5003640"/>
              <a:ext cx="1420560" cy="1022400"/>
              <a:chOff x="4232160" y="5003640"/>
              <a:chExt cx="1420560" cy="1022400"/>
            </a:xfrm>
          </p:grpSpPr>
          <p:sp>
            <p:nvSpPr>
              <p:cNvPr id="319" name=""/>
              <p:cNvSpPr/>
              <p:nvPr/>
            </p:nvSpPr>
            <p:spPr>
              <a:xfrm>
                <a:off x="5590440" y="5130360"/>
                <a:ext cx="62280" cy="129240"/>
              </a:xfrm>
              <a:custGeom>
                <a:avLst/>
                <a:gdLst>
                  <a:gd name="textAreaLeft" fmla="*/ 3960 w 62280"/>
                  <a:gd name="textAreaRight" fmla="*/ 58320 w 62280"/>
                  <a:gd name="textAreaTop" fmla="*/ 3960 h 129240"/>
                  <a:gd name="textAreaBottom" fmla="*/ 125280 h 129240"/>
                </a:gdLst>
                <a:ahLst/>
                <a:rect l="textAreaLeft" t="textAreaTop" r="textAreaRight" b="textAreaBottom"/>
                <a:pathLst>
                  <a:path w="21600" h="44690">
                    <a:moveTo>
                      <a:pt x="4926" y="0"/>
                    </a:moveTo>
                    <a:arcTo wR="4926" hR="4926" stAng="16200000" swAng="-5400000"/>
                    <a:lnTo>
                      <a:pt x="0" y="39764"/>
                    </a:lnTo>
                    <a:arcTo wR="4926" hR="4926" stAng="10800000" swAng="-5400000"/>
                    <a:lnTo>
                      <a:pt x="16674" y="44690"/>
                    </a:lnTo>
                    <a:arcTo wR="4926" hR="4926" stAng="5400000" swAng="-5400000"/>
                    <a:lnTo>
                      <a:pt x="21600" y="4926"/>
                    </a:lnTo>
                    <a:arcTo wR="4926" hR="4926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90440" y="5290560"/>
                <a:ext cx="62280" cy="129240"/>
              </a:xfrm>
              <a:custGeom>
                <a:avLst/>
                <a:gdLst>
                  <a:gd name="textAreaLeft" fmla="*/ 3960 w 62280"/>
                  <a:gd name="textAreaRight" fmla="*/ 58320 w 62280"/>
                  <a:gd name="textAreaTop" fmla="*/ 3960 h 129240"/>
                  <a:gd name="textAreaBottom" fmla="*/ 125280 h 129240"/>
                </a:gdLst>
                <a:ahLst/>
                <a:rect l="textAreaLeft" t="textAreaTop" r="textAreaRight" b="textAreaBottom"/>
                <a:pathLst>
                  <a:path w="21600" h="44690">
                    <a:moveTo>
                      <a:pt x="4926" y="0"/>
                    </a:moveTo>
                    <a:arcTo wR="4926" hR="4926" stAng="16200000" swAng="-5400000"/>
                    <a:lnTo>
                      <a:pt x="0" y="39764"/>
                    </a:lnTo>
                    <a:arcTo wR="4926" hR="4926" stAng="10800000" swAng="-5400000"/>
                    <a:lnTo>
                      <a:pt x="16674" y="44690"/>
                    </a:lnTo>
                    <a:arcTo wR="4926" hR="4926" stAng="5400000" swAng="-5400000"/>
                    <a:lnTo>
                      <a:pt x="21600" y="4926"/>
                    </a:lnTo>
                    <a:arcTo wR="4926" hR="4926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2160" y="5003640"/>
                <a:ext cx="1404720" cy="1022400"/>
              </a:xfrm>
              <a:prstGeom prst="roundRect">
                <a:avLst>
                  <a:gd name="adj" fmla="val 5954"/>
                </a:avLst>
              </a:prstGeom>
              <a:gradFill rotWithShape="0">
                <a:gsLst>
                  <a:gs pos="0">
                    <a:srgbClr val="545454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295880" y="5067720"/>
                <a:ext cx="1276920" cy="7981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327920" y="5099760"/>
                <a:ext cx="1212480" cy="733680"/>
              </a:xfrm>
              <a:prstGeom prst="rect">
                <a:avLst/>
              </a:pr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69720" y="5929920"/>
                <a:ext cx="129240" cy="3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92880" y="5898960"/>
                <a:ext cx="95760" cy="946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0800000">
                <a:off x="5508720" y="5913720"/>
                <a:ext cx="6372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54545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295880" y="5067720"/>
                <a:ext cx="1276920" cy="798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279680" y="5898960"/>
                <a:ext cx="96120" cy="946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0800000">
                <a:off x="4295880" y="5913720"/>
                <a:ext cx="6408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54545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6122880" y="5003640"/>
            <a:ext cx="1422000" cy="1022400"/>
            <a:chOff x="6122880" y="5003640"/>
            <a:chExt cx="1422000" cy="1022400"/>
          </a:xfrm>
        </p:grpSpPr>
        <p:grpSp>
          <p:nvGrpSpPr>
            <p:cNvPr id="331" name=""/>
            <p:cNvGrpSpPr/>
            <p:nvPr/>
          </p:nvGrpSpPr>
          <p:grpSpPr>
            <a:xfrm>
              <a:off x="6122880" y="5003640"/>
              <a:ext cx="1422000" cy="1022400"/>
              <a:chOff x="6122880" y="5003640"/>
              <a:chExt cx="1422000" cy="1022400"/>
            </a:xfrm>
          </p:grpSpPr>
          <p:sp>
            <p:nvSpPr>
              <p:cNvPr id="332" name=""/>
              <p:cNvSpPr/>
              <p:nvPr/>
            </p:nvSpPr>
            <p:spPr>
              <a:xfrm>
                <a:off x="7482240" y="5130360"/>
                <a:ext cx="62640" cy="129240"/>
              </a:xfrm>
              <a:custGeom>
                <a:avLst/>
                <a:gdLst>
                  <a:gd name="textAreaLeft" fmla="*/ 3960 w 62640"/>
                  <a:gd name="textAreaRight" fmla="*/ 58680 w 62640"/>
                  <a:gd name="textAreaTop" fmla="*/ 3960 h 129240"/>
                  <a:gd name="textAreaBottom" fmla="*/ 125280 h 129240"/>
                </a:gdLst>
                <a:ahLst/>
                <a:rect l="textAreaLeft" t="textAreaTop" r="textAreaRight" b="textAreaBottom"/>
                <a:pathLst>
                  <a:path w="21600" h="44434">
                    <a:moveTo>
                      <a:pt x="4926" y="0"/>
                    </a:moveTo>
                    <a:arcTo wR="4926" hR="4926" stAng="16200000" swAng="-5400000"/>
                    <a:lnTo>
                      <a:pt x="0" y="39508"/>
                    </a:lnTo>
                    <a:arcTo wR="4926" hR="4926" stAng="10800000" swAng="-5400000"/>
                    <a:lnTo>
                      <a:pt x="16674" y="44434"/>
                    </a:lnTo>
                    <a:arcTo wR="4926" hR="4926" stAng="5400000" swAng="-5400000"/>
                    <a:lnTo>
                      <a:pt x="21600" y="4926"/>
                    </a:lnTo>
                    <a:arcTo wR="4926" hR="4926" stAng="0" swAng="-5400000"/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482240" y="5290560"/>
                <a:ext cx="62640" cy="129240"/>
              </a:xfrm>
              <a:custGeom>
                <a:avLst/>
                <a:gdLst>
                  <a:gd name="textAreaLeft" fmla="*/ 3960 w 62640"/>
                  <a:gd name="textAreaRight" fmla="*/ 58680 w 62640"/>
                  <a:gd name="textAreaTop" fmla="*/ 3960 h 129240"/>
                  <a:gd name="textAreaBottom" fmla="*/ 125280 h 129240"/>
                </a:gdLst>
                <a:ahLst/>
                <a:rect l="textAreaLeft" t="textAreaTop" r="textAreaRight" b="textAreaBottom"/>
                <a:pathLst>
                  <a:path w="21600" h="44434">
                    <a:moveTo>
                      <a:pt x="4926" y="0"/>
                    </a:moveTo>
                    <a:arcTo wR="4926" hR="4926" stAng="16200000" swAng="-5400000"/>
                    <a:lnTo>
                      <a:pt x="0" y="39508"/>
                    </a:lnTo>
                    <a:arcTo wR="4926" hR="4926" stAng="10800000" swAng="-5400000"/>
                    <a:lnTo>
                      <a:pt x="16674" y="44434"/>
                    </a:lnTo>
                    <a:arcTo wR="4926" hR="4926" stAng="5400000" swAng="-5400000"/>
                    <a:lnTo>
                      <a:pt x="21600" y="4926"/>
                    </a:lnTo>
                    <a:arcTo wR="4926" hR="4926" stAng="0" swAng="-5400000"/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22880" y="5003640"/>
                <a:ext cx="1406160" cy="1022400"/>
              </a:xfrm>
              <a:prstGeom prst="roundRect">
                <a:avLst>
                  <a:gd name="adj" fmla="val 5954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86600" y="5067720"/>
                <a:ext cx="1278000" cy="7981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18640" y="5099760"/>
                <a:ext cx="1213920" cy="7336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60800" y="5929920"/>
                <a:ext cx="129600" cy="320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85040" y="5898960"/>
                <a:ext cx="95760" cy="946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0800000">
                <a:off x="7400520" y="5913720"/>
                <a:ext cx="63720" cy="651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86600" y="5067720"/>
                <a:ext cx="1278000" cy="798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70400" y="5898960"/>
                <a:ext cx="96120" cy="946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0800000">
                <a:off x="6186600" y="5913720"/>
                <a:ext cx="64080" cy="651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122880" y="5003640"/>
              <a:ext cx="1422000" cy="1022400"/>
              <a:chOff x="6122880" y="5003640"/>
              <a:chExt cx="1422000" cy="1022400"/>
            </a:xfrm>
          </p:grpSpPr>
          <p:sp>
            <p:nvSpPr>
              <p:cNvPr id="344" name=""/>
              <p:cNvSpPr/>
              <p:nvPr/>
            </p:nvSpPr>
            <p:spPr>
              <a:xfrm>
                <a:off x="7482240" y="5130360"/>
                <a:ext cx="62640" cy="129240"/>
              </a:xfrm>
              <a:custGeom>
                <a:avLst/>
                <a:gdLst>
                  <a:gd name="textAreaLeft" fmla="*/ 3960 w 62640"/>
                  <a:gd name="textAreaRight" fmla="*/ 58680 w 62640"/>
                  <a:gd name="textAreaTop" fmla="*/ 3960 h 129240"/>
                  <a:gd name="textAreaBottom" fmla="*/ 125280 h 129240"/>
                </a:gdLst>
                <a:ahLst/>
                <a:rect l="textAreaLeft" t="textAreaTop" r="textAreaRight" b="textAreaBottom"/>
                <a:pathLst>
                  <a:path w="21600" h="44434">
                    <a:moveTo>
                      <a:pt x="4926" y="0"/>
                    </a:moveTo>
                    <a:arcTo wR="4926" hR="4926" stAng="16200000" swAng="-5400000"/>
                    <a:lnTo>
                      <a:pt x="0" y="39508"/>
                    </a:lnTo>
                    <a:arcTo wR="4926" hR="4926" stAng="10800000" swAng="-5400000"/>
                    <a:lnTo>
                      <a:pt x="16674" y="44434"/>
                    </a:lnTo>
                    <a:arcTo wR="4926" hR="4926" stAng="5400000" swAng="-5400000"/>
                    <a:lnTo>
                      <a:pt x="21600" y="4926"/>
                    </a:lnTo>
                    <a:arcTo wR="4926" hR="4926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482240" y="5290560"/>
                <a:ext cx="62640" cy="129240"/>
              </a:xfrm>
              <a:custGeom>
                <a:avLst/>
                <a:gdLst>
                  <a:gd name="textAreaLeft" fmla="*/ 3960 w 62640"/>
                  <a:gd name="textAreaRight" fmla="*/ 58680 w 62640"/>
                  <a:gd name="textAreaTop" fmla="*/ 3960 h 129240"/>
                  <a:gd name="textAreaBottom" fmla="*/ 125280 h 129240"/>
                </a:gdLst>
                <a:ahLst/>
                <a:rect l="textAreaLeft" t="textAreaTop" r="textAreaRight" b="textAreaBottom"/>
                <a:pathLst>
                  <a:path w="21600" h="44434">
                    <a:moveTo>
                      <a:pt x="4926" y="0"/>
                    </a:moveTo>
                    <a:arcTo wR="4926" hR="4926" stAng="16200000" swAng="-5400000"/>
                    <a:lnTo>
                      <a:pt x="0" y="39508"/>
                    </a:lnTo>
                    <a:arcTo wR="4926" hR="4926" stAng="10800000" swAng="-5400000"/>
                    <a:lnTo>
                      <a:pt x="16674" y="44434"/>
                    </a:lnTo>
                    <a:arcTo wR="4926" hR="4926" stAng="5400000" swAng="-5400000"/>
                    <a:lnTo>
                      <a:pt x="21600" y="4926"/>
                    </a:lnTo>
                    <a:arcTo wR="4926" hR="4926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22880" y="5003640"/>
                <a:ext cx="1406160" cy="1022400"/>
              </a:xfrm>
              <a:prstGeom prst="roundRect">
                <a:avLst>
                  <a:gd name="adj" fmla="val 5954"/>
                </a:avLst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186600" y="5067720"/>
                <a:ext cx="1278000" cy="7981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18640" y="5099760"/>
                <a:ext cx="1213920" cy="733680"/>
              </a:xfrm>
              <a:prstGeom prst="rect">
                <a:avLst/>
              </a:pr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60800" y="5929920"/>
                <a:ext cx="129600" cy="32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385040" y="5898960"/>
                <a:ext cx="95760" cy="946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0800000">
                <a:off x="7400520" y="5913720"/>
                <a:ext cx="6372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54545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186600" y="5067720"/>
                <a:ext cx="1278000" cy="79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70400" y="5898960"/>
                <a:ext cx="96120" cy="946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0800000">
                <a:off x="6186600" y="5913720"/>
                <a:ext cx="6408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54545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7994520" y="5003640"/>
            <a:ext cx="1422000" cy="1022400"/>
            <a:chOff x="7994520" y="5003640"/>
            <a:chExt cx="1422000" cy="1022400"/>
          </a:xfrm>
        </p:grpSpPr>
        <p:grpSp>
          <p:nvGrpSpPr>
            <p:cNvPr id="356" name=""/>
            <p:cNvGrpSpPr/>
            <p:nvPr/>
          </p:nvGrpSpPr>
          <p:grpSpPr>
            <a:xfrm>
              <a:off x="7994520" y="5003640"/>
              <a:ext cx="1422000" cy="1022400"/>
              <a:chOff x="7994520" y="5003640"/>
              <a:chExt cx="1422000" cy="1022400"/>
            </a:xfrm>
          </p:grpSpPr>
          <p:sp>
            <p:nvSpPr>
              <p:cNvPr id="357" name=""/>
              <p:cNvSpPr/>
              <p:nvPr/>
            </p:nvSpPr>
            <p:spPr>
              <a:xfrm>
                <a:off x="9353880" y="5130360"/>
                <a:ext cx="62640" cy="129240"/>
              </a:xfrm>
              <a:custGeom>
                <a:avLst/>
                <a:gdLst>
                  <a:gd name="textAreaLeft" fmla="*/ 3960 w 62640"/>
                  <a:gd name="textAreaRight" fmla="*/ 58680 w 62640"/>
                  <a:gd name="textAreaTop" fmla="*/ 3960 h 129240"/>
                  <a:gd name="textAreaBottom" fmla="*/ 125280 h 129240"/>
                </a:gdLst>
                <a:ahLst/>
                <a:rect l="textAreaLeft" t="textAreaTop" r="textAreaRight" b="textAreaBottom"/>
                <a:pathLst>
                  <a:path w="21600" h="44434">
                    <a:moveTo>
                      <a:pt x="4926" y="0"/>
                    </a:moveTo>
                    <a:arcTo wR="4926" hR="4926" stAng="16200000" swAng="-5400000"/>
                    <a:lnTo>
                      <a:pt x="0" y="39508"/>
                    </a:lnTo>
                    <a:arcTo wR="4926" hR="4926" stAng="10800000" swAng="-5400000"/>
                    <a:lnTo>
                      <a:pt x="16674" y="44434"/>
                    </a:lnTo>
                    <a:arcTo wR="4926" hR="4926" stAng="5400000" swAng="-5400000"/>
                    <a:lnTo>
                      <a:pt x="21600" y="4926"/>
                    </a:lnTo>
                    <a:arcTo wR="4926" hR="4926" stAng="0" swAng="-5400000"/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353880" y="5290560"/>
                <a:ext cx="62640" cy="129240"/>
              </a:xfrm>
              <a:custGeom>
                <a:avLst/>
                <a:gdLst>
                  <a:gd name="textAreaLeft" fmla="*/ 3960 w 62640"/>
                  <a:gd name="textAreaRight" fmla="*/ 58680 w 62640"/>
                  <a:gd name="textAreaTop" fmla="*/ 3960 h 129240"/>
                  <a:gd name="textAreaBottom" fmla="*/ 125280 h 129240"/>
                </a:gdLst>
                <a:ahLst/>
                <a:rect l="textAreaLeft" t="textAreaTop" r="textAreaRight" b="textAreaBottom"/>
                <a:pathLst>
                  <a:path w="21600" h="44434">
                    <a:moveTo>
                      <a:pt x="4926" y="0"/>
                    </a:moveTo>
                    <a:arcTo wR="4926" hR="4926" stAng="16200000" swAng="-5400000"/>
                    <a:lnTo>
                      <a:pt x="0" y="39508"/>
                    </a:lnTo>
                    <a:arcTo wR="4926" hR="4926" stAng="10800000" swAng="-5400000"/>
                    <a:lnTo>
                      <a:pt x="16674" y="44434"/>
                    </a:lnTo>
                    <a:arcTo wR="4926" hR="4926" stAng="5400000" swAng="-5400000"/>
                    <a:lnTo>
                      <a:pt x="21600" y="4926"/>
                    </a:lnTo>
                    <a:arcTo wR="4926" hR="4926" stAng="0" swAng="-5400000"/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994520" y="5003640"/>
                <a:ext cx="1406160" cy="1022400"/>
              </a:xfrm>
              <a:prstGeom prst="roundRect">
                <a:avLst>
                  <a:gd name="adj" fmla="val 5954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58240" y="5067720"/>
                <a:ext cx="1278000" cy="7981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090280" y="5099760"/>
                <a:ext cx="1213920" cy="7336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632440" y="5929920"/>
                <a:ext cx="129600" cy="320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9256680" y="5898960"/>
                <a:ext cx="95760" cy="946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0800000">
                <a:off x="9272160" y="5913720"/>
                <a:ext cx="63720" cy="651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058240" y="5067720"/>
                <a:ext cx="1278000" cy="798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042040" y="5898960"/>
                <a:ext cx="96120" cy="946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0800000">
                <a:off x="8058240" y="5913720"/>
                <a:ext cx="64080" cy="651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994520" y="5003640"/>
              <a:ext cx="1422000" cy="1022400"/>
              <a:chOff x="7994520" y="5003640"/>
              <a:chExt cx="1422000" cy="1022400"/>
            </a:xfrm>
          </p:grpSpPr>
          <p:sp>
            <p:nvSpPr>
              <p:cNvPr id="369" name=""/>
              <p:cNvSpPr/>
              <p:nvPr/>
            </p:nvSpPr>
            <p:spPr>
              <a:xfrm>
                <a:off x="9353880" y="5130360"/>
                <a:ext cx="62640" cy="129240"/>
              </a:xfrm>
              <a:custGeom>
                <a:avLst/>
                <a:gdLst>
                  <a:gd name="textAreaLeft" fmla="*/ 3960 w 62640"/>
                  <a:gd name="textAreaRight" fmla="*/ 58680 w 62640"/>
                  <a:gd name="textAreaTop" fmla="*/ 3960 h 129240"/>
                  <a:gd name="textAreaBottom" fmla="*/ 125280 h 129240"/>
                </a:gdLst>
                <a:ahLst/>
                <a:rect l="textAreaLeft" t="textAreaTop" r="textAreaRight" b="textAreaBottom"/>
                <a:pathLst>
                  <a:path w="21600" h="44434">
                    <a:moveTo>
                      <a:pt x="4926" y="0"/>
                    </a:moveTo>
                    <a:arcTo wR="4926" hR="4926" stAng="16200000" swAng="-5400000"/>
                    <a:lnTo>
                      <a:pt x="0" y="39508"/>
                    </a:lnTo>
                    <a:arcTo wR="4926" hR="4926" stAng="10800000" swAng="-5400000"/>
                    <a:lnTo>
                      <a:pt x="16674" y="44434"/>
                    </a:lnTo>
                    <a:arcTo wR="4926" hR="4926" stAng="5400000" swAng="-5400000"/>
                    <a:lnTo>
                      <a:pt x="21600" y="4926"/>
                    </a:lnTo>
                    <a:arcTo wR="4926" hR="4926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353880" y="5290560"/>
                <a:ext cx="62640" cy="129240"/>
              </a:xfrm>
              <a:custGeom>
                <a:avLst/>
                <a:gdLst>
                  <a:gd name="textAreaLeft" fmla="*/ 3960 w 62640"/>
                  <a:gd name="textAreaRight" fmla="*/ 58680 w 62640"/>
                  <a:gd name="textAreaTop" fmla="*/ 3960 h 129240"/>
                  <a:gd name="textAreaBottom" fmla="*/ 125280 h 129240"/>
                </a:gdLst>
                <a:ahLst/>
                <a:rect l="textAreaLeft" t="textAreaTop" r="textAreaRight" b="textAreaBottom"/>
                <a:pathLst>
                  <a:path w="21600" h="44434">
                    <a:moveTo>
                      <a:pt x="4926" y="0"/>
                    </a:moveTo>
                    <a:arcTo wR="4926" hR="4926" stAng="16200000" swAng="-5400000"/>
                    <a:lnTo>
                      <a:pt x="0" y="39508"/>
                    </a:lnTo>
                    <a:arcTo wR="4926" hR="4926" stAng="10800000" swAng="-5400000"/>
                    <a:lnTo>
                      <a:pt x="16674" y="44434"/>
                    </a:lnTo>
                    <a:arcTo wR="4926" hR="4926" stAng="5400000" swAng="-5400000"/>
                    <a:lnTo>
                      <a:pt x="21600" y="4926"/>
                    </a:lnTo>
                    <a:arcTo wR="4926" hR="4926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994520" y="5003640"/>
                <a:ext cx="1406160" cy="1022400"/>
              </a:xfrm>
              <a:prstGeom prst="roundRect">
                <a:avLst>
                  <a:gd name="adj" fmla="val 5954"/>
                </a:avLst>
              </a:prstGeom>
              <a:gradFill rotWithShape="0">
                <a:gsLst>
                  <a:gs pos="0">
                    <a:srgbClr val="a95454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058240" y="5067720"/>
                <a:ext cx="1278000" cy="7981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090280" y="5099760"/>
                <a:ext cx="1213920" cy="733680"/>
              </a:xfrm>
              <a:prstGeom prst="rect">
                <a:avLst/>
              </a:prstGeom>
              <a:gradFill rotWithShape="0">
                <a:gsLst>
                  <a:gs pos="0">
                    <a:srgbClr val="bdddfe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632440" y="5929920"/>
                <a:ext cx="129600" cy="3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256680" y="5898960"/>
                <a:ext cx="95760" cy="946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0800000">
                <a:off x="9272160" y="5913720"/>
                <a:ext cx="6372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54545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058240" y="5067720"/>
                <a:ext cx="1278000" cy="798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42040" y="5898960"/>
                <a:ext cx="96120" cy="9468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0800000">
                <a:off x="8058240" y="5913720"/>
                <a:ext cx="6408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54545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560520" y="1030320"/>
            <a:ext cx="1323720" cy="1246320"/>
            <a:chOff x="560520" y="1030320"/>
            <a:chExt cx="1323720" cy="1246320"/>
          </a:xfrm>
        </p:grpSpPr>
        <p:sp>
          <p:nvSpPr>
            <p:cNvPr id="381" name=""/>
            <p:cNvSpPr/>
            <p:nvPr/>
          </p:nvSpPr>
          <p:spPr>
            <a:xfrm>
              <a:off x="586440" y="1030320"/>
              <a:ext cx="1297800" cy="1246320"/>
            </a:xfrm>
            <a:custGeom>
              <a:avLst/>
              <a:gdLst/>
              <a:ahLst/>
              <a:rect l="l" t="t" r="r" b="b"/>
              <a:pathLst>
                <a:path w="1446" h="1389">
                  <a:moveTo>
                    <a:pt x="0" y="85"/>
                  </a:moveTo>
                  <a:lnTo>
                    <a:pt x="1162" y="0"/>
                  </a:lnTo>
                  <a:lnTo>
                    <a:pt x="1446" y="935"/>
                  </a:lnTo>
                  <a:lnTo>
                    <a:pt x="397" y="1389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0520" y="1106280"/>
              <a:ext cx="381240" cy="1170000"/>
            </a:xfrm>
            <a:custGeom>
              <a:avLst/>
              <a:gdLst/>
              <a:ahLst/>
              <a:rect l="l" t="t" r="r" b="b"/>
              <a:pathLst>
                <a:path w="425" h="1304">
                  <a:moveTo>
                    <a:pt x="29" y="0"/>
                  </a:moveTo>
                  <a:lnTo>
                    <a:pt x="425" y="1304"/>
                  </a:lnTo>
                  <a:lnTo>
                    <a:pt x="379" y="1304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6840" y="1127880"/>
              <a:ext cx="392760" cy="1040760"/>
            </a:xfrm>
            <a:custGeom>
              <a:avLst/>
              <a:gdLst/>
              <a:ahLst/>
              <a:rect l="l" t="t" r="r" b="b"/>
              <a:pathLst>
                <a:path w="438" h="1160">
                  <a:moveTo>
                    <a:pt x="0" y="4"/>
                  </a:moveTo>
                  <a:lnTo>
                    <a:pt x="346" y="1160"/>
                  </a:lnTo>
                  <a:lnTo>
                    <a:pt x="438" y="1108"/>
                  </a:lnTo>
                  <a:lnTo>
                    <a:pt x="10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78960" y="1063440"/>
              <a:ext cx="258480" cy="752760"/>
            </a:xfrm>
            <a:custGeom>
              <a:avLst/>
              <a:gdLst/>
              <a:ahLst/>
              <a:rect l="l" t="t" r="r" b="b"/>
              <a:pathLst>
                <a:path w="288" h="839">
                  <a:moveTo>
                    <a:pt x="40" y="0"/>
                  </a:moveTo>
                  <a:lnTo>
                    <a:pt x="288" y="824"/>
                  </a:lnTo>
                  <a:lnTo>
                    <a:pt x="242" y="839"/>
                  </a:lnTo>
                  <a:lnTo>
                    <a:pt x="0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3920" y="1088640"/>
              <a:ext cx="1015920" cy="1019160"/>
            </a:xfrm>
            <a:custGeom>
              <a:avLst/>
              <a:gdLst/>
              <a:ahLst/>
              <a:rect l="l" t="t" r="r" b="b"/>
              <a:pathLst>
                <a:path w="1132" h="1136">
                  <a:moveTo>
                    <a:pt x="0" y="72"/>
                  </a:moveTo>
                  <a:lnTo>
                    <a:pt x="896" y="0"/>
                  </a:lnTo>
                  <a:lnTo>
                    <a:pt x="1132" y="820"/>
                  </a:lnTo>
                  <a:lnTo>
                    <a:pt x="328" y="113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5040" y="1110240"/>
              <a:ext cx="921600" cy="911520"/>
            </a:xfrm>
            <a:custGeom>
              <a:avLst/>
              <a:gdLst/>
              <a:ahLst/>
              <a:rect l="l" t="t" r="r" b="b"/>
              <a:pathLst>
                <a:path w="1027" h="1016">
                  <a:moveTo>
                    <a:pt x="0" y="81"/>
                  </a:moveTo>
                  <a:lnTo>
                    <a:pt x="275" y="1016"/>
                  </a:lnTo>
                  <a:lnTo>
                    <a:pt x="1027" y="744"/>
                  </a:lnTo>
                  <a:lnTo>
                    <a:pt x="811" y="0"/>
                  </a:lnTo>
                  <a:lnTo>
                    <a:pt x="0" y="81"/>
                  </a:lnTo>
                  <a:close/>
                </a:path>
              </a:pathLst>
            </a:custGeom>
            <a:gradFill rotWithShape="0">
              <a:gsLst>
                <a:gs pos="0">
                  <a:srgbClr val="95e9fe"/>
                </a:gs>
                <a:gs pos="100000">
                  <a:srgbClr val="00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360520" y="1030320"/>
            <a:ext cx="1324080" cy="1246320"/>
            <a:chOff x="2360520" y="1030320"/>
            <a:chExt cx="1324080" cy="1246320"/>
          </a:xfrm>
        </p:grpSpPr>
        <p:sp>
          <p:nvSpPr>
            <p:cNvPr id="388" name=""/>
            <p:cNvSpPr/>
            <p:nvPr/>
          </p:nvSpPr>
          <p:spPr>
            <a:xfrm>
              <a:off x="2386440" y="1030320"/>
              <a:ext cx="1298160" cy="1246320"/>
            </a:xfrm>
            <a:custGeom>
              <a:avLst/>
              <a:gdLst/>
              <a:ahLst/>
              <a:rect l="l" t="t" r="r" b="b"/>
              <a:pathLst>
                <a:path w="1446" h="1389">
                  <a:moveTo>
                    <a:pt x="0" y="85"/>
                  </a:moveTo>
                  <a:lnTo>
                    <a:pt x="1162" y="0"/>
                  </a:lnTo>
                  <a:lnTo>
                    <a:pt x="1446" y="935"/>
                  </a:lnTo>
                  <a:lnTo>
                    <a:pt x="397" y="1389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3c3c3c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60520" y="1106280"/>
              <a:ext cx="381240" cy="1170000"/>
            </a:xfrm>
            <a:custGeom>
              <a:avLst/>
              <a:gdLst/>
              <a:ahLst/>
              <a:rect l="l" t="t" r="r" b="b"/>
              <a:pathLst>
                <a:path w="425" h="1304">
                  <a:moveTo>
                    <a:pt x="29" y="0"/>
                  </a:moveTo>
                  <a:lnTo>
                    <a:pt x="425" y="1304"/>
                  </a:lnTo>
                  <a:lnTo>
                    <a:pt x="379" y="1304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36840" y="1127880"/>
              <a:ext cx="393120" cy="1040760"/>
            </a:xfrm>
            <a:custGeom>
              <a:avLst/>
              <a:gdLst/>
              <a:ahLst/>
              <a:rect l="l" t="t" r="r" b="b"/>
              <a:pathLst>
                <a:path w="438" h="1160">
                  <a:moveTo>
                    <a:pt x="0" y="4"/>
                  </a:moveTo>
                  <a:lnTo>
                    <a:pt x="346" y="1160"/>
                  </a:lnTo>
                  <a:lnTo>
                    <a:pt x="438" y="1108"/>
                  </a:lnTo>
                  <a:lnTo>
                    <a:pt x="10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79320" y="1063440"/>
              <a:ext cx="258480" cy="752760"/>
            </a:xfrm>
            <a:custGeom>
              <a:avLst/>
              <a:gdLst/>
              <a:ahLst/>
              <a:rect l="l" t="t" r="r" b="b"/>
              <a:pathLst>
                <a:path w="288" h="839">
                  <a:moveTo>
                    <a:pt x="40" y="0"/>
                  </a:moveTo>
                  <a:lnTo>
                    <a:pt x="288" y="824"/>
                  </a:lnTo>
                  <a:lnTo>
                    <a:pt x="242" y="839"/>
                  </a:lnTo>
                  <a:lnTo>
                    <a:pt x="0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64280" y="1088640"/>
              <a:ext cx="1016280" cy="1019160"/>
            </a:xfrm>
            <a:custGeom>
              <a:avLst/>
              <a:gdLst/>
              <a:ahLst/>
              <a:rect l="l" t="t" r="r" b="b"/>
              <a:pathLst>
                <a:path w="1132" h="1136">
                  <a:moveTo>
                    <a:pt x="0" y="72"/>
                  </a:moveTo>
                  <a:lnTo>
                    <a:pt x="896" y="0"/>
                  </a:lnTo>
                  <a:lnTo>
                    <a:pt x="1132" y="820"/>
                  </a:lnTo>
                  <a:lnTo>
                    <a:pt x="328" y="113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15400" y="1110240"/>
              <a:ext cx="921960" cy="911520"/>
            </a:xfrm>
            <a:custGeom>
              <a:avLst/>
              <a:gdLst/>
              <a:ahLst/>
              <a:rect l="l" t="t" r="r" b="b"/>
              <a:pathLst>
                <a:path w="1027" h="1016">
                  <a:moveTo>
                    <a:pt x="0" y="81"/>
                  </a:moveTo>
                  <a:lnTo>
                    <a:pt x="275" y="1016"/>
                  </a:lnTo>
                  <a:lnTo>
                    <a:pt x="1027" y="744"/>
                  </a:lnTo>
                  <a:lnTo>
                    <a:pt x="811" y="0"/>
                  </a:lnTo>
                  <a:lnTo>
                    <a:pt x="0" y="81"/>
                  </a:lnTo>
                  <a:close/>
                </a:path>
              </a:pathLst>
            </a:custGeom>
            <a:gradFill rotWithShape="0">
              <a:gsLst>
                <a:gs pos="0">
                  <a:srgbClr val="95e9fe"/>
                </a:gs>
                <a:gs pos="100000">
                  <a:srgbClr val="00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232160" y="3063960"/>
            <a:ext cx="1451160" cy="1082160"/>
            <a:chOff x="4232160" y="3063960"/>
            <a:chExt cx="1451160" cy="1082160"/>
          </a:xfrm>
        </p:grpSpPr>
        <p:sp>
          <p:nvSpPr>
            <p:cNvPr id="395" name=""/>
            <p:cNvSpPr/>
            <p:nvPr/>
          </p:nvSpPr>
          <p:spPr>
            <a:xfrm>
              <a:off x="4232160" y="3063960"/>
              <a:ext cx="1451160" cy="1024560"/>
            </a:xfrm>
            <a:prstGeom prst="roundRect">
              <a:avLst>
                <a:gd name="adj" fmla="val 573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55000" y="4107600"/>
              <a:ext cx="1005480" cy="38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9240" y="4011480"/>
              <a:ext cx="657720" cy="134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32160" y="3160440"/>
              <a:ext cx="1451160" cy="81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32160" y="3180240"/>
              <a:ext cx="1451160" cy="7722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dbec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92440" y="3991680"/>
              <a:ext cx="57960" cy="57960"/>
            </a:xfrm>
            <a:prstGeom prst="ellipse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69840" y="3991680"/>
              <a:ext cx="57960" cy="57960"/>
            </a:xfrm>
            <a:prstGeom prst="ellipse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47600" y="3991680"/>
              <a:ext cx="57960" cy="57960"/>
            </a:xfrm>
            <a:prstGeom prst="ellipse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305240" y="1052640"/>
            <a:ext cx="1522080" cy="1245960"/>
            <a:chOff x="4305240" y="1052640"/>
            <a:chExt cx="1522080" cy="1245960"/>
          </a:xfrm>
        </p:grpSpPr>
        <p:grpSp>
          <p:nvGrpSpPr>
            <p:cNvPr id="404" name=""/>
            <p:cNvGrpSpPr/>
            <p:nvPr/>
          </p:nvGrpSpPr>
          <p:grpSpPr>
            <a:xfrm>
              <a:off x="4305240" y="1052640"/>
              <a:ext cx="1324440" cy="1245960"/>
              <a:chOff x="4305240" y="1052640"/>
              <a:chExt cx="1324440" cy="1245960"/>
            </a:xfrm>
          </p:grpSpPr>
          <p:sp>
            <p:nvSpPr>
              <p:cNvPr id="405" name=""/>
              <p:cNvSpPr/>
              <p:nvPr/>
            </p:nvSpPr>
            <p:spPr>
              <a:xfrm>
                <a:off x="4331160" y="1052640"/>
                <a:ext cx="1298520" cy="1245960"/>
              </a:xfrm>
              <a:custGeom>
                <a:avLst/>
                <a:gdLst/>
                <a:ahLst/>
                <a:rect l="l" t="t" r="r" b="b"/>
                <a:pathLst>
                  <a:path w="1446" h="1389">
                    <a:moveTo>
                      <a:pt x="0" y="85"/>
                    </a:moveTo>
                    <a:lnTo>
                      <a:pt x="1162" y="0"/>
                    </a:lnTo>
                    <a:lnTo>
                      <a:pt x="1446" y="935"/>
                    </a:lnTo>
                    <a:lnTo>
                      <a:pt x="397" y="1389"/>
                    </a:lnTo>
                    <a:lnTo>
                      <a:pt x="0" y="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05240" y="1128600"/>
                <a:ext cx="381600" cy="1169640"/>
              </a:xfrm>
              <a:custGeom>
                <a:avLst/>
                <a:gdLst/>
                <a:ahLst/>
                <a:rect l="l" t="t" r="r" b="b"/>
                <a:pathLst>
                  <a:path w="425" h="1304">
                    <a:moveTo>
                      <a:pt x="29" y="0"/>
                    </a:moveTo>
                    <a:lnTo>
                      <a:pt x="425" y="1304"/>
                    </a:lnTo>
                    <a:lnTo>
                      <a:pt x="379" y="1304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381560" y="1150200"/>
                <a:ext cx="393120" cy="1040400"/>
              </a:xfrm>
              <a:custGeom>
                <a:avLst/>
                <a:gdLst/>
                <a:ahLst/>
                <a:rect l="l" t="t" r="r" b="b"/>
                <a:pathLst>
                  <a:path w="438" h="1160">
                    <a:moveTo>
                      <a:pt x="0" y="4"/>
                    </a:moveTo>
                    <a:lnTo>
                      <a:pt x="346" y="1160"/>
                    </a:lnTo>
                    <a:lnTo>
                      <a:pt x="438" y="1108"/>
                    </a:lnTo>
                    <a:lnTo>
                      <a:pt x="10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24400" y="1085760"/>
                <a:ext cx="258480" cy="752400"/>
              </a:xfrm>
              <a:custGeom>
                <a:avLst/>
                <a:gdLst/>
                <a:ahLst/>
                <a:rect l="l" t="t" r="r" b="b"/>
                <a:pathLst>
                  <a:path w="288" h="839">
                    <a:moveTo>
                      <a:pt x="40" y="0"/>
                    </a:moveTo>
                    <a:lnTo>
                      <a:pt x="288" y="824"/>
                    </a:lnTo>
                    <a:lnTo>
                      <a:pt x="242" y="839"/>
                    </a:lnTo>
                    <a:lnTo>
                      <a:pt x="0" y="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509000" y="1110960"/>
                <a:ext cx="1016640" cy="1018800"/>
              </a:xfrm>
              <a:custGeom>
                <a:avLst/>
                <a:gdLst/>
                <a:ahLst/>
                <a:rect l="l" t="t" r="r" b="b"/>
                <a:pathLst>
                  <a:path w="1132" h="1136">
                    <a:moveTo>
                      <a:pt x="0" y="72"/>
                    </a:moveTo>
                    <a:lnTo>
                      <a:pt x="896" y="0"/>
                    </a:lnTo>
                    <a:lnTo>
                      <a:pt x="1132" y="820"/>
                    </a:lnTo>
                    <a:lnTo>
                      <a:pt x="328" y="113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560120" y="1132560"/>
                <a:ext cx="922320" cy="911160"/>
              </a:xfrm>
              <a:custGeom>
                <a:avLst/>
                <a:gdLst/>
                <a:ahLst/>
                <a:rect l="l" t="t" r="r" b="b"/>
                <a:pathLst>
                  <a:path w="1027" h="1016">
                    <a:moveTo>
                      <a:pt x="0" y="81"/>
                    </a:moveTo>
                    <a:lnTo>
                      <a:pt x="275" y="1016"/>
                    </a:lnTo>
                    <a:lnTo>
                      <a:pt x="1027" y="744"/>
                    </a:lnTo>
                    <a:lnTo>
                      <a:pt x="811" y="0"/>
                    </a:lnTo>
                    <a:lnTo>
                      <a:pt x="0" y="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e9fe"/>
                  </a:gs>
                  <a:gs pos="100000">
                    <a:srgbClr val="00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087520" y="1352160"/>
              <a:ext cx="739800" cy="889920"/>
              <a:chOff x="5087520" y="1352160"/>
              <a:chExt cx="739800" cy="889920"/>
            </a:xfrm>
          </p:grpSpPr>
          <p:sp>
            <p:nvSpPr>
              <p:cNvPr id="412" name=""/>
              <p:cNvSpPr/>
              <p:nvPr/>
            </p:nvSpPr>
            <p:spPr>
              <a:xfrm rot="20700000">
                <a:off x="5277600" y="1646280"/>
                <a:ext cx="224640" cy="220320"/>
              </a:xfrm>
              <a:custGeom>
                <a:avLst/>
                <a:gdLst/>
                <a:ahLst/>
                <a:rect l="l" t="t" r="r" b="b"/>
                <a:pathLst>
                  <a:path w="470" h="461">
                    <a:moveTo>
                      <a:pt x="197" y="0"/>
                    </a:moveTo>
                    <a:cubicBezTo>
                      <a:pt x="148" y="20"/>
                      <a:pt x="41" y="80"/>
                      <a:pt x="16" y="131"/>
                    </a:cubicBezTo>
                    <a:cubicBezTo>
                      <a:pt x="0" y="186"/>
                      <a:pt x="27" y="254"/>
                      <a:pt x="48" y="309"/>
                    </a:cubicBezTo>
                    <a:lnTo>
                      <a:pt x="145" y="461"/>
                    </a:lnTo>
                    <a:lnTo>
                      <a:pt x="373" y="435"/>
                    </a:lnTo>
                    <a:lnTo>
                      <a:pt x="470" y="233"/>
                    </a:lnTo>
                    <a:lnTo>
                      <a:pt x="373" y="81"/>
                    </a:lnTo>
                    <a:lnTo>
                      <a:pt x="311" y="9"/>
                    </a:lnTo>
                    <a:lnTo>
                      <a:pt x="1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bb8c"/>
                  </a:gs>
                  <a:gs pos="100000">
                    <a:srgbClr val="ffcc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0700000">
                <a:off x="5344200" y="1711800"/>
                <a:ext cx="108360" cy="81000"/>
              </a:xfrm>
              <a:custGeom>
                <a:avLst/>
                <a:gdLst/>
                <a:ahLst/>
                <a:rect l="l" t="t" r="r" b="b"/>
                <a:pathLst>
                  <a:path w="227" h="170">
                    <a:moveTo>
                      <a:pt x="0" y="0"/>
                    </a:moveTo>
                    <a:lnTo>
                      <a:pt x="57" y="85"/>
                    </a:lnTo>
                    <a:lnTo>
                      <a:pt x="29" y="170"/>
                    </a:lnTo>
                    <a:lnTo>
                      <a:pt x="85" y="113"/>
                    </a:lnTo>
                    <a:lnTo>
                      <a:pt x="142" y="170"/>
                    </a:lnTo>
                    <a:lnTo>
                      <a:pt x="227" y="113"/>
                    </a:lnTo>
                    <a:lnTo>
                      <a:pt x="170" y="0"/>
                    </a:lnTo>
                    <a:lnTo>
                      <a:pt x="8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0700000">
                <a:off x="5177520" y="1411200"/>
                <a:ext cx="559080" cy="771480"/>
              </a:xfrm>
              <a:custGeom>
                <a:avLst/>
                <a:gdLst/>
                <a:ahLst/>
                <a:rect l="l" t="t" r="r" b="b"/>
                <a:pathLst>
                  <a:path w="1170" h="1614">
                    <a:moveTo>
                      <a:pt x="234" y="56"/>
                    </a:moveTo>
                    <a:lnTo>
                      <a:pt x="459" y="176"/>
                    </a:lnTo>
                    <a:lnTo>
                      <a:pt x="642" y="338"/>
                    </a:lnTo>
                    <a:lnTo>
                      <a:pt x="804" y="507"/>
                    </a:lnTo>
                    <a:cubicBezTo>
                      <a:pt x="856" y="576"/>
                      <a:pt x="915" y="659"/>
                      <a:pt x="954" y="753"/>
                    </a:cubicBezTo>
                    <a:cubicBezTo>
                      <a:pt x="993" y="847"/>
                      <a:pt x="1017" y="978"/>
                      <a:pt x="1038" y="1074"/>
                    </a:cubicBezTo>
                    <a:cubicBezTo>
                      <a:pt x="1059" y="1170"/>
                      <a:pt x="1061" y="1242"/>
                      <a:pt x="1083" y="1332"/>
                    </a:cubicBezTo>
                    <a:lnTo>
                      <a:pt x="1170" y="1614"/>
                    </a:lnTo>
                    <a:lnTo>
                      <a:pt x="780" y="1614"/>
                    </a:lnTo>
                    <a:cubicBezTo>
                      <a:pt x="667" y="1572"/>
                      <a:pt x="566" y="1462"/>
                      <a:pt x="489" y="1359"/>
                    </a:cubicBezTo>
                    <a:cubicBezTo>
                      <a:pt x="406" y="1257"/>
                      <a:pt x="388" y="1081"/>
                      <a:pt x="321" y="997"/>
                    </a:cubicBezTo>
                    <a:lnTo>
                      <a:pt x="162" y="885"/>
                    </a:lnTo>
                    <a:lnTo>
                      <a:pt x="66" y="770"/>
                    </a:lnTo>
                    <a:cubicBezTo>
                      <a:pt x="50" y="732"/>
                      <a:pt x="47" y="676"/>
                      <a:pt x="66" y="657"/>
                    </a:cubicBezTo>
                    <a:cubicBezTo>
                      <a:pt x="85" y="638"/>
                      <a:pt x="141" y="652"/>
                      <a:pt x="179" y="657"/>
                    </a:cubicBezTo>
                    <a:cubicBezTo>
                      <a:pt x="213" y="663"/>
                      <a:pt x="242" y="679"/>
                      <a:pt x="270" y="693"/>
                    </a:cubicBezTo>
                    <a:cubicBezTo>
                      <a:pt x="298" y="707"/>
                      <a:pt x="314" y="724"/>
                      <a:pt x="349" y="742"/>
                    </a:cubicBezTo>
                    <a:cubicBezTo>
                      <a:pt x="384" y="760"/>
                      <a:pt x="449" y="810"/>
                      <a:pt x="477" y="801"/>
                    </a:cubicBezTo>
                    <a:cubicBezTo>
                      <a:pt x="505" y="792"/>
                      <a:pt x="515" y="727"/>
                      <a:pt x="519" y="685"/>
                    </a:cubicBezTo>
                    <a:lnTo>
                      <a:pt x="486" y="573"/>
                    </a:lnTo>
                    <a:lnTo>
                      <a:pt x="406" y="459"/>
                    </a:lnTo>
                    <a:lnTo>
                      <a:pt x="279" y="288"/>
                    </a:lnTo>
                    <a:lnTo>
                      <a:pt x="66" y="155"/>
                    </a:lnTo>
                    <a:cubicBezTo>
                      <a:pt x="24" y="114"/>
                      <a:pt x="0" y="84"/>
                      <a:pt x="24" y="42"/>
                    </a:cubicBezTo>
                    <a:cubicBezTo>
                      <a:pt x="48" y="0"/>
                      <a:pt x="86" y="34"/>
                      <a:pt x="123" y="33"/>
                    </a:cubicBezTo>
                    <a:lnTo>
                      <a:pt x="234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fc0"/>
                  </a:gs>
                  <a:gs pos="100000">
                    <a:srgbClr val="ffcc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6105600" y="1052640"/>
            <a:ext cx="1567800" cy="1271160"/>
            <a:chOff x="6105600" y="1052640"/>
            <a:chExt cx="1567800" cy="1271160"/>
          </a:xfrm>
        </p:grpSpPr>
        <p:grpSp>
          <p:nvGrpSpPr>
            <p:cNvPr id="416" name=""/>
            <p:cNvGrpSpPr/>
            <p:nvPr/>
          </p:nvGrpSpPr>
          <p:grpSpPr>
            <a:xfrm>
              <a:off x="6105600" y="1052640"/>
              <a:ext cx="1323360" cy="1245960"/>
              <a:chOff x="6105600" y="1052640"/>
              <a:chExt cx="1323360" cy="1245960"/>
            </a:xfrm>
          </p:grpSpPr>
          <p:sp>
            <p:nvSpPr>
              <p:cNvPr id="417" name=""/>
              <p:cNvSpPr/>
              <p:nvPr/>
            </p:nvSpPr>
            <p:spPr>
              <a:xfrm>
                <a:off x="6131520" y="1052640"/>
                <a:ext cx="1297440" cy="1245960"/>
              </a:xfrm>
              <a:custGeom>
                <a:avLst/>
                <a:gdLst/>
                <a:ahLst/>
                <a:rect l="l" t="t" r="r" b="b"/>
                <a:pathLst>
                  <a:path w="1446" h="1389">
                    <a:moveTo>
                      <a:pt x="0" y="85"/>
                    </a:moveTo>
                    <a:lnTo>
                      <a:pt x="1162" y="0"/>
                    </a:lnTo>
                    <a:lnTo>
                      <a:pt x="1446" y="935"/>
                    </a:lnTo>
                    <a:lnTo>
                      <a:pt x="397" y="1389"/>
                    </a:lnTo>
                    <a:lnTo>
                      <a:pt x="0" y="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05600" y="1128600"/>
                <a:ext cx="381240" cy="1169640"/>
              </a:xfrm>
              <a:custGeom>
                <a:avLst/>
                <a:gdLst/>
                <a:ahLst/>
                <a:rect l="l" t="t" r="r" b="b"/>
                <a:pathLst>
                  <a:path w="425" h="1304">
                    <a:moveTo>
                      <a:pt x="29" y="0"/>
                    </a:moveTo>
                    <a:lnTo>
                      <a:pt x="425" y="1304"/>
                    </a:lnTo>
                    <a:lnTo>
                      <a:pt x="379" y="1304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81560" y="1150200"/>
                <a:ext cx="392760" cy="1040400"/>
              </a:xfrm>
              <a:custGeom>
                <a:avLst/>
                <a:gdLst/>
                <a:ahLst/>
                <a:rect l="l" t="t" r="r" b="b"/>
                <a:pathLst>
                  <a:path w="438" h="1160">
                    <a:moveTo>
                      <a:pt x="0" y="4"/>
                    </a:moveTo>
                    <a:lnTo>
                      <a:pt x="346" y="1160"/>
                    </a:lnTo>
                    <a:lnTo>
                      <a:pt x="438" y="1108"/>
                    </a:lnTo>
                    <a:lnTo>
                      <a:pt x="10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24040" y="1085760"/>
                <a:ext cx="258120" cy="752400"/>
              </a:xfrm>
              <a:custGeom>
                <a:avLst/>
                <a:gdLst/>
                <a:ahLst/>
                <a:rect l="l" t="t" r="r" b="b"/>
                <a:pathLst>
                  <a:path w="288" h="839">
                    <a:moveTo>
                      <a:pt x="40" y="0"/>
                    </a:moveTo>
                    <a:lnTo>
                      <a:pt x="288" y="824"/>
                    </a:lnTo>
                    <a:lnTo>
                      <a:pt x="242" y="839"/>
                    </a:lnTo>
                    <a:lnTo>
                      <a:pt x="0" y="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09000" y="1110960"/>
                <a:ext cx="1015560" cy="1018800"/>
              </a:xfrm>
              <a:custGeom>
                <a:avLst/>
                <a:gdLst/>
                <a:ahLst/>
                <a:rect l="l" t="t" r="r" b="b"/>
                <a:pathLst>
                  <a:path w="1132" h="1136">
                    <a:moveTo>
                      <a:pt x="0" y="72"/>
                    </a:moveTo>
                    <a:lnTo>
                      <a:pt x="896" y="0"/>
                    </a:lnTo>
                    <a:lnTo>
                      <a:pt x="1132" y="820"/>
                    </a:lnTo>
                    <a:lnTo>
                      <a:pt x="328" y="113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360120" y="1132560"/>
                <a:ext cx="921600" cy="911160"/>
              </a:xfrm>
              <a:custGeom>
                <a:avLst/>
                <a:gdLst/>
                <a:ahLst/>
                <a:rect l="l" t="t" r="r" b="b"/>
                <a:pathLst>
                  <a:path w="1027" h="1016">
                    <a:moveTo>
                      <a:pt x="0" y="81"/>
                    </a:moveTo>
                    <a:lnTo>
                      <a:pt x="275" y="1016"/>
                    </a:lnTo>
                    <a:lnTo>
                      <a:pt x="1027" y="744"/>
                    </a:lnTo>
                    <a:lnTo>
                      <a:pt x="811" y="0"/>
                    </a:lnTo>
                    <a:lnTo>
                      <a:pt x="0" y="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e9fe"/>
                  </a:gs>
                  <a:gs pos="100000">
                    <a:srgbClr val="00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933960" y="1433880"/>
              <a:ext cx="739440" cy="889920"/>
              <a:chOff x="6933960" y="1433880"/>
              <a:chExt cx="739440" cy="889920"/>
            </a:xfrm>
          </p:grpSpPr>
          <p:sp>
            <p:nvSpPr>
              <p:cNvPr id="424" name=""/>
              <p:cNvSpPr/>
              <p:nvPr/>
            </p:nvSpPr>
            <p:spPr>
              <a:xfrm rot="20700000">
                <a:off x="7124040" y="1728000"/>
                <a:ext cx="224280" cy="220320"/>
              </a:xfrm>
              <a:custGeom>
                <a:avLst/>
                <a:gdLst/>
                <a:ahLst/>
                <a:rect l="l" t="t" r="r" b="b"/>
                <a:pathLst>
                  <a:path w="470" h="461">
                    <a:moveTo>
                      <a:pt x="197" y="0"/>
                    </a:moveTo>
                    <a:cubicBezTo>
                      <a:pt x="148" y="20"/>
                      <a:pt x="41" y="80"/>
                      <a:pt x="16" y="131"/>
                    </a:cubicBezTo>
                    <a:cubicBezTo>
                      <a:pt x="0" y="186"/>
                      <a:pt x="27" y="254"/>
                      <a:pt x="48" y="309"/>
                    </a:cubicBezTo>
                    <a:lnTo>
                      <a:pt x="145" y="461"/>
                    </a:lnTo>
                    <a:lnTo>
                      <a:pt x="373" y="435"/>
                    </a:lnTo>
                    <a:lnTo>
                      <a:pt x="470" y="233"/>
                    </a:lnTo>
                    <a:lnTo>
                      <a:pt x="373" y="81"/>
                    </a:lnTo>
                    <a:lnTo>
                      <a:pt x="311" y="9"/>
                    </a:lnTo>
                    <a:lnTo>
                      <a:pt x="1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bb8c"/>
                  </a:gs>
                  <a:gs pos="100000">
                    <a:srgbClr val="ffcc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0700000">
                <a:off x="7190640" y="1793520"/>
                <a:ext cx="108360" cy="81000"/>
              </a:xfrm>
              <a:custGeom>
                <a:avLst/>
                <a:gdLst/>
                <a:ahLst/>
                <a:rect l="l" t="t" r="r" b="b"/>
                <a:pathLst>
                  <a:path w="227" h="170">
                    <a:moveTo>
                      <a:pt x="0" y="0"/>
                    </a:moveTo>
                    <a:lnTo>
                      <a:pt x="57" y="85"/>
                    </a:lnTo>
                    <a:lnTo>
                      <a:pt x="29" y="170"/>
                    </a:lnTo>
                    <a:lnTo>
                      <a:pt x="85" y="113"/>
                    </a:lnTo>
                    <a:lnTo>
                      <a:pt x="142" y="170"/>
                    </a:lnTo>
                    <a:lnTo>
                      <a:pt x="227" y="113"/>
                    </a:lnTo>
                    <a:lnTo>
                      <a:pt x="170" y="0"/>
                    </a:lnTo>
                    <a:lnTo>
                      <a:pt x="8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0700000">
                <a:off x="7023960" y="1492920"/>
                <a:ext cx="558720" cy="771480"/>
              </a:xfrm>
              <a:custGeom>
                <a:avLst/>
                <a:gdLst/>
                <a:ahLst/>
                <a:rect l="l" t="t" r="r" b="b"/>
                <a:pathLst>
                  <a:path w="1170" h="1614">
                    <a:moveTo>
                      <a:pt x="234" y="56"/>
                    </a:moveTo>
                    <a:lnTo>
                      <a:pt x="459" y="176"/>
                    </a:lnTo>
                    <a:lnTo>
                      <a:pt x="642" y="338"/>
                    </a:lnTo>
                    <a:lnTo>
                      <a:pt x="804" y="507"/>
                    </a:lnTo>
                    <a:cubicBezTo>
                      <a:pt x="856" y="576"/>
                      <a:pt x="915" y="659"/>
                      <a:pt x="954" y="753"/>
                    </a:cubicBezTo>
                    <a:cubicBezTo>
                      <a:pt x="993" y="847"/>
                      <a:pt x="1017" y="978"/>
                      <a:pt x="1038" y="1074"/>
                    </a:cubicBezTo>
                    <a:cubicBezTo>
                      <a:pt x="1059" y="1170"/>
                      <a:pt x="1061" y="1242"/>
                      <a:pt x="1083" y="1332"/>
                    </a:cubicBezTo>
                    <a:lnTo>
                      <a:pt x="1170" y="1614"/>
                    </a:lnTo>
                    <a:lnTo>
                      <a:pt x="780" y="1614"/>
                    </a:lnTo>
                    <a:cubicBezTo>
                      <a:pt x="667" y="1572"/>
                      <a:pt x="566" y="1462"/>
                      <a:pt x="489" y="1359"/>
                    </a:cubicBezTo>
                    <a:cubicBezTo>
                      <a:pt x="406" y="1257"/>
                      <a:pt x="388" y="1081"/>
                      <a:pt x="321" y="997"/>
                    </a:cubicBezTo>
                    <a:lnTo>
                      <a:pt x="162" y="885"/>
                    </a:lnTo>
                    <a:lnTo>
                      <a:pt x="66" y="770"/>
                    </a:lnTo>
                    <a:cubicBezTo>
                      <a:pt x="50" y="732"/>
                      <a:pt x="47" y="676"/>
                      <a:pt x="66" y="657"/>
                    </a:cubicBezTo>
                    <a:cubicBezTo>
                      <a:pt x="85" y="638"/>
                      <a:pt x="141" y="652"/>
                      <a:pt x="179" y="657"/>
                    </a:cubicBezTo>
                    <a:cubicBezTo>
                      <a:pt x="213" y="663"/>
                      <a:pt x="242" y="679"/>
                      <a:pt x="270" y="693"/>
                    </a:cubicBezTo>
                    <a:cubicBezTo>
                      <a:pt x="298" y="707"/>
                      <a:pt x="314" y="724"/>
                      <a:pt x="349" y="742"/>
                    </a:cubicBezTo>
                    <a:cubicBezTo>
                      <a:pt x="384" y="760"/>
                      <a:pt x="449" y="810"/>
                      <a:pt x="477" y="801"/>
                    </a:cubicBezTo>
                    <a:cubicBezTo>
                      <a:pt x="505" y="792"/>
                      <a:pt x="515" y="727"/>
                      <a:pt x="519" y="685"/>
                    </a:cubicBezTo>
                    <a:lnTo>
                      <a:pt x="486" y="573"/>
                    </a:lnTo>
                    <a:lnTo>
                      <a:pt x="406" y="459"/>
                    </a:lnTo>
                    <a:lnTo>
                      <a:pt x="279" y="288"/>
                    </a:lnTo>
                    <a:lnTo>
                      <a:pt x="66" y="155"/>
                    </a:lnTo>
                    <a:cubicBezTo>
                      <a:pt x="24" y="114"/>
                      <a:pt x="0" y="84"/>
                      <a:pt x="24" y="42"/>
                    </a:cubicBezTo>
                    <a:cubicBezTo>
                      <a:pt x="48" y="0"/>
                      <a:pt x="86" y="34"/>
                      <a:pt x="123" y="33"/>
                    </a:cubicBezTo>
                    <a:lnTo>
                      <a:pt x="234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fc0"/>
                  </a:gs>
                  <a:gs pos="100000">
                    <a:srgbClr val="ffcc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977240" y="1052640"/>
            <a:ext cx="1422360" cy="1245960"/>
            <a:chOff x="7977240" y="1052640"/>
            <a:chExt cx="1422360" cy="1245960"/>
          </a:xfrm>
        </p:grpSpPr>
        <p:grpSp>
          <p:nvGrpSpPr>
            <p:cNvPr id="428" name=""/>
            <p:cNvGrpSpPr/>
            <p:nvPr/>
          </p:nvGrpSpPr>
          <p:grpSpPr>
            <a:xfrm>
              <a:off x="7977240" y="1052640"/>
              <a:ext cx="1324080" cy="1245960"/>
              <a:chOff x="7977240" y="1052640"/>
              <a:chExt cx="1324080" cy="1245960"/>
            </a:xfrm>
          </p:grpSpPr>
          <p:sp>
            <p:nvSpPr>
              <p:cNvPr id="429" name=""/>
              <p:cNvSpPr/>
              <p:nvPr/>
            </p:nvSpPr>
            <p:spPr>
              <a:xfrm>
                <a:off x="8003160" y="1052640"/>
                <a:ext cx="1298160" cy="1245960"/>
              </a:xfrm>
              <a:custGeom>
                <a:avLst/>
                <a:gdLst/>
                <a:ahLst/>
                <a:rect l="l" t="t" r="r" b="b"/>
                <a:pathLst>
                  <a:path w="1446" h="1389">
                    <a:moveTo>
                      <a:pt x="0" y="85"/>
                    </a:moveTo>
                    <a:lnTo>
                      <a:pt x="1162" y="0"/>
                    </a:lnTo>
                    <a:lnTo>
                      <a:pt x="1446" y="935"/>
                    </a:lnTo>
                    <a:lnTo>
                      <a:pt x="397" y="1389"/>
                    </a:lnTo>
                    <a:lnTo>
                      <a:pt x="0" y="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3c3c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977240" y="1128600"/>
                <a:ext cx="381240" cy="1169640"/>
              </a:xfrm>
              <a:custGeom>
                <a:avLst/>
                <a:gdLst/>
                <a:ahLst/>
                <a:rect l="l" t="t" r="r" b="b"/>
                <a:pathLst>
                  <a:path w="425" h="1304">
                    <a:moveTo>
                      <a:pt x="29" y="0"/>
                    </a:moveTo>
                    <a:lnTo>
                      <a:pt x="425" y="1304"/>
                    </a:lnTo>
                    <a:lnTo>
                      <a:pt x="379" y="1304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053560" y="1150200"/>
                <a:ext cx="393120" cy="1040400"/>
              </a:xfrm>
              <a:custGeom>
                <a:avLst/>
                <a:gdLst/>
                <a:ahLst/>
                <a:rect l="l" t="t" r="r" b="b"/>
                <a:pathLst>
                  <a:path w="438" h="1160">
                    <a:moveTo>
                      <a:pt x="0" y="4"/>
                    </a:moveTo>
                    <a:lnTo>
                      <a:pt x="346" y="1160"/>
                    </a:lnTo>
                    <a:lnTo>
                      <a:pt x="438" y="1108"/>
                    </a:lnTo>
                    <a:lnTo>
                      <a:pt x="10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996040" y="1085760"/>
                <a:ext cx="258480" cy="752400"/>
              </a:xfrm>
              <a:custGeom>
                <a:avLst/>
                <a:gdLst/>
                <a:ahLst/>
                <a:rect l="l" t="t" r="r" b="b"/>
                <a:pathLst>
                  <a:path w="288" h="839">
                    <a:moveTo>
                      <a:pt x="40" y="0"/>
                    </a:moveTo>
                    <a:lnTo>
                      <a:pt x="288" y="824"/>
                    </a:lnTo>
                    <a:lnTo>
                      <a:pt x="242" y="839"/>
                    </a:lnTo>
                    <a:lnTo>
                      <a:pt x="0" y="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181000" y="1110960"/>
                <a:ext cx="1016280" cy="1018800"/>
              </a:xfrm>
              <a:custGeom>
                <a:avLst/>
                <a:gdLst/>
                <a:ahLst/>
                <a:rect l="l" t="t" r="r" b="b"/>
                <a:pathLst>
                  <a:path w="1132" h="1136">
                    <a:moveTo>
                      <a:pt x="0" y="72"/>
                    </a:moveTo>
                    <a:lnTo>
                      <a:pt x="896" y="0"/>
                    </a:lnTo>
                    <a:lnTo>
                      <a:pt x="1132" y="820"/>
                    </a:lnTo>
                    <a:lnTo>
                      <a:pt x="328" y="113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32120" y="1132560"/>
                <a:ext cx="921960" cy="911160"/>
              </a:xfrm>
              <a:custGeom>
                <a:avLst/>
                <a:gdLst/>
                <a:ahLst/>
                <a:rect l="l" t="t" r="r" b="b"/>
                <a:pathLst>
                  <a:path w="1027" h="1016">
                    <a:moveTo>
                      <a:pt x="0" y="81"/>
                    </a:moveTo>
                    <a:lnTo>
                      <a:pt x="275" y="1016"/>
                    </a:lnTo>
                    <a:lnTo>
                      <a:pt x="1027" y="744"/>
                    </a:lnTo>
                    <a:lnTo>
                      <a:pt x="811" y="0"/>
                    </a:lnTo>
                    <a:lnTo>
                      <a:pt x="0" y="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e9fe"/>
                  </a:gs>
                  <a:gs pos="100000">
                    <a:srgbClr val="00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8659800" y="1397520"/>
              <a:ext cx="739800" cy="889920"/>
              <a:chOff x="8659800" y="1397520"/>
              <a:chExt cx="739800" cy="889920"/>
            </a:xfrm>
          </p:grpSpPr>
          <p:sp>
            <p:nvSpPr>
              <p:cNvPr id="436" name=""/>
              <p:cNvSpPr/>
              <p:nvPr/>
            </p:nvSpPr>
            <p:spPr>
              <a:xfrm rot="20700000">
                <a:off x="8849880" y="1691640"/>
                <a:ext cx="224640" cy="220320"/>
              </a:xfrm>
              <a:custGeom>
                <a:avLst/>
                <a:gdLst/>
                <a:ahLst/>
                <a:rect l="l" t="t" r="r" b="b"/>
                <a:pathLst>
                  <a:path w="470" h="461">
                    <a:moveTo>
                      <a:pt x="197" y="0"/>
                    </a:moveTo>
                    <a:cubicBezTo>
                      <a:pt x="148" y="20"/>
                      <a:pt x="41" y="80"/>
                      <a:pt x="16" y="131"/>
                    </a:cubicBezTo>
                    <a:cubicBezTo>
                      <a:pt x="0" y="186"/>
                      <a:pt x="27" y="254"/>
                      <a:pt x="48" y="309"/>
                    </a:cubicBezTo>
                    <a:lnTo>
                      <a:pt x="145" y="461"/>
                    </a:lnTo>
                    <a:lnTo>
                      <a:pt x="373" y="435"/>
                    </a:lnTo>
                    <a:lnTo>
                      <a:pt x="470" y="233"/>
                    </a:lnTo>
                    <a:lnTo>
                      <a:pt x="373" y="81"/>
                    </a:lnTo>
                    <a:lnTo>
                      <a:pt x="311" y="9"/>
                    </a:lnTo>
                    <a:lnTo>
                      <a:pt x="1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bb8c"/>
                  </a:gs>
                  <a:gs pos="100000">
                    <a:srgbClr val="ffcc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0700000">
                <a:off x="8916480" y="1757160"/>
                <a:ext cx="108360" cy="81000"/>
              </a:xfrm>
              <a:custGeom>
                <a:avLst/>
                <a:gdLst/>
                <a:ahLst/>
                <a:rect l="l" t="t" r="r" b="b"/>
                <a:pathLst>
                  <a:path w="227" h="170">
                    <a:moveTo>
                      <a:pt x="0" y="0"/>
                    </a:moveTo>
                    <a:lnTo>
                      <a:pt x="57" y="85"/>
                    </a:lnTo>
                    <a:lnTo>
                      <a:pt x="29" y="170"/>
                    </a:lnTo>
                    <a:lnTo>
                      <a:pt x="85" y="113"/>
                    </a:lnTo>
                    <a:lnTo>
                      <a:pt x="142" y="170"/>
                    </a:lnTo>
                    <a:lnTo>
                      <a:pt x="227" y="113"/>
                    </a:lnTo>
                    <a:lnTo>
                      <a:pt x="170" y="0"/>
                    </a:lnTo>
                    <a:lnTo>
                      <a:pt x="8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20700000">
                <a:off x="8749800" y="1456560"/>
                <a:ext cx="559080" cy="771480"/>
              </a:xfrm>
              <a:custGeom>
                <a:avLst/>
                <a:gdLst/>
                <a:ahLst/>
                <a:rect l="l" t="t" r="r" b="b"/>
                <a:pathLst>
                  <a:path w="1170" h="1614">
                    <a:moveTo>
                      <a:pt x="234" y="56"/>
                    </a:moveTo>
                    <a:lnTo>
                      <a:pt x="459" y="176"/>
                    </a:lnTo>
                    <a:lnTo>
                      <a:pt x="642" y="338"/>
                    </a:lnTo>
                    <a:lnTo>
                      <a:pt x="804" y="507"/>
                    </a:lnTo>
                    <a:cubicBezTo>
                      <a:pt x="856" y="576"/>
                      <a:pt x="915" y="659"/>
                      <a:pt x="954" y="753"/>
                    </a:cubicBezTo>
                    <a:cubicBezTo>
                      <a:pt x="993" y="847"/>
                      <a:pt x="1017" y="978"/>
                      <a:pt x="1038" y="1074"/>
                    </a:cubicBezTo>
                    <a:cubicBezTo>
                      <a:pt x="1059" y="1170"/>
                      <a:pt x="1061" y="1242"/>
                      <a:pt x="1083" y="1332"/>
                    </a:cubicBezTo>
                    <a:lnTo>
                      <a:pt x="1170" y="1614"/>
                    </a:lnTo>
                    <a:lnTo>
                      <a:pt x="780" y="1614"/>
                    </a:lnTo>
                    <a:cubicBezTo>
                      <a:pt x="667" y="1572"/>
                      <a:pt x="566" y="1462"/>
                      <a:pt x="489" y="1359"/>
                    </a:cubicBezTo>
                    <a:cubicBezTo>
                      <a:pt x="406" y="1257"/>
                      <a:pt x="388" y="1081"/>
                      <a:pt x="321" y="997"/>
                    </a:cubicBezTo>
                    <a:lnTo>
                      <a:pt x="162" y="885"/>
                    </a:lnTo>
                    <a:lnTo>
                      <a:pt x="66" y="770"/>
                    </a:lnTo>
                    <a:cubicBezTo>
                      <a:pt x="50" y="732"/>
                      <a:pt x="47" y="676"/>
                      <a:pt x="66" y="657"/>
                    </a:cubicBezTo>
                    <a:cubicBezTo>
                      <a:pt x="85" y="638"/>
                      <a:pt x="141" y="652"/>
                      <a:pt x="179" y="657"/>
                    </a:cubicBezTo>
                    <a:cubicBezTo>
                      <a:pt x="213" y="663"/>
                      <a:pt x="242" y="679"/>
                      <a:pt x="270" y="693"/>
                    </a:cubicBezTo>
                    <a:cubicBezTo>
                      <a:pt x="298" y="707"/>
                      <a:pt x="314" y="724"/>
                      <a:pt x="349" y="742"/>
                    </a:cubicBezTo>
                    <a:cubicBezTo>
                      <a:pt x="384" y="760"/>
                      <a:pt x="449" y="810"/>
                      <a:pt x="477" y="801"/>
                    </a:cubicBezTo>
                    <a:cubicBezTo>
                      <a:pt x="505" y="792"/>
                      <a:pt x="515" y="727"/>
                      <a:pt x="519" y="685"/>
                    </a:cubicBezTo>
                    <a:lnTo>
                      <a:pt x="486" y="573"/>
                    </a:lnTo>
                    <a:lnTo>
                      <a:pt x="406" y="459"/>
                    </a:lnTo>
                    <a:lnTo>
                      <a:pt x="279" y="288"/>
                    </a:lnTo>
                    <a:lnTo>
                      <a:pt x="66" y="155"/>
                    </a:lnTo>
                    <a:cubicBezTo>
                      <a:pt x="24" y="114"/>
                      <a:pt x="0" y="84"/>
                      <a:pt x="24" y="42"/>
                    </a:cubicBezTo>
                    <a:cubicBezTo>
                      <a:pt x="48" y="0"/>
                      <a:pt x="86" y="34"/>
                      <a:pt x="123" y="33"/>
                    </a:cubicBezTo>
                    <a:lnTo>
                      <a:pt x="234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fc0"/>
                  </a:gs>
                  <a:gs pos="100000">
                    <a:srgbClr val="ffcc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488880" y="3075120"/>
            <a:ext cx="1438200" cy="1015920"/>
            <a:chOff x="488880" y="3075120"/>
            <a:chExt cx="1438200" cy="1015920"/>
          </a:xfrm>
        </p:grpSpPr>
        <p:sp>
          <p:nvSpPr>
            <p:cNvPr id="440" name=""/>
            <p:cNvSpPr/>
            <p:nvPr/>
          </p:nvSpPr>
          <p:spPr>
            <a:xfrm>
              <a:off x="488880" y="3075120"/>
              <a:ext cx="1438200" cy="1015920"/>
            </a:xfrm>
            <a:custGeom>
              <a:avLst/>
              <a:gdLst/>
              <a:ahLst/>
              <a:rect l="l" t="t" r="r" b="b"/>
              <a:pathLst>
                <a:path w="3870" h="2736">
                  <a:moveTo>
                    <a:pt x="0" y="2037"/>
                  </a:moveTo>
                  <a:lnTo>
                    <a:pt x="45" y="2111"/>
                  </a:lnTo>
                  <a:lnTo>
                    <a:pt x="90" y="2166"/>
                  </a:lnTo>
                  <a:lnTo>
                    <a:pt x="181" y="2202"/>
                  </a:lnTo>
                  <a:lnTo>
                    <a:pt x="2580" y="2724"/>
                  </a:lnTo>
                  <a:lnTo>
                    <a:pt x="2652" y="2736"/>
                  </a:lnTo>
                  <a:lnTo>
                    <a:pt x="2710" y="2729"/>
                  </a:lnTo>
                  <a:lnTo>
                    <a:pt x="2777" y="2662"/>
                  </a:lnTo>
                  <a:lnTo>
                    <a:pt x="3846" y="801"/>
                  </a:lnTo>
                  <a:lnTo>
                    <a:pt x="3870" y="747"/>
                  </a:lnTo>
                  <a:lnTo>
                    <a:pt x="3867" y="708"/>
                  </a:lnTo>
                  <a:lnTo>
                    <a:pt x="3848" y="655"/>
                  </a:lnTo>
                  <a:lnTo>
                    <a:pt x="3809" y="583"/>
                  </a:lnTo>
                  <a:lnTo>
                    <a:pt x="3747" y="554"/>
                  </a:lnTo>
                  <a:lnTo>
                    <a:pt x="1251" y="7"/>
                  </a:lnTo>
                  <a:lnTo>
                    <a:pt x="1182" y="0"/>
                  </a:lnTo>
                  <a:lnTo>
                    <a:pt x="1131" y="27"/>
                  </a:lnTo>
                  <a:lnTo>
                    <a:pt x="1088" y="84"/>
                  </a:lnTo>
                  <a:lnTo>
                    <a:pt x="13" y="1961"/>
                  </a:lnTo>
                  <a:lnTo>
                    <a:pt x="0" y="2037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17171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40720" y="3303000"/>
              <a:ext cx="480240" cy="787320"/>
            </a:xfrm>
            <a:custGeom>
              <a:avLst/>
              <a:gdLst/>
              <a:ahLst/>
              <a:rect l="l" t="t" r="r" b="b"/>
              <a:pathLst>
                <a:path w="1292" h="2120">
                  <a:moveTo>
                    <a:pt x="1248" y="0"/>
                  </a:moveTo>
                  <a:lnTo>
                    <a:pt x="164" y="1908"/>
                  </a:lnTo>
                  <a:lnTo>
                    <a:pt x="82" y="2000"/>
                  </a:lnTo>
                  <a:lnTo>
                    <a:pt x="0" y="2009"/>
                  </a:lnTo>
                  <a:lnTo>
                    <a:pt x="106" y="2024"/>
                  </a:lnTo>
                  <a:lnTo>
                    <a:pt x="125" y="2062"/>
                  </a:lnTo>
                  <a:lnTo>
                    <a:pt x="135" y="2096"/>
                  </a:lnTo>
                  <a:lnTo>
                    <a:pt x="125" y="2120"/>
                  </a:lnTo>
                  <a:lnTo>
                    <a:pt x="212" y="2028"/>
                  </a:lnTo>
                  <a:lnTo>
                    <a:pt x="1287" y="147"/>
                  </a:lnTo>
                  <a:lnTo>
                    <a:pt x="1292" y="99"/>
                  </a:lnTo>
                  <a:lnTo>
                    <a:pt x="1272" y="32"/>
                  </a:lnTo>
                  <a:lnTo>
                    <a:pt x="1248" y="0"/>
                  </a:lnTo>
                  <a:close/>
                </a:path>
              </a:pathLst>
            </a:custGeom>
            <a:gradFill rotWithShape="0">
              <a:gsLst>
                <a:gs pos="0">
                  <a:srgbClr val="171717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5000" y="3815640"/>
              <a:ext cx="942120" cy="231480"/>
            </a:xfrm>
            <a:custGeom>
              <a:avLst/>
              <a:gdLst/>
              <a:ahLst/>
              <a:rect l="l" t="t" r="r" b="b"/>
              <a:pathLst>
                <a:path w="2535" h="624">
                  <a:moveTo>
                    <a:pt x="0" y="0"/>
                  </a:moveTo>
                  <a:lnTo>
                    <a:pt x="34" y="53"/>
                  </a:lnTo>
                  <a:lnTo>
                    <a:pt x="68" y="77"/>
                  </a:lnTo>
                  <a:lnTo>
                    <a:pt x="2535" y="620"/>
                  </a:lnTo>
                  <a:lnTo>
                    <a:pt x="2496" y="624"/>
                  </a:lnTo>
                  <a:lnTo>
                    <a:pt x="39" y="87"/>
                  </a:lnTo>
                  <a:lnTo>
                    <a:pt x="15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8440" y="3118680"/>
              <a:ext cx="1254240" cy="848160"/>
            </a:xfrm>
            <a:custGeom>
              <a:avLst/>
              <a:gdLst/>
              <a:ahLst/>
              <a:rect l="l" t="t" r="r" b="b"/>
              <a:pathLst>
                <a:path w="3375" h="2284">
                  <a:moveTo>
                    <a:pt x="3375" y="532"/>
                  </a:moveTo>
                  <a:lnTo>
                    <a:pt x="984" y="0"/>
                  </a:lnTo>
                  <a:lnTo>
                    <a:pt x="0" y="1737"/>
                  </a:lnTo>
                  <a:lnTo>
                    <a:pt x="2352" y="2284"/>
                  </a:lnTo>
                  <a:lnTo>
                    <a:pt x="3375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5080" y="3135600"/>
              <a:ext cx="1193400" cy="808560"/>
            </a:xfrm>
            <a:custGeom>
              <a:avLst/>
              <a:gdLst/>
              <a:ahLst/>
              <a:rect l="l" t="t" r="r" b="b"/>
              <a:pathLst>
                <a:path w="3211" h="2177">
                  <a:moveTo>
                    <a:pt x="3211" y="502"/>
                  </a:moveTo>
                  <a:lnTo>
                    <a:pt x="946" y="0"/>
                  </a:lnTo>
                  <a:lnTo>
                    <a:pt x="0" y="1659"/>
                  </a:lnTo>
                  <a:lnTo>
                    <a:pt x="2237" y="2177"/>
                  </a:lnTo>
                  <a:lnTo>
                    <a:pt x="3211" y="502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362320" y="3146400"/>
            <a:ext cx="1438200" cy="1015920"/>
            <a:chOff x="2362320" y="3146400"/>
            <a:chExt cx="1438200" cy="1015920"/>
          </a:xfrm>
        </p:grpSpPr>
        <p:sp>
          <p:nvSpPr>
            <p:cNvPr id="446" name=""/>
            <p:cNvSpPr/>
            <p:nvPr/>
          </p:nvSpPr>
          <p:spPr>
            <a:xfrm>
              <a:off x="2362320" y="3146400"/>
              <a:ext cx="1438200" cy="1015920"/>
            </a:xfrm>
            <a:custGeom>
              <a:avLst/>
              <a:gdLst/>
              <a:ahLst/>
              <a:rect l="l" t="t" r="r" b="b"/>
              <a:pathLst>
                <a:path w="3870" h="2736">
                  <a:moveTo>
                    <a:pt x="0" y="2037"/>
                  </a:moveTo>
                  <a:lnTo>
                    <a:pt x="45" y="2111"/>
                  </a:lnTo>
                  <a:lnTo>
                    <a:pt x="90" y="2166"/>
                  </a:lnTo>
                  <a:lnTo>
                    <a:pt x="181" y="2202"/>
                  </a:lnTo>
                  <a:lnTo>
                    <a:pt x="2580" y="2724"/>
                  </a:lnTo>
                  <a:lnTo>
                    <a:pt x="2652" y="2736"/>
                  </a:lnTo>
                  <a:lnTo>
                    <a:pt x="2710" y="2729"/>
                  </a:lnTo>
                  <a:lnTo>
                    <a:pt x="2777" y="2662"/>
                  </a:lnTo>
                  <a:lnTo>
                    <a:pt x="3846" y="801"/>
                  </a:lnTo>
                  <a:lnTo>
                    <a:pt x="3870" y="747"/>
                  </a:lnTo>
                  <a:lnTo>
                    <a:pt x="3867" y="708"/>
                  </a:lnTo>
                  <a:lnTo>
                    <a:pt x="3848" y="655"/>
                  </a:lnTo>
                  <a:lnTo>
                    <a:pt x="3809" y="583"/>
                  </a:lnTo>
                  <a:lnTo>
                    <a:pt x="3747" y="554"/>
                  </a:lnTo>
                  <a:lnTo>
                    <a:pt x="1251" y="7"/>
                  </a:lnTo>
                  <a:lnTo>
                    <a:pt x="1182" y="0"/>
                  </a:lnTo>
                  <a:lnTo>
                    <a:pt x="1131" y="27"/>
                  </a:lnTo>
                  <a:lnTo>
                    <a:pt x="1088" y="84"/>
                  </a:lnTo>
                  <a:lnTo>
                    <a:pt x="13" y="1961"/>
                  </a:lnTo>
                  <a:lnTo>
                    <a:pt x="0" y="2037"/>
                  </a:lnTo>
                  <a:close/>
                </a:path>
              </a:pathLst>
            </a:custGeom>
            <a:gradFill rotWithShape="0">
              <a:gsLst>
                <a:gs pos="0">
                  <a:srgbClr val="e2e2e2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14160" y="3374280"/>
              <a:ext cx="480240" cy="787320"/>
            </a:xfrm>
            <a:custGeom>
              <a:avLst/>
              <a:gdLst/>
              <a:ahLst/>
              <a:rect l="l" t="t" r="r" b="b"/>
              <a:pathLst>
                <a:path w="1292" h="2120">
                  <a:moveTo>
                    <a:pt x="1248" y="0"/>
                  </a:moveTo>
                  <a:lnTo>
                    <a:pt x="164" y="1908"/>
                  </a:lnTo>
                  <a:lnTo>
                    <a:pt x="82" y="2000"/>
                  </a:lnTo>
                  <a:lnTo>
                    <a:pt x="0" y="2009"/>
                  </a:lnTo>
                  <a:lnTo>
                    <a:pt x="106" y="2024"/>
                  </a:lnTo>
                  <a:lnTo>
                    <a:pt x="125" y="2062"/>
                  </a:lnTo>
                  <a:lnTo>
                    <a:pt x="135" y="2096"/>
                  </a:lnTo>
                  <a:lnTo>
                    <a:pt x="125" y="2120"/>
                  </a:lnTo>
                  <a:lnTo>
                    <a:pt x="212" y="2028"/>
                  </a:lnTo>
                  <a:lnTo>
                    <a:pt x="1287" y="147"/>
                  </a:lnTo>
                  <a:lnTo>
                    <a:pt x="1292" y="99"/>
                  </a:lnTo>
                  <a:lnTo>
                    <a:pt x="1272" y="32"/>
                  </a:lnTo>
                  <a:lnTo>
                    <a:pt x="1248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68440" y="3886920"/>
              <a:ext cx="942120" cy="231480"/>
            </a:xfrm>
            <a:custGeom>
              <a:avLst/>
              <a:gdLst/>
              <a:ahLst/>
              <a:rect l="l" t="t" r="r" b="b"/>
              <a:pathLst>
                <a:path w="2535" h="624">
                  <a:moveTo>
                    <a:pt x="0" y="0"/>
                  </a:moveTo>
                  <a:lnTo>
                    <a:pt x="34" y="53"/>
                  </a:lnTo>
                  <a:lnTo>
                    <a:pt x="68" y="77"/>
                  </a:lnTo>
                  <a:lnTo>
                    <a:pt x="2535" y="620"/>
                  </a:lnTo>
                  <a:lnTo>
                    <a:pt x="2496" y="624"/>
                  </a:lnTo>
                  <a:lnTo>
                    <a:pt x="39" y="87"/>
                  </a:lnTo>
                  <a:lnTo>
                    <a:pt x="15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41880" y="3189960"/>
              <a:ext cx="1254240" cy="848160"/>
            </a:xfrm>
            <a:custGeom>
              <a:avLst/>
              <a:gdLst/>
              <a:ahLst/>
              <a:rect l="l" t="t" r="r" b="b"/>
              <a:pathLst>
                <a:path w="3375" h="2284">
                  <a:moveTo>
                    <a:pt x="3375" y="532"/>
                  </a:moveTo>
                  <a:lnTo>
                    <a:pt x="984" y="0"/>
                  </a:lnTo>
                  <a:lnTo>
                    <a:pt x="0" y="1737"/>
                  </a:lnTo>
                  <a:lnTo>
                    <a:pt x="2352" y="2284"/>
                  </a:lnTo>
                  <a:lnTo>
                    <a:pt x="3375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68520" y="3206880"/>
              <a:ext cx="1193400" cy="808560"/>
            </a:xfrm>
            <a:custGeom>
              <a:avLst/>
              <a:gdLst/>
              <a:ahLst/>
              <a:rect l="l" t="t" r="r" b="b"/>
              <a:pathLst>
                <a:path w="3211" h="2177">
                  <a:moveTo>
                    <a:pt x="3211" y="502"/>
                  </a:moveTo>
                  <a:lnTo>
                    <a:pt x="946" y="0"/>
                  </a:lnTo>
                  <a:lnTo>
                    <a:pt x="0" y="1659"/>
                  </a:lnTo>
                  <a:lnTo>
                    <a:pt x="2237" y="2177"/>
                  </a:lnTo>
                  <a:lnTo>
                    <a:pt x="3211" y="502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5600" y="3063960"/>
            <a:ext cx="1450800" cy="1082160"/>
            <a:chOff x="6105600" y="3063960"/>
            <a:chExt cx="1450800" cy="1082160"/>
          </a:xfrm>
        </p:grpSpPr>
        <p:sp>
          <p:nvSpPr>
            <p:cNvPr id="452" name=""/>
            <p:cNvSpPr/>
            <p:nvPr/>
          </p:nvSpPr>
          <p:spPr>
            <a:xfrm>
              <a:off x="6105600" y="3063960"/>
              <a:ext cx="1450800" cy="1024560"/>
            </a:xfrm>
            <a:prstGeom prst="roundRect">
              <a:avLst>
                <a:gd name="adj" fmla="val 573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28440" y="4107600"/>
              <a:ext cx="1005480" cy="38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02680" y="4011480"/>
              <a:ext cx="657360" cy="134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05600" y="3160440"/>
              <a:ext cx="1450800" cy="81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05600" y="3180240"/>
              <a:ext cx="1450800" cy="7722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dbec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65880" y="3991680"/>
              <a:ext cx="57960" cy="57960"/>
            </a:xfrm>
            <a:prstGeom prst="ellipse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42920" y="3991680"/>
              <a:ext cx="57960" cy="57960"/>
            </a:xfrm>
            <a:prstGeom prst="ellipse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20680" y="3991680"/>
              <a:ext cx="57960" cy="57960"/>
            </a:xfrm>
            <a:prstGeom prst="ellipse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7977240" y="3063960"/>
            <a:ext cx="1450800" cy="1082160"/>
            <a:chOff x="7977240" y="3063960"/>
            <a:chExt cx="1450800" cy="1082160"/>
          </a:xfrm>
        </p:grpSpPr>
        <p:sp>
          <p:nvSpPr>
            <p:cNvPr id="461" name=""/>
            <p:cNvSpPr/>
            <p:nvPr/>
          </p:nvSpPr>
          <p:spPr>
            <a:xfrm>
              <a:off x="7977240" y="3063960"/>
              <a:ext cx="1450800" cy="1024560"/>
            </a:xfrm>
            <a:prstGeom prst="roundRect">
              <a:avLst>
                <a:gd name="adj" fmla="val 5736"/>
              </a:avLst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200080" y="4107600"/>
              <a:ext cx="1005480" cy="38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374320" y="4011480"/>
              <a:ext cx="657360" cy="134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77240" y="3160440"/>
              <a:ext cx="1450800" cy="81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77240" y="3180240"/>
              <a:ext cx="1450800" cy="7722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dbec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137520" y="3991680"/>
              <a:ext cx="57960" cy="57960"/>
            </a:xfrm>
            <a:prstGeom prst="ellipse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214560" y="3991680"/>
              <a:ext cx="57960" cy="57960"/>
            </a:xfrm>
            <a:prstGeom prst="ellipse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292320" y="3991680"/>
              <a:ext cx="57960" cy="57960"/>
            </a:xfrm>
            <a:prstGeom prst="ellipse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77520" y="4797360"/>
            <a:ext cx="1090440" cy="1440000"/>
            <a:chOff x="677520" y="4797360"/>
            <a:chExt cx="1090440" cy="1440000"/>
          </a:xfrm>
        </p:grpSpPr>
        <p:sp>
          <p:nvSpPr>
            <p:cNvPr id="470" name=""/>
            <p:cNvSpPr/>
            <p:nvPr/>
          </p:nvSpPr>
          <p:spPr>
            <a:xfrm rot="10800000">
              <a:off x="677520" y="4797360"/>
              <a:ext cx="1090440" cy="1440000"/>
            </a:xfrm>
            <a:custGeom>
              <a:avLst/>
              <a:gdLst>
                <a:gd name="textAreaLeft" fmla="*/ 10800 w 1090440"/>
                <a:gd name="textAreaRight" fmla="*/ 1079640 w 1090440"/>
                <a:gd name="textAreaTop" fmla="*/ 10800 h 1440000"/>
                <a:gd name="textAreaBottom" fmla="*/ 1429200 h 1440000"/>
              </a:gdLst>
              <a:ahLst/>
              <a:rect l="textAreaLeft" t="textAreaTop" r="textAreaRight" b="textAreaBottom"/>
              <a:pathLst>
                <a:path w="21600" h="28522">
                  <a:moveTo>
                    <a:pt x="735" y="0"/>
                  </a:moveTo>
                  <a:arcTo wR="735" hR="735" stAng="16200000" swAng="-5400000"/>
                  <a:lnTo>
                    <a:pt x="0" y="27787"/>
                  </a:lnTo>
                  <a:arcTo wR="735" hR="735" stAng="10800000" swAng="-5400000"/>
                  <a:lnTo>
                    <a:pt x="20865" y="28522"/>
                  </a:lnTo>
                  <a:arcTo wR="735" hR="735" stAng="5400000" swAng="-5400000"/>
                  <a:lnTo>
                    <a:pt x="21600" y="735"/>
                  </a:lnTo>
                  <a:arcTo wR="735" hR="735" stAng="0" swAng="-5400000"/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0800000">
              <a:off x="677520" y="4797360"/>
              <a:ext cx="1090440" cy="1440000"/>
            </a:xfrm>
            <a:custGeom>
              <a:avLst/>
              <a:gdLst>
                <a:gd name="textAreaLeft" fmla="*/ 10800 w 1090440"/>
                <a:gd name="textAreaRight" fmla="*/ 1079640 w 1090440"/>
                <a:gd name="textAreaTop" fmla="*/ 10800 h 1440000"/>
                <a:gd name="textAreaBottom" fmla="*/ 1429200 h 1440000"/>
              </a:gdLst>
              <a:ahLst/>
              <a:rect l="textAreaLeft" t="textAreaTop" r="textAreaRight" b="textAreaBottom"/>
              <a:pathLst>
                <a:path w="21600" h="28522">
                  <a:moveTo>
                    <a:pt x="735" y="0"/>
                  </a:moveTo>
                  <a:arcTo wR="735" hR="735" stAng="16200000" swAng="-5400000"/>
                  <a:lnTo>
                    <a:pt x="0" y="27787"/>
                  </a:lnTo>
                  <a:arcTo wR="735" hR="735" stAng="10800000" swAng="-5400000"/>
                  <a:lnTo>
                    <a:pt x="20865" y="28522"/>
                  </a:lnTo>
                  <a:arcTo wR="735" hR="735" stAng="5400000" swAng="-5400000"/>
                  <a:lnTo>
                    <a:pt x="21600" y="735"/>
                  </a:lnTo>
                  <a:arcTo wR="735" hR="735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0800000">
              <a:off x="677520" y="4797360"/>
              <a:ext cx="1090440" cy="1440000"/>
            </a:xfrm>
            <a:custGeom>
              <a:avLst/>
              <a:gdLst>
                <a:gd name="textAreaLeft" fmla="*/ 10800 w 1090440"/>
                <a:gd name="textAreaRight" fmla="*/ 1079640 w 1090440"/>
                <a:gd name="textAreaTop" fmla="*/ 10800 h 1440000"/>
                <a:gd name="textAreaBottom" fmla="*/ 1429200 h 1440000"/>
              </a:gdLst>
              <a:ahLst/>
              <a:rect l="textAreaLeft" t="textAreaTop" r="textAreaRight" b="textAreaBottom"/>
              <a:pathLst>
                <a:path w="21600" h="28522">
                  <a:moveTo>
                    <a:pt x="735" y="0"/>
                  </a:moveTo>
                  <a:arcTo wR="735" hR="735" stAng="16200000" swAng="-5400000"/>
                  <a:lnTo>
                    <a:pt x="0" y="27787"/>
                  </a:lnTo>
                  <a:arcTo wR="735" hR="735" stAng="10800000" swAng="-5400000"/>
                  <a:lnTo>
                    <a:pt x="20865" y="28522"/>
                  </a:lnTo>
                  <a:arcTo wR="735" hR="735" stAng="5400000" swAng="-5400000"/>
                  <a:lnTo>
                    <a:pt x="21600" y="735"/>
                  </a:lnTo>
                  <a:arcTo wR="735" hR="735" stAng="0" swAng="-5400000"/>
                  <a:close/>
                </a:path>
              </a:pathLst>
            </a:cu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0800000">
              <a:off x="756360" y="4875840"/>
              <a:ext cx="933480" cy="128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0800000">
              <a:off x="794520" y="4914360"/>
              <a:ext cx="856800" cy="120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144800" y="6181560"/>
              <a:ext cx="156240" cy="39600"/>
              <a:chOff x="1144800" y="6181560"/>
              <a:chExt cx="156240" cy="39600"/>
            </a:xfrm>
          </p:grpSpPr>
          <p:sp>
            <p:nvSpPr>
              <p:cNvPr id="476" name=""/>
              <p:cNvSpPr/>
              <p:nvPr/>
            </p:nvSpPr>
            <p:spPr>
              <a:xfrm>
                <a:off x="1144800" y="6181560"/>
                <a:ext cx="156240" cy="39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0800000">
                <a:off x="1157760" y="6188040"/>
                <a:ext cx="130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2549160" y="4797360"/>
            <a:ext cx="1090440" cy="1440000"/>
            <a:chOff x="2549160" y="4797360"/>
            <a:chExt cx="1090440" cy="1440000"/>
          </a:xfrm>
        </p:grpSpPr>
        <p:sp>
          <p:nvSpPr>
            <p:cNvPr id="479" name=""/>
            <p:cNvSpPr/>
            <p:nvPr/>
          </p:nvSpPr>
          <p:spPr>
            <a:xfrm rot="10800000">
              <a:off x="2549160" y="4797360"/>
              <a:ext cx="1090440" cy="1440000"/>
            </a:xfrm>
            <a:custGeom>
              <a:avLst/>
              <a:gdLst>
                <a:gd name="textAreaLeft" fmla="*/ 10800 w 1090440"/>
                <a:gd name="textAreaRight" fmla="*/ 1079640 w 1090440"/>
                <a:gd name="textAreaTop" fmla="*/ 10800 h 1440000"/>
                <a:gd name="textAreaBottom" fmla="*/ 1429200 h 1440000"/>
              </a:gdLst>
              <a:ahLst/>
              <a:rect l="textAreaLeft" t="textAreaTop" r="textAreaRight" b="textAreaBottom"/>
              <a:pathLst>
                <a:path w="21600" h="28522">
                  <a:moveTo>
                    <a:pt x="735" y="0"/>
                  </a:moveTo>
                  <a:arcTo wR="735" hR="735" stAng="16200000" swAng="-5400000"/>
                  <a:lnTo>
                    <a:pt x="0" y="27787"/>
                  </a:lnTo>
                  <a:arcTo wR="735" hR="735" stAng="10800000" swAng="-5400000"/>
                  <a:lnTo>
                    <a:pt x="20865" y="28522"/>
                  </a:lnTo>
                  <a:arcTo wR="735" hR="735" stAng="5400000" swAng="-5400000"/>
                  <a:lnTo>
                    <a:pt x="21600" y="735"/>
                  </a:lnTo>
                  <a:arcTo wR="735" hR="735" stAng="0" swAng="-5400000"/>
                  <a:close/>
                </a:path>
              </a:pathLst>
            </a:custGeom>
            <a:solidFill>
              <a:srgbClr val="969696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0800000">
              <a:off x="2549160" y="4797360"/>
              <a:ext cx="1090440" cy="1440000"/>
            </a:xfrm>
            <a:custGeom>
              <a:avLst/>
              <a:gdLst>
                <a:gd name="textAreaLeft" fmla="*/ 10800 w 1090440"/>
                <a:gd name="textAreaRight" fmla="*/ 1079640 w 1090440"/>
                <a:gd name="textAreaTop" fmla="*/ 10800 h 1440000"/>
                <a:gd name="textAreaBottom" fmla="*/ 1429200 h 1440000"/>
              </a:gdLst>
              <a:ahLst/>
              <a:rect l="textAreaLeft" t="textAreaTop" r="textAreaRight" b="textAreaBottom"/>
              <a:pathLst>
                <a:path w="21600" h="28522">
                  <a:moveTo>
                    <a:pt x="735" y="0"/>
                  </a:moveTo>
                  <a:arcTo wR="735" hR="735" stAng="16200000" swAng="-5400000"/>
                  <a:lnTo>
                    <a:pt x="0" y="27787"/>
                  </a:lnTo>
                  <a:arcTo wR="735" hR="735" stAng="10800000" swAng="-5400000"/>
                  <a:lnTo>
                    <a:pt x="20865" y="28522"/>
                  </a:lnTo>
                  <a:arcTo wR="735" hR="735" stAng="5400000" swAng="-5400000"/>
                  <a:lnTo>
                    <a:pt x="21600" y="735"/>
                  </a:lnTo>
                  <a:arcTo wR="735" hR="735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0800000">
              <a:off x="2549160" y="4797360"/>
              <a:ext cx="1090440" cy="1440000"/>
            </a:xfrm>
            <a:custGeom>
              <a:avLst/>
              <a:gdLst>
                <a:gd name="textAreaLeft" fmla="*/ 10800 w 1090440"/>
                <a:gd name="textAreaRight" fmla="*/ 1079640 w 1090440"/>
                <a:gd name="textAreaTop" fmla="*/ 10800 h 1440000"/>
                <a:gd name="textAreaBottom" fmla="*/ 1429200 h 1440000"/>
              </a:gdLst>
              <a:ahLst/>
              <a:rect l="textAreaLeft" t="textAreaTop" r="textAreaRight" b="textAreaBottom"/>
              <a:pathLst>
                <a:path w="21600" h="28522">
                  <a:moveTo>
                    <a:pt x="735" y="0"/>
                  </a:moveTo>
                  <a:arcTo wR="735" hR="735" stAng="16200000" swAng="-5400000"/>
                  <a:lnTo>
                    <a:pt x="0" y="27787"/>
                  </a:lnTo>
                  <a:arcTo wR="735" hR="735" stAng="10800000" swAng="-5400000"/>
                  <a:lnTo>
                    <a:pt x="20865" y="28522"/>
                  </a:lnTo>
                  <a:arcTo wR="735" hR="735" stAng="5400000" swAng="-5400000"/>
                  <a:lnTo>
                    <a:pt x="21600" y="735"/>
                  </a:lnTo>
                  <a:arcTo wR="735" hR="735" stAng="0" swAng="-5400000"/>
                  <a:close/>
                </a:path>
              </a:pathLst>
            </a:cu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8100000"/>
            </a:gra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800000">
              <a:off x="2627640" y="4875840"/>
              <a:ext cx="933840" cy="128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0800000">
              <a:off x="2665800" y="4914360"/>
              <a:ext cx="857160" cy="120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016800" y="6181560"/>
              <a:ext cx="156600" cy="39600"/>
              <a:chOff x="3016800" y="6181560"/>
              <a:chExt cx="156600" cy="39600"/>
            </a:xfrm>
          </p:grpSpPr>
          <p:sp>
            <p:nvSpPr>
              <p:cNvPr id="485" name=""/>
              <p:cNvSpPr/>
              <p:nvPr/>
            </p:nvSpPr>
            <p:spPr>
              <a:xfrm>
                <a:off x="3016800" y="6181560"/>
                <a:ext cx="156600" cy="39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0800000">
                <a:off x="3029400" y="6188040"/>
                <a:ext cx="1310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7977240" y="4967280"/>
            <a:ext cx="1439640" cy="1030320"/>
            <a:chOff x="7977240" y="4967280"/>
            <a:chExt cx="1439640" cy="1030320"/>
          </a:xfrm>
        </p:grpSpPr>
        <p:sp>
          <p:nvSpPr>
            <p:cNvPr id="488" name=""/>
            <p:cNvSpPr/>
            <p:nvPr/>
          </p:nvSpPr>
          <p:spPr>
            <a:xfrm>
              <a:off x="7977240" y="4967280"/>
              <a:ext cx="1439640" cy="1030320"/>
            </a:xfrm>
            <a:prstGeom prst="roundRect">
              <a:avLst>
                <a:gd name="adj" fmla="val 609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91640" y="4982040"/>
              <a:ext cx="1410480" cy="1000080"/>
            </a:xfrm>
            <a:prstGeom prst="roundRect">
              <a:avLst>
                <a:gd name="adj" fmla="val 6097"/>
              </a:avLst>
            </a:prstGeom>
            <a:gradFill rotWithShape="0">
              <a:gsLst>
                <a:gs pos="0">
                  <a:srgbClr val="2c2c2c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094600" y="5070240"/>
              <a:ext cx="1204920" cy="8240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38880" y="5114520"/>
              <a:ext cx="1116720" cy="735480"/>
            </a:xfrm>
            <a:prstGeom prst="rect">
              <a:avLst/>
            </a:prstGeom>
            <a:gradFill rotWithShape="0">
              <a:gsLst>
                <a:gs pos="0">
                  <a:srgbClr val="abe2fe"/>
                </a:gs>
                <a:gs pos="100000">
                  <a:srgbClr val="66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638560" y="5923800"/>
              <a:ext cx="117360" cy="2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140520" y="4992840"/>
            <a:ext cx="1376280" cy="984240"/>
            <a:chOff x="6140520" y="4992840"/>
            <a:chExt cx="1376280" cy="984240"/>
          </a:xfrm>
        </p:grpSpPr>
        <p:sp>
          <p:nvSpPr>
            <p:cNvPr id="494" name=""/>
            <p:cNvSpPr/>
            <p:nvPr/>
          </p:nvSpPr>
          <p:spPr>
            <a:xfrm>
              <a:off x="6140520" y="4992840"/>
              <a:ext cx="1376280" cy="984240"/>
            </a:xfrm>
            <a:prstGeom prst="roundRect">
              <a:avLst>
                <a:gd name="adj" fmla="val 609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40520" y="4992840"/>
              <a:ext cx="1376280" cy="984240"/>
            </a:xfrm>
            <a:prstGeom prst="roundRect">
              <a:avLst>
                <a:gd name="adj" fmla="val 609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54560" y="5006880"/>
              <a:ext cx="1347840" cy="955800"/>
            </a:xfrm>
            <a:prstGeom prst="roundRect">
              <a:avLst>
                <a:gd name="adj" fmla="val 6097"/>
              </a:avLst>
            </a:prstGeom>
            <a:gradFill rotWithShape="0">
              <a:gsLst>
                <a:gs pos="0">
                  <a:srgbClr val="2c2c2c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52840" y="5091120"/>
              <a:ext cx="1150920" cy="78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95680" y="5133600"/>
              <a:ext cx="1067040" cy="702360"/>
            </a:xfrm>
            <a:prstGeom prst="rect">
              <a:avLst/>
            </a:prstGeom>
            <a:gradFill rotWithShape="0">
              <a:gsLst>
                <a:gs pos="0">
                  <a:srgbClr val="abe2fe"/>
                </a:gs>
                <a:gs pos="100000">
                  <a:srgbClr val="66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73040" y="5907240"/>
              <a:ext cx="112320" cy="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376520" y="4797360"/>
            <a:ext cx="1090440" cy="1440000"/>
            <a:chOff x="4376520" y="4797360"/>
            <a:chExt cx="1090440" cy="1440000"/>
          </a:xfrm>
        </p:grpSpPr>
        <p:sp>
          <p:nvSpPr>
            <p:cNvPr id="501" name=""/>
            <p:cNvSpPr/>
            <p:nvPr/>
          </p:nvSpPr>
          <p:spPr>
            <a:xfrm rot="10800000">
              <a:off x="4376520" y="4797360"/>
              <a:ext cx="1090440" cy="1440000"/>
            </a:xfrm>
            <a:custGeom>
              <a:avLst/>
              <a:gdLst>
                <a:gd name="textAreaLeft" fmla="*/ 10800 w 1090440"/>
                <a:gd name="textAreaRight" fmla="*/ 1079640 w 1090440"/>
                <a:gd name="textAreaTop" fmla="*/ 10800 h 1440000"/>
                <a:gd name="textAreaBottom" fmla="*/ 1429200 h 1440000"/>
              </a:gdLst>
              <a:ahLst/>
              <a:rect l="textAreaLeft" t="textAreaTop" r="textAreaRight" b="textAreaBottom"/>
              <a:pathLst>
                <a:path w="21600" h="28522">
                  <a:moveTo>
                    <a:pt x="735" y="0"/>
                  </a:moveTo>
                  <a:arcTo wR="735" hR="735" stAng="16200000" swAng="-5400000"/>
                  <a:lnTo>
                    <a:pt x="0" y="27787"/>
                  </a:lnTo>
                  <a:arcTo wR="735" hR="735" stAng="10800000" swAng="-5400000"/>
                  <a:lnTo>
                    <a:pt x="20865" y="28522"/>
                  </a:lnTo>
                  <a:arcTo wR="735" hR="735" stAng="5400000" swAng="-5400000"/>
                  <a:lnTo>
                    <a:pt x="21600" y="735"/>
                  </a:lnTo>
                  <a:arcTo wR="735" hR="735" stAng="0" swAng="-5400000"/>
                  <a:close/>
                </a:path>
              </a:pathLst>
            </a:custGeom>
            <a:solidFill>
              <a:srgbClr val="969696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0800000">
              <a:off x="4376520" y="4797360"/>
              <a:ext cx="1090440" cy="1440000"/>
            </a:xfrm>
            <a:custGeom>
              <a:avLst/>
              <a:gdLst>
                <a:gd name="textAreaLeft" fmla="*/ 10800 w 1090440"/>
                <a:gd name="textAreaRight" fmla="*/ 1079640 w 1090440"/>
                <a:gd name="textAreaTop" fmla="*/ 10800 h 1440000"/>
                <a:gd name="textAreaBottom" fmla="*/ 1429200 h 1440000"/>
              </a:gdLst>
              <a:ahLst/>
              <a:rect l="textAreaLeft" t="textAreaTop" r="textAreaRight" b="textAreaBottom"/>
              <a:pathLst>
                <a:path w="21600" h="28522">
                  <a:moveTo>
                    <a:pt x="735" y="0"/>
                  </a:moveTo>
                  <a:arcTo wR="735" hR="735" stAng="16200000" swAng="-5400000"/>
                  <a:lnTo>
                    <a:pt x="0" y="27787"/>
                  </a:lnTo>
                  <a:arcTo wR="735" hR="735" stAng="10800000" swAng="-5400000"/>
                  <a:lnTo>
                    <a:pt x="20865" y="28522"/>
                  </a:lnTo>
                  <a:arcTo wR="735" hR="735" stAng="5400000" swAng="-5400000"/>
                  <a:lnTo>
                    <a:pt x="21600" y="735"/>
                  </a:lnTo>
                  <a:arcTo wR="735" hR="735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0800000">
              <a:off x="4376520" y="4797360"/>
              <a:ext cx="1090440" cy="1440000"/>
            </a:xfrm>
            <a:custGeom>
              <a:avLst/>
              <a:gdLst>
                <a:gd name="textAreaLeft" fmla="*/ 10800 w 1090440"/>
                <a:gd name="textAreaRight" fmla="*/ 1079640 w 1090440"/>
                <a:gd name="textAreaTop" fmla="*/ 10800 h 1440000"/>
                <a:gd name="textAreaBottom" fmla="*/ 1429200 h 1440000"/>
              </a:gdLst>
              <a:ahLst/>
              <a:rect l="textAreaLeft" t="textAreaTop" r="textAreaRight" b="textAreaBottom"/>
              <a:pathLst>
                <a:path w="21600" h="28522">
                  <a:moveTo>
                    <a:pt x="735" y="0"/>
                  </a:moveTo>
                  <a:arcTo wR="735" hR="735" stAng="16200000" swAng="-5400000"/>
                  <a:lnTo>
                    <a:pt x="0" y="27787"/>
                  </a:lnTo>
                  <a:arcTo wR="735" hR="735" stAng="10800000" swAng="-5400000"/>
                  <a:lnTo>
                    <a:pt x="20865" y="28522"/>
                  </a:lnTo>
                  <a:arcTo wR="735" hR="735" stAng="5400000" swAng="-5400000"/>
                  <a:lnTo>
                    <a:pt x="21600" y="735"/>
                  </a:lnTo>
                  <a:arcTo wR="735" hR="735" stAng="0" swAng="-5400000"/>
                  <a:close/>
                </a:path>
              </a:pathLst>
            </a:custGeom>
            <a:gradFill rotWithShape="0">
              <a:gsLst>
                <a:gs pos="0">
                  <a:srgbClr val="9696ca"/>
                </a:gs>
                <a:gs pos="100000">
                  <a:srgbClr val="333399"/>
                </a:gs>
              </a:gsLst>
              <a:lin ang="8100000"/>
            </a:gra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0800000">
              <a:off x="4455000" y="4875840"/>
              <a:ext cx="933840" cy="128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0800000">
              <a:off x="4493160" y="4914360"/>
              <a:ext cx="857160" cy="120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4844160" y="6181560"/>
              <a:ext cx="156600" cy="39600"/>
              <a:chOff x="4844160" y="6181560"/>
              <a:chExt cx="156600" cy="39600"/>
            </a:xfrm>
          </p:grpSpPr>
          <p:sp>
            <p:nvSpPr>
              <p:cNvPr id="507" name=""/>
              <p:cNvSpPr/>
              <p:nvPr/>
            </p:nvSpPr>
            <p:spPr>
              <a:xfrm>
                <a:off x="4844160" y="6181560"/>
                <a:ext cx="156600" cy="39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0800000">
                <a:off x="4856760" y="6188040"/>
                <a:ext cx="1310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4232160" y="2997360"/>
            <a:ext cx="1449360" cy="1023840"/>
            <a:chOff x="4232160" y="2997360"/>
            <a:chExt cx="1449360" cy="1023840"/>
          </a:xfrm>
        </p:grpSpPr>
        <p:grpSp>
          <p:nvGrpSpPr>
            <p:cNvPr id="510" name=""/>
            <p:cNvGrpSpPr/>
            <p:nvPr/>
          </p:nvGrpSpPr>
          <p:grpSpPr>
            <a:xfrm>
              <a:off x="4232160" y="2997360"/>
              <a:ext cx="1449360" cy="1023840"/>
              <a:chOff x="4232160" y="2997360"/>
              <a:chExt cx="1449360" cy="1023840"/>
            </a:xfrm>
          </p:grpSpPr>
          <p:sp>
            <p:nvSpPr>
              <p:cNvPr id="511" name=""/>
              <p:cNvSpPr/>
              <p:nvPr/>
            </p:nvSpPr>
            <p:spPr>
              <a:xfrm>
                <a:off x="4232160" y="2997360"/>
                <a:ext cx="1449360" cy="1023840"/>
              </a:xfrm>
              <a:custGeom>
                <a:avLst/>
                <a:gdLst/>
                <a:ahLst/>
                <a:rect l="l" t="t" r="r" b="b"/>
                <a:pathLst>
                  <a:path w="3870" h="2736">
                    <a:moveTo>
                      <a:pt x="0" y="2037"/>
                    </a:moveTo>
                    <a:lnTo>
                      <a:pt x="45" y="2111"/>
                    </a:lnTo>
                    <a:lnTo>
                      <a:pt x="90" y="2166"/>
                    </a:lnTo>
                    <a:lnTo>
                      <a:pt x="181" y="2202"/>
                    </a:lnTo>
                    <a:lnTo>
                      <a:pt x="2580" y="2724"/>
                    </a:lnTo>
                    <a:lnTo>
                      <a:pt x="2652" y="2736"/>
                    </a:lnTo>
                    <a:lnTo>
                      <a:pt x="2710" y="2729"/>
                    </a:lnTo>
                    <a:lnTo>
                      <a:pt x="2777" y="2662"/>
                    </a:lnTo>
                    <a:lnTo>
                      <a:pt x="3846" y="801"/>
                    </a:lnTo>
                    <a:lnTo>
                      <a:pt x="3870" y="747"/>
                    </a:lnTo>
                    <a:lnTo>
                      <a:pt x="3867" y="708"/>
                    </a:lnTo>
                    <a:lnTo>
                      <a:pt x="3848" y="655"/>
                    </a:lnTo>
                    <a:lnTo>
                      <a:pt x="3809" y="583"/>
                    </a:lnTo>
                    <a:lnTo>
                      <a:pt x="3747" y="554"/>
                    </a:lnTo>
                    <a:lnTo>
                      <a:pt x="1251" y="7"/>
                    </a:lnTo>
                    <a:lnTo>
                      <a:pt x="1182" y="0"/>
                    </a:lnTo>
                    <a:lnTo>
                      <a:pt x="1131" y="27"/>
                    </a:lnTo>
                    <a:lnTo>
                      <a:pt x="1088" y="84"/>
                    </a:lnTo>
                    <a:lnTo>
                      <a:pt x="13" y="1961"/>
                    </a:lnTo>
                    <a:lnTo>
                      <a:pt x="0" y="2037"/>
                    </a:lnTo>
                    <a:close/>
                  </a:path>
                </a:pathLst>
              </a:custGeom>
              <a:solidFill>
                <a:srgbClr val="333333"/>
              </a:solidFill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4232160" y="2997360"/>
                <a:ext cx="1449360" cy="1023840"/>
                <a:chOff x="4232160" y="2997360"/>
                <a:chExt cx="1449360" cy="10238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232160" y="2997360"/>
                  <a:ext cx="1449360" cy="1023840"/>
                </a:xfrm>
                <a:custGeom>
                  <a:avLst/>
                  <a:gdLst/>
                  <a:ahLst/>
                  <a:rect l="l" t="t" r="r" b="b"/>
                  <a:pathLst>
                    <a:path w="3870" h="2736">
                      <a:moveTo>
                        <a:pt x="0" y="2037"/>
                      </a:moveTo>
                      <a:lnTo>
                        <a:pt x="45" y="2111"/>
                      </a:lnTo>
                      <a:lnTo>
                        <a:pt x="90" y="2166"/>
                      </a:lnTo>
                      <a:lnTo>
                        <a:pt x="181" y="2202"/>
                      </a:lnTo>
                      <a:lnTo>
                        <a:pt x="2580" y="2724"/>
                      </a:lnTo>
                      <a:lnTo>
                        <a:pt x="2652" y="2736"/>
                      </a:lnTo>
                      <a:lnTo>
                        <a:pt x="2710" y="2729"/>
                      </a:lnTo>
                      <a:lnTo>
                        <a:pt x="2777" y="2662"/>
                      </a:lnTo>
                      <a:lnTo>
                        <a:pt x="3846" y="801"/>
                      </a:lnTo>
                      <a:lnTo>
                        <a:pt x="3870" y="747"/>
                      </a:lnTo>
                      <a:lnTo>
                        <a:pt x="3867" y="708"/>
                      </a:lnTo>
                      <a:lnTo>
                        <a:pt x="3848" y="655"/>
                      </a:lnTo>
                      <a:lnTo>
                        <a:pt x="3809" y="583"/>
                      </a:lnTo>
                      <a:lnTo>
                        <a:pt x="3747" y="554"/>
                      </a:lnTo>
                      <a:lnTo>
                        <a:pt x="1251" y="7"/>
                      </a:lnTo>
                      <a:lnTo>
                        <a:pt x="1182" y="0"/>
                      </a:lnTo>
                      <a:lnTo>
                        <a:pt x="1131" y="27"/>
                      </a:lnTo>
                      <a:lnTo>
                        <a:pt x="1088" y="84"/>
                      </a:lnTo>
                      <a:lnTo>
                        <a:pt x="13" y="1961"/>
                      </a:lnTo>
                      <a:lnTo>
                        <a:pt x="0" y="203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17171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191200" y="3227040"/>
                  <a:ext cx="483840" cy="793440"/>
                </a:xfrm>
                <a:custGeom>
                  <a:avLst/>
                  <a:gdLst/>
                  <a:ahLst/>
                  <a:rect l="l" t="t" r="r" b="b"/>
                  <a:pathLst>
                    <a:path w="1292" h="2120">
                      <a:moveTo>
                        <a:pt x="1248" y="0"/>
                      </a:moveTo>
                      <a:lnTo>
                        <a:pt x="164" y="1908"/>
                      </a:lnTo>
                      <a:lnTo>
                        <a:pt x="82" y="2000"/>
                      </a:lnTo>
                      <a:lnTo>
                        <a:pt x="0" y="2009"/>
                      </a:lnTo>
                      <a:lnTo>
                        <a:pt x="106" y="2024"/>
                      </a:lnTo>
                      <a:lnTo>
                        <a:pt x="125" y="2062"/>
                      </a:lnTo>
                      <a:lnTo>
                        <a:pt x="135" y="2096"/>
                      </a:lnTo>
                      <a:lnTo>
                        <a:pt x="125" y="2120"/>
                      </a:lnTo>
                      <a:lnTo>
                        <a:pt x="212" y="2028"/>
                      </a:lnTo>
                      <a:lnTo>
                        <a:pt x="1287" y="147"/>
                      </a:lnTo>
                      <a:lnTo>
                        <a:pt x="1292" y="99"/>
                      </a:lnTo>
                      <a:lnTo>
                        <a:pt x="1272" y="32"/>
                      </a:lnTo>
                      <a:lnTo>
                        <a:pt x="124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71717"/>
                    </a:gs>
                    <a:gs pos="100000">
                      <a:srgbClr val="3333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238280" y="3743640"/>
                  <a:ext cx="949320" cy="233280"/>
                </a:xfrm>
                <a:custGeom>
                  <a:avLst/>
                  <a:gdLst/>
                  <a:ahLst/>
                  <a:rect l="l" t="t" r="r" b="b"/>
                  <a:pathLst>
                    <a:path w="2535" h="624">
                      <a:moveTo>
                        <a:pt x="0" y="0"/>
                      </a:moveTo>
                      <a:lnTo>
                        <a:pt x="34" y="53"/>
                      </a:lnTo>
                      <a:lnTo>
                        <a:pt x="68" y="77"/>
                      </a:lnTo>
                      <a:lnTo>
                        <a:pt x="2535" y="620"/>
                      </a:lnTo>
                      <a:lnTo>
                        <a:pt x="2496" y="624"/>
                      </a:lnTo>
                      <a:lnTo>
                        <a:pt x="39" y="87"/>
                      </a:lnTo>
                      <a:lnTo>
                        <a:pt x="15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312080" y="3041280"/>
                  <a:ext cx="1263960" cy="854640"/>
                </a:xfrm>
                <a:custGeom>
                  <a:avLst/>
                  <a:gdLst/>
                  <a:ahLst/>
                  <a:rect l="l" t="t" r="r" b="b"/>
                  <a:pathLst>
                    <a:path w="3375" h="2284">
                      <a:moveTo>
                        <a:pt x="3375" y="532"/>
                      </a:moveTo>
                      <a:lnTo>
                        <a:pt x="984" y="0"/>
                      </a:lnTo>
                      <a:lnTo>
                        <a:pt x="0" y="1737"/>
                      </a:lnTo>
                      <a:lnTo>
                        <a:pt x="2352" y="2284"/>
                      </a:lnTo>
                      <a:lnTo>
                        <a:pt x="3375" y="5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339080" y="3058200"/>
                  <a:ext cx="1202760" cy="814680"/>
                </a:xfrm>
                <a:custGeom>
                  <a:avLst/>
                  <a:gdLst/>
                  <a:ahLst/>
                  <a:rect l="l" t="t" r="r" b="b"/>
                  <a:pathLst>
                    <a:path w="3211" h="2177">
                      <a:moveTo>
                        <a:pt x="3211" y="502"/>
                      </a:moveTo>
                      <a:lnTo>
                        <a:pt x="946" y="0"/>
                      </a:lnTo>
                      <a:lnTo>
                        <a:pt x="0" y="1659"/>
                      </a:lnTo>
                      <a:lnTo>
                        <a:pt x="2237" y="2177"/>
                      </a:lnTo>
                      <a:lnTo>
                        <a:pt x="3211" y="502"/>
                      </a:lnTo>
                      <a:close/>
                    </a:path>
                  </a:pathLst>
                </a:custGeom>
                <a:solidFill>
                  <a:srgbClr val="33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"/>
            <p:cNvGrpSpPr/>
            <p:nvPr/>
          </p:nvGrpSpPr>
          <p:grpSpPr>
            <a:xfrm>
              <a:off x="4426560" y="3105360"/>
              <a:ext cx="731160" cy="578160"/>
              <a:chOff x="4426560" y="3105360"/>
              <a:chExt cx="731160" cy="578160"/>
            </a:xfrm>
          </p:grpSpPr>
          <p:sp>
            <p:nvSpPr>
              <p:cNvPr id="519" name=""/>
              <p:cNvSpPr/>
              <p:nvPr/>
            </p:nvSpPr>
            <p:spPr>
              <a:xfrm rot="659400">
                <a:off x="4699080" y="311868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bddd5c"/>
                  </a:gs>
                  <a:gs pos="100000">
                    <a:srgbClr val="99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659400">
                <a:off x="4848120" y="314748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dd9dfe"/>
                  </a:gs>
                  <a:gs pos="100000">
                    <a:srgbClr val="cc66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659400">
                <a:off x="4997160" y="3176640"/>
                <a:ext cx="152280" cy="101880"/>
              </a:xfrm>
              <a:prstGeom prst="parallelogram">
                <a:avLst>
                  <a:gd name="adj" fmla="val 37367"/>
                </a:avLst>
              </a:prstGeom>
              <a:gradFill rotWithShape="0">
                <a:gsLst>
                  <a:gs pos="0">
                    <a:srgbClr val="5c9d5c"/>
                  </a:gs>
                  <a:gs pos="100000">
                    <a:srgbClr val="00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659400">
                <a:off x="4611960" y="3247920"/>
                <a:ext cx="151920" cy="102240"/>
              </a:xfrm>
              <a:prstGeom prst="parallelogram">
                <a:avLst>
                  <a:gd name="adj" fmla="val 37148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659400">
                <a:off x="4761000" y="3277080"/>
                <a:ext cx="152280" cy="102240"/>
              </a:xfrm>
              <a:prstGeom prst="parallelogram">
                <a:avLst>
                  <a:gd name="adj" fmla="val 37236"/>
                </a:avLst>
              </a:prstGeom>
              <a:gradFill rotWithShape="0">
                <a:gsLst>
                  <a:gs pos="0">
                    <a:srgbClr val="5cbdbd"/>
                  </a:gs>
                  <a:gs pos="100000">
                    <a:srgbClr val="009999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659400">
                <a:off x="4910400" y="3305880"/>
                <a:ext cx="151920" cy="102240"/>
              </a:xfrm>
              <a:prstGeom prst="parallelogram">
                <a:avLst>
                  <a:gd name="adj" fmla="val 37148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659400">
                <a:off x="4521600" y="338004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7c7cbd"/>
                  </a:gs>
                  <a:gs pos="100000">
                    <a:srgbClr val="333399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659400">
                <a:off x="4671360" y="3409200"/>
                <a:ext cx="152280" cy="101880"/>
              </a:xfrm>
              <a:prstGeom prst="parallelogram">
                <a:avLst>
                  <a:gd name="adj" fmla="val 37367"/>
                </a:avLst>
              </a:prstGeom>
              <a:gradFill rotWithShape="0">
                <a:gsLst>
                  <a:gs pos="0">
                    <a:srgbClr val="ad5c5c"/>
                  </a:gs>
                  <a:gs pos="100000">
                    <a:srgbClr val="8000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659400">
                <a:off x="4820760" y="343836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d6d6d6"/>
                  </a:gs>
                  <a:gs pos="100000">
                    <a:srgbClr val="c0c0c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659400">
                <a:off x="4434840" y="3510000"/>
                <a:ext cx="152280" cy="101880"/>
              </a:xfrm>
              <a:prstGeom prst="parallelogram">
                <a:avLst>
                  <a:gd name="adj" fmla="val 37367"/>
                </a:avLst>
              </a:prstGeom>
              <a:gradFill rotWithShape="0">
                <a:gsLst>
                  <a:gs pos="0">
                    <a:srgbClr val="fe9d5c"/>
                  </a:gs>
                  <a:gs pos="100000">
                    <a:srgbClr val="ff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659400">
                <a:off x="4584240" y="353880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adadad"/>
                  </a:gs>
                  <a:gs pos="100000">
                    <a:srgbClr val="80808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659400">
                <a:off x="4733640" y="356796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"/>
          <p:cNvGrpSpPr/>
          <p:nvPr/>
        </p:nvGrpSpPr>
        <p:grpSpPr>
          <a:xfrm>
            <a:off x="6105600" y="3068640"/>
            <a:ext cx="1449360" cy="1023840"/>
            <a:chOff x="6105600" y="3068640"/>
            <a:chExt cx="1449360" cy="1023840"/>
          </a:xfrm>
        </p:grpSpPr>
        <p:grpSp>
          <p:nvGrpSpPr>
            <p:cNvPr id="532" name=""/>
            <p:cNvGrpSpPr/>
            <p:nvPr/>
          </p:nvGrpSpPr>
          <p:grpSpPr>
            <a:xfrm>
              <a:off x="6105600" y="3068640"/>
              <a:ext cx="1449360" cy="1023840"/>
              <a:chOff x="6105600" y="3068640"/>
              <a:chExt cx="1449360" cy="1023840"/>
            </a:xfrm>
          </p:grpSpPr>
          <p:sp>
            <p:nvSpPr>
              <p:cNvPr id="533" name=""/>
              <p:cNvSpPr/>
              <p:nvPr/>
            </p:nvSpPr>
            <p:spPr>
              <a:xfrm>
                <a:off x="6105600" y="3068640"/>
                <a:ext cx="1449360" cy="1023840"/>
              </a:xfrm>
              <a:custGeom>
                <a:avLst/>
                <a:gdLst/>
                <a:ahLst/>
                <a:rect l="l" t="t" r="r" b="b"/>
                <a:pathLst>
                  <a:path w="3870" h="2736">
                    <a:moveTo>
                      <a:pt x="0" y="2037"/>
                    </a:moveTo>
                    <a:lnTo>
                      <a:pt x="45" y="2111"/>
                    </a:lnTo>
                    <a:lnTo>
                      <a:pt x="90" y="2166"/>
                    </a:lnTo>
                    <a:lnTo>
                      <a:pt x="181" y="2202"/>
                    </a:lnTo>
                    <a:lnTo>
                      <a:pt x="2580" y="2724"/>
                    </a:lnTo>
                    <a:lnTo>
                      <a:pt x="2652" y="2736"/>
                    </a:lnTo>
                    <a:lnTo>
                      <a:pt x="2710" y="2729"/>
                    </a:lnTo>
                    <a:lnTo>
                      <a:pt x="2777" y="2662"/>
                    </a:lnTo>
                    <a:lnTo>
                      <a:pt x="3846" y="801"/>
                    </a:lnTo>
                    <a:lnTo>
                      <a:pt x="3870" y="747"/>
                    </a:lnTo>
                    <a:lnTo>
                      <a:pt x="3867" y="708"/>
                    </a:lnTo>
                    <a:lnTo>
                      <a:pt x="3848" y="655"/>
                    </a:lnTo>
                    <a:lnTo>
                      <a:pt x="3809" y="583"/>
                    </a:lnTo>
                    <a:lnTo>
                      <a:pt x="3747" y="554"/>
                    </a:lnTo>
                    <a:lnTo>
                      <a:pt x="1251" y="7"/>
                    </a:lnTo>
                    <a:lnTo>
                      <a:pt x="1182" y="0"/>
                    </a:lnTo>
                    <a:lnTo>
                      <a:pt x="1131" y="27"/>
                    </a:lnTo>
                    <a:lnTo>
                      <a:pt x="1088" y="84"/>
                    </a:lnTo>
                    <a:lnTo>
                      <a:pt x="13" y="1961"/>
                    </a:lnTo>
                    <a:lnTo>
                      <a:pt x="0" y="2037"/>
                    </a:lnTo>
                    <a:close/>
                  </a:path>
                </a:pathLst>
              </a:custGeom>
              <a:solidFill>
                <a:srgbClr val="333333"/>
              </a:solidFill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6105600" y="3068640"/>
                <a:ext cx="1449360" cy="1023840"/>
                <a:chOff x="6105600" y="3068640"/>
                <a:chExt cx="1449360" cy="10238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6105600" y="3068640"/>
                  <a:ext cx="1449360" cy="1023840"/>
                </a:xfrm>
                <a:custGeom>
                  <a:avLst/>
                  <a:gdLst/>
                  <a:ahLst/>
                  <a:rect l="l" t="t" r="r" b="b"/>
                  <a:pathLst>
                    <a:path w="3870" h="2736">
                      <a:moveTo>
                        <a:pt x="0" y="2037"/>
                      </a:moveTo>
                      <a:lnTo>
                        <a:pt x="45" y="2111"/>
                      </a:lnTo>
                      <a:lnTo>
                        <a:pt x="90" y="2166"/>
                      </a:lnTo>
                      <a:lnTo>
                        <a:pt x="181" y="2202"/>
                      </a:lnTo>
                      <a:lnTo>
                        <a:pt x="2580" y="2724"/>
                      </a:lnTo>
                      <a:lnTo>
                        <a:pt x="2652" y="2736"/>
                      </a:lnTo>
                      <a:lnTo>
                        <a:pt x="2710" y="2729"/>
                      </a:lnTo>
                      <a:lnTo>
                        <a:pt x="2777" y="2662"/>
                      </a:lnTo>
                      <a:lnTo>
                        <a:pt x="3846" y="801"/>
                      </a:lnTo>
                      <a:lnTo>
                        <a:pt x="3870" y="747"/>
                      </a:lnTo>
                      <a:lnTo>
                        <a:pt x="3867" y="708"/>
                      </a:lnTo>
                      <a:lnTo>
                        <a:pt x="3848" y="655"/>
                      </a:lnTo>
                      <a:lnTo>
                        <a:pt x="3809" y="583"/>
                      </a:lnTo>
                      <a:lnTo>
                        <a:pt x="3747" y="554"/>
                      </a:lnTo>
                      <a:lnTo>
                        <a:pt x="1251" y="7"/>
                      </a:lnTo>
                      <a:lnTo>
                        <a:pt x="1182" y="0"/>
                      </a:lnTo>
                      <a:lnTo>
                        <a:pt x="1131" y="27"/>
                      </a:lnTo>
                      <a:lnTo>
                        <a:pt x="1088" y="84"/>
                      </a:lnTo>
                      <a:lnTo>
                        <a:pt x="13" y="1961"/>
                      </a:lnTo>
                      <a:lnTo>
                        <a:pt x="0" y="203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4640" y="3298320"/>
                  <a:ext cx="483840" cy="793440"/>
                </a:xfrm>
                <a:custGeom>
                  <a:avLst/>
                  <a:gdLst/>
                  <a:ahLst/>
                  <a:rect l="l" t="t" r="r" b="b"/>
                  <a:pathLst>
                    <a:path w="1292" h="2120">
                      <a:moveTo>
                        <a:pt x="1248" y="0"/>
                      </a:moveTo>
                      <a:lnTo>
                        <a:pt x="164" y="1908"/>
                      </a:lnTo>
                      <a:lnTo>
                        <a:pt x="82" y="2000"/>
                      </a:lnTo>
                      <a:lnTo>
                        <a:pt x="0" y="2009"/>
                      </a:lnTo>
                      <a:lnTo>
                        <a:pt x="106" y="2024"/>
                      </a:lnTo>
                      <a:lnTo>
                        <a:pt x="125" y="2062"/>
                      </a:lnTo>
                      <a:lnTo>
                        <a:pt x="135" y="2096"/>
                      </a:lnTo>
                      <a:lnTo>
                        <a:pt x="125" y="2120"/>
                      </a:lnTo>
                      <a:lnTo>
                        <a:pt x="212" y="2028"/>
                      </a:lnTo>
                      <a:lnTo>
                        <a:pt x="1287" y="147"/>
                      </a:lnTo>
                      <a:lnTo>
                        <a:pt x="1292" y="99"/>
                      </a:lnTo>
                      <a:lnTo>
                        <a:pt x="1272" y="32"/>
                      </a:lnTo>
                      <a:lnTo>
                        <a:pt x="124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111720" y="3814920"/>
                  <a:ext cx="949320" cy="233280"/>
                </a:xfrm>
                <a:custGeom>
                  <a:avLst/>
                  <a:gdLst/>
                  <a:ahLst/>
                  <a:rect l="l" t="t" r="r" b="b"/>
                  <a:pathLst>
                    <a:path w="2535" h="624">
                      <a:moveTo>
                        <a:pt x="0" y="0"/>
                      </a:moveTo>
                      <a:lnTo>
                        <a:pt x="34" y="53"/>
                      </a:lnTo>
                      <a:lnTo>
                        <a:pt x="68" y="77"/>
                      </a:lnTo>
                      <a:lnTo>
                        <a:pt x="2535" y="620"/>
                      </a:lnTo>
                      <a:lnTo>
                        <a:pt x="2496" y="624"/>
                      </a:lnTo>
                      <a:lnTo>
                        <a:pt x="39" y="87"/>
                      </a:lnTo>
                      <a:lnTo>
                        <a:pt x="15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185520" y="3112560"/>
                  <a:ext cx="1263960" cy="854640"/>
                </a:xfrm>
                <a:custGeom>
                  <a:avLst/>
                  <a:gdLst/>
                  <a:ahLst/>
                  <a:rect l="l" t="t" r="r" b="b"/>
                  <a:pathLst>
                    <a:path w="3375" h="2284">
                      <a:moveTo>
                        <a:pt x="3375" y="532"/>
                      </a:moveTo>
                      <a:lnTo>
                        <a:pt x="984" y="0"/>
                      </a:lnTo>
                      <a:lnTo>
                        <a:pt x="0" y="1737"/>
                      </a:lnTo>
                      <a:lnTo>
                        <a:pt x="2352" y="2284"/>
                      </a:lnTo>
                      <a:lnTo>
                        <a:pt x="3375" y="5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212520" y="3129480"/>
                  <a:ext cx="1202760" cy="814680"/>
                </a:xfrm>
                <a:custGeom>
                  <a:avLst/>
                  <a:gdLst/>
                  <a:ahLst/>
                  <a:rect l="l" t="t" r="r" b="b"/>
                  <a:pathLst>
                    <a:path w="3211" h="2177">
                      <a:moveTo>
                        <a:pt x="3211" y="502"/>
                      </a:moveTo>
                      <a:lnTo>
                        <a:pt x="946" y="0"/>
                      </a:lnTo>
                      <a:lnTo>
                        <a:pt x="0" y="1659"/>
                      </a:lnTo>
                      <a:lnTo>
                        <a:pt x="2237" y="2177"/>
                      </a:lnTo>
                      <a:lnTo>
                        <a:pt x="3211" y="502"/>
                      </a:lnTo>
                      <a:close/>
                    </a:path>
                  </a:pathLst>
                </a:custGeom>
                <a:solidFill>
                  <a:srgbClr val="33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6301440" y="3186720"/>
              <a:ext cx="731160" cy="578160"/>
              <a:chOff x="6301440" y="3186720"/>
              <a:chExt cx="731160" cy="578160"/>
            </a:xfrm>
          </p:grpSpPr>
          <p:sp>
            <p:nvSpPr>
              <p:cNvPr id="541" name=""/>
              <p:cNvSpPr/>
              <p:nvPr/>
            </p:nvSpPr>
            <p:spPr>
              <a:xfrm rot="659400">
                <a:off x="6573960" y="320004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bddd5c"/>
                  </a:gs>
                  <a:gs pos="100000">
                    <a:srgbClr val="99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659400">
                <a:off x="6723000" y="322884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dd9dfe"/>
                  </a:gs>
                  <a:gs pos="100000">
                    <a:srgbClr val="cc66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659400">
                <a:off x="6872040" y="3258000"/>
                <a:ext cx="152280" cy="101880"/>
              </a:xfrm>
              <a:prstGeom prst="parallelogram">
                <a:avLst>
                  <a:gd name="adj" fmla="val 37367"/>
                </a:avLst>
              </a:prstGeom>
              <a:gradFill rotWithShape="0">
                <a:gsLst>
                  <a:gs pos="0">
                    <a:srgbClr val="5c9d5c"/>
                  </a:gs>
                  <a:gs pos="100000">
                    <a:srgbClr val="00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659400">
                <a:off x="6486840" y="3329280"/>
                <a:ext cx="151920" cy="102240"/>
              </a:xfrm>
              <a:prstGeom prst="parallelogram">
                <a:avLst>
                  <a:gd name="adj" fmla="val 37148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659400">
                <a:off x="6635880" y="3358440"/>
                <a:ext cx="152280" cy="102240"/>
              </a:xfrm>
              <a:prstGeom prst="parallelogram">
                <a:avLst>
                  <a:gd name="adj" fmla="val 37236"/>
                </a:avLst>
              </a:prstGeom>
              <a:gradFill rotWithShape="0">
                <a:gsLst>
                  <a:gs pos="0">
                    <a:srgbClr val="5cbdbd"/>
                  </a:gs>
                  <a:gs pos="100000">
                    <a:srgbClr val="009999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659400">
                <a:off x="6785280" y="3387240"/>
                <a:ext cx="151920" cy="102240"/>
              </a:xfrm>
              <a:prstGeom prst="parallelogram">
                <a:avLst>
                  <a:gd name="adj" fmla="val 37148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659400">
                <a:off x="6396480" y="346140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7c7cbd"/>
                  </a:gs>
                  <a:gs pos="100000">
                    <a:srgbClr val="333399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659400">
                <a:off x="6546240" y="3490560"/>
                <a:ext cx="152280" cy="101880"/>
              </a:xfrm>
              <a:prstGeom prst="parallelogram">
                <a:avLst>
                  <a:gd name="adj" fmla="val 37367"/>
                </a:avLst>
              </a:prstGeom>
              <a:gradFill rotWithShape="0">
                <a:gsLst>
                  <a:gs pos="0">
                    <a:srgbClr val="ad5c5c"/>
                  </a:gs>
                  <a:gs pos="100000">
                    <a:srgbClr val="8000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659400">
                <a:off x="6695640" y="351972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d6d6d6"/>
                  </a:gs>
                  <a:gs pos="100000">
                    <a:srgbClr val="c0c0c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659400">
                <a:off x="6309720" y="3591360"/>
                <a:ext cx="152280" cy="101880"/>
              </a:xfrm>
              <a:prstGeom prst="parallelogram">
                <a:avLst>
                  <a:gd name="adj" fmla="val 37367"/>
                </a:avLst>
              </a:prstGeom>
              <a:gradFill rotWithShape="0">
                <a:gsLst>
                  <a:gs pos="0">
                    <a:srgbClr val="fe9d5c"/>
                  </a:gs>
                  <a:gs pos="100000">
                    <a:srgbClr val="ff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659400">
                <a:off x="6459120" y="362016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adadad"/>
                  </a:gs>
                  <a:gs pos="100000">
                    <a:srgbClr val="80808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659400">
                <a:off x="6608520" y="364932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7905600" y="3068640"/>
            <a:ext cx="1449360" cy="1023840"/>
            <a:chOff x="7905600" y="3068640"/>
            <a:chExt cx="1449360" cy="1023840"/>
          </a:xfrm>
        </p:grpSpPr>
        <p:grpSp>
          <p:nvGrpSpPr>
            <p:cNvPr id="554" name=""/>
            <p:cNvGrpSpPr/>
            <p:nvPr/>
          </p:nvGrpSpPr>
          <p:grpSpPr>
            <a:xfrm>
              <a:off x="7905600" y="3068640"/>
              <a:ext cx="1449360" cy="1023840"/>
              <a:chOff x="7905600" y="3068640"/>
              <a:chExt cx="1449360" cy="1023840"/>
            </a:xfrm>
          </p:grpSpPr>
          <p:sp>
            <p:nvSpPr>
              <p:cNvPr id="555" name=""/>
              <p:cNvSpPr/>
              <p:nvPr/>
            </p:nvSpPr>
            <p:spPr>
              <a:xfrm>
                <a:off x="7905600" y="3068640"/>
                <a:ext cx="1449360" cy="1023840"/>
              </a:xfrm>
              <a:custGeom>
                <a:avLst/>
                <a:gdLst/>
                <a:ahLst/>
                <a:rect l="l" t="t" r="r" b="b"/>
                <a:pathLst>
                  <a:path w="3870" h="2736">
                    <a:moveTo>
                      <a:pt x="0" y="2037"/>
                    </a:moveTo>
                    <a:lnTo>
                      <a:pt x="45" y="2111"/>
                    </a:lnTo>
                    <a:lnTo>
                      <a:pt x="90" y="2166"/>
                    </a:lnTo>
                    <a:lnTo>
                      <a:pt x="181" y="2202"/>
                    </a:lnTo>
                    <a:lnTo>
                      <a:pt x="2580" y="2724"/>
                    </a:lnTo>
                    <a:lnTo>
                      <a:pt x="2652" y="2736"/>
                    </a:lnTo>
                    <a:lnTo>
                      <a:pt x="2710" y="2729"/>
                    </a:lnTo>
                    <a:lnTo>
                      <a:pt x="2777" y="2662"/>
                    </a:lnTo>
                    <a:lnTo>
                      <a:pt x="3846" y="801"/>
                    </a:lnTo>
                    <a:lnTo>
                      <a:pt x="3870" y="747"/>
                    </a:lnTo>
                    <a:lnTo>
                      <a:pt x="3867" y="708"/>
                    </a:lnTo>
                    <a:lnTo>
                      <a:pt x="3848" y="655"/>
                    </a:lnTo>
                    <a:lnTo>
                      <a:pt x="3809" y="583"/>
                    </a:lnTo>
                    <a:lnTo>
                      <a:pt x="3747" y="554"/>
                    </a:lnTo>
                    <a:lnTo>
                      <a:pt x="1251" y="7"/>
                    </a:lnTo>
                    <a:lnTo>
                      <a:pt x="1182" y="0"/>
                    </a:lnTo>
                    <a:lnTo>
                      <a:pt x="1131" y="27"/>
                    </a:lnTo>
                    <a:lnTo>
                      <a:pt x="1088" y="84"/>
                    </a:lnTo>
                    <a:lnTo>
                      <a:pt x="13" y="1961"/>
                    </a:lnTo>
                    <a:lnTo>
                      <a:pt x="0" y="2037"/>
                    </a:lnTo>
                    <a:close/>
                  </a:path>
                </a:pathLst>
              </a:custGeom>
              <a:solidFill>
                <a:srgbClr val="333333"/>
              </a:solidFill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7905600" y="3068640"/>
                <a:ext cx="1449360" cy="1023840"/>
                <a:chOff x="7905600" y="3068640"/>
                <a:chExt cx="1449360" cy="1023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7905600" y="3068640"/>
                  <a:ext cx="1449360" cy="1023840"/>
                </a:xfrm>
                <a:custGeom>
                  <a:avLst/>
                  <a:gdLst/>
                  <a:ahLst/>
                  <a:rect l="l" t="t" r="r" b="b"/>
                  <a:pathLst>
                    <a:path w="3870" h="2736">
                      <a:moveTo>
                        <a:pt x="0" y="2037"/>
                      </a:moveTo>
                      <a:lnTo>
                        <a:pt x="45" y="2111"/>
                      </a:lnTo>
                      <a:lnTo>
                        <a:pt x="90" y="2166"/>
                      </a:lnTo>
                      <a:lnTo>
                        <a:pt x="181" y="2202"/>
                      </a:lnTo>
                      <a:lnTo>
                        <a:pt x="2580" y="2724"/>
                      </a:lnTo>
                      <a:lnTo>
                        <a:pt x="2652" y="2736"/>
                      </a:lnTo>
                      <a:lnTo>
                        <a:pt x="2710" y="2729"/>
                      </a:lnTo>
                      <a:lnTo>
                        <a:pt x="2777" y="2662"/>
                      </a:lnTo>
                      <a:lnTo>
                        <a:pt x="3846" y="801"/>
                      </a:lnTo>
                      <a:lnTo>
                        <a:pt x="3870" y="747"/>
                      </a:lnTo>
                      <a:lnTo>
                        <a:pt x="3867" y="708"/>
                      </a:lnTo>
                      <a:lnTo>
                        <a:pt x="3848" y="655"/>
                      </a:lnTo>
                      <a:lnTo>
                        <a:pt x="3809" y="583"/>
                      </a:lnTo>
                      <a:lnTo>
                        <a:pt x="3747" y="554"/>
                      </a:lnTo>
                      <a:lnTo>
                        <a:pt x="1251" y="7"/>
                      </a:lnTo>
                      <a:lnTo>
                        <a:pt x="1182" y="0"/>
                      </a:lnTo>
                      <a:lnTo>
                        <a:pt x="1131" y="27"/>
                      </a:lnTo>
                      <a:lnTo>
                        <a:pt x="1088" y="84"/>
                      </a:lnTo>
                      <a:lnTo>
                        <a:pt x="13" y="1961"/>
                      </a:lnTo>
                      <a:lnTo>
                        <a:pt x="0" y="203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864640" y="3298320"/>
                  <a:ext cx="483840" cy="793440"/>
                </a:xfrm>
                <a:custGeom>
                  <a:avLst/>
                  <a:gdLst/>
                  <a:ahLst/>
                  <a:rect l="l" t="t" r="r" b="b"/>
                  <a:pathLst>
                    <a:path w="1292" h="2120">
                      <a:moveTo>
                        <a:pt x="1248" y="0"/>
                      </a:moveTo>
                      <a:lnTo>
                        <a:pt x="164" y="1908"/>
                      </a:lnTo>
                      <a:lnTo>
                        <a:pt x="82" y="2000"/>
                      </a:lnTo>
                      <a:lnTo>
                        <a:pt x="0" y="2009"/>
                      </a:lnTo>
                      <a:lnTo>
                        <a:pt x="106" y="2024"/>
                      </a:lnTo>
                      <a:lnTo>
                        <a:pt x="125" y="2062"/>
                      </a:lnTo>
                      <a:lnTo>
                        <a:pt x="135" y="2096"/>
                      </a:lnTo>
                      <a:lnTo>
                        <a:pt x="125" y="2120"/>
                      </a:lnTo>
                      <a:lnTo>
                        <a:pt x="212" y="2028"/>
                      </a:lnTo>
                      <a:lnTo>
                        <a:pt x="1287" y="147"/>
                      </a:lnTo>
                      <a:lnTo>
                        <a:pt x="1292" y="99"/>
                      </a:lnTo>
                      <a:lnTo>
                        <a:pt x="1272" y="32"/>
                      </a:lnTo>
                      <a:lnTo>
                        <a:pt x="124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71717"/>
                    </a:gs>
                    <a:gs pos="100000">
                      <a:srgbClr val="3333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911720" y="3814920"/>
                  <a:ext cx="949320" cy="233280"/>
                </a:xfrm>
                <a:custGeom>
                  <a:avLst/>
                  <a:gdLst/>
                  <a:ahLst/>
                  <a:rect l="l" t="t" r="r" b="b"/>
                  <a:pathLst>
                    <a:path w="2535" h="624">
                      <a:moveTo>
                        <a:pt x="0" y="0"/>
                      </a:moveTo>
                      <a:lnTo>
                        <a:pt x="34" y="53"/>
                      </a:lnTo>
                      <a:lnTo>
                        <a:pt x="68" y="77"/>
                      </a:lnTo>
                      <a:lnTo>
                        <a:pt x="2535" y="620"/>
                      </a:lnTo>
                      <a:lnTo>
                        <a:pt x="2496" y="624"/>
                      </a:lnTo>
                      <a:lnTo>
                        <a:pt x="39" y="87"/>
                      </a:lnTo>
                      <a:lnTo>
                        <a:pt x="15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985520" y="3112560"/>
                  <a:ext cx="1263960" cy="854640"/>
                </a:xfrm>
                <a:custGeom>
                  <a:avLst/>
                  <a:gdLst/>
                  <a:ahLst/>
                  <a:rect l="l" t="t" r="r" b="b"/>
                  <a:pathLst>
                    <a:path w="3375" h="2284">
                      <a:moveTo>
                        <a:pt x="3375" y="532"/>
                      </a:moveTo>
                      <a:lnTo>
                        <a:pt x="984" y="0"/>
                      </a:lnTo>
                      <a:lnTo>
                        <a:pt x="0" y="1737"/>
                      </a:lnTo>
                      <a:lnTo>
                        <a:pt x="2352" y="2284"/>
                      </a:lnTo>
                      <a:lnTo>
                        <a:pt x="3375" y="5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012520" y="3129480"/>
                  <a:ext cx="1202760" cy="814680"/>
                </a:xfrm>
                <a:custGeom>
                  <a:avLst/>
                  <a:gdLst/>
                  <a:ahLst/>
                  <a:rect l="l" t="t" r="r" b="b"/>
                  <a:pathLst>
                    <a:path w="3211" h="2177">
                      <a:moveTo>
                        <a:pt x="3211" y="502"/>
                      </a:moveTo>
                      <a:lnTo>
                        <a:pt x="946" y="0"/>
                      </a:lnTo>
                      <a:lnTo>
                        <a:pt x="0" y="1659"/>
                      </a:lnTo>
                      <a:lnTo>
                        <a:pt x="2237" y="2177"/>
                      </a:lnTo>
                      <a:lnTo>
                        <a:pt x="3211" y="502"/>
                      </a:lnTo>
                      <a:close/>
                    </a:path>
                  </a:pathLst>
                </a:custGeom>
                <a:solidFill>
                  <a:srgbClr val="33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2" name=""/>
            <p:cNvGrpSpPr/>
            <p:nvPr/>
          </p:nvGrpSpPr>
          <p:grpSpPr>
            <a:xfrm>
              <a:off x="8100000" y="3176640"/>
              <a:ext cx="731160" cy="578160"/>
              <a:chOff x="8100000" y="3176640"/>
              <a:chExt cx="731160" cy="578160"/>
            </a:xfrm>
          </p:grpSpPr>
          <p:sp>
            <p:nvSpPr>
              <p:cNvPr id="563" name=""/>
              <p:cNvSpPr/>
              <p:nvPr/>
            </p:nvSpPr>
            <p:spPr>
              <a:xfrm rot="659400">
                <a:off x="8372520" y="318996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bddd5c"/>
                  </a:gs>
                  <a:gs pos="100000">
                    <a:srgbClr val="99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659400">
                <a:off x="8521560" y="321876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dd9dfe"/>
                  </a:gs>
                  <a:gs pos="100000">
                    <a:srgbClr val="cc66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659400">
                <a:off x="8670600" y="3247920"/>
                <a:ext cx="152280" cy="101880"/>
              </a:xfrm>
              <a:prstGeom prst="parallelogram">
                <a:avLst>
                  <a:gd name="adj" fmla="val 37367"/>
                </a:avLst>
              </a:prstGeom>
              <a:gradFill rotWithShape="0">
                <a:gsLst>
                  <a:gs pos="0">
                    <a:srgbClr val="5c9d5c"/>
                  </a:gs>
                  <a:gs pos="100000">
                    <a:srgbClr val="00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659400">
                <a:off x="8285400" y="3319200"/>
                <a:ext cx="151920" cy="102240"/>
              </a:xfrm>
              <a:prstGeom prst="parallelogram">
                <a:avLst>
                  <a:gd name="adj" fmla="val 37148"/>
                </a:avLst>
              </a:prstGeom>
              <a:gradFill rotWithShape="0">
                <a:gsLst>
                  <a:gs pos="0">
                    <a:srgbClr val="ddbd5c"/>
                  </a:gs>
                  <a:gs pos="100000">
                    <a:srgbClr val="cc99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659400">
                <a:off x="8434440" y="3348360"/>
                <a:ext cx="152280" cy="102240"/>
              </a:xfrm>
              <a:prstGeom prst="parallelogram">
                <a:avLst>
                  <a:gd name="adj" fmla="val 37236"/>
                </a:avLst>
              </a:prstGeom>
              <a:gradFill rotWithShape="0">
                <a:gsLst>
                  <a:gs pos="0">
                    <a:srgbClr val="5cbdbd"/>
                  </a:gs>
                  <a:gs pos="100000">
                    <a:srgbClr val="009999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659400">
                <a:off x="8583840" y="3377160"/>
                <a:ext cx="151920" cy="102240"/>
              </a:xfrm>
              <a:prstGeom prst="parallelogram">
                <a:avLst>
                  <a:gd name="adj" fmla="val 37148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659400">
                <a:off x="8195040" y="345132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7c7cbd"/>
                  </a:gs>
                  <a:gs pos="100000">
                    <a:srgbClr val="333399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659400">
                <a:off x="8344800" y="3480480"/>
                <a:ext cx="152280" cy="101880"/>
              </a:xfrm>
              <a:prstGeom prst="parallelogram">
                <a:avLst>
                  <a:gd name="adj" fmla="val 37367"/>
                </a:avLst>
              </a:prstGeom>
              <a:gradFill rotWithShape="0">
                <a:gsLst>
                  <a:gs pos="0">
                    <a:srgbClr val="ad5c5c"/>
                  </a:gs>
                  <a:gs pos="100000">
                    <a:srgbClr val="8000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659400">
                <a:off x="8494200" y="350964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d6d6d6"/>
                  </a:gs>
                  <a:gs pos="100000">
                    <a:srgbClr val="c0c0c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659400">
                <a:off x="8108280" y="3581280"/>
                <a:ext cx="152280" cy="101880"/>
              </a:xfrm>
              <a:prstGeom prst="parallelogram">
                <a:avLst>
                  <a:gd name="adj" fmla="val 37367"/>
                </a:avLst>
              </a:prstGeom>
              <a:gradFill rotWithShape="0">
                <a:gsLst>
                  <a:gs pos="0">
                    <a:srgbClr val="fe9d5c"/>
                  </a:gs>
                  <a:gs pos="100000">
                    <a:srgbClr val="ff66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659400">
                <a:off x="8257680" y="361008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adadad"/>
                  </a:gs>
                  <a:gs pos="100000">
                    <a:srgbClr val="80808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659400">
                <a:off x="8407080" y="3639240"/>
                <a:ext cx="151920" cy="101880"/>
              </a:xfrm>
              <a:prstGeom prst="parallelogram">
                <a:avLst>
                  <a:gd name="adj" fmla="val 37279"/>
                </a:avLst>
              </a:prstGeom>
              <a:gradFill rotWithShape="0">
                <a:gsLst>
                  <a:gs pos="0">
                    <a:srgbClr val="dddd5c"/>
                  </a:gs>
                  <a:gs pos="100000">
                    <a:srgbClr val="cccc00"/>
                  </a:gs>
                </a:gsLst>
                <a:lin ang="5400000"/>
              </a:gradFill>
              <a:ln w="3240">
                <a:solidFill>
                  <a:srgbClr val="333333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5" name=""/>
          <p:cNvGrpSpPr/>
          <p:nvPr/>
        </p:nvGrpSpPr>
        <p:grpSpPr>
          <a:xfrm>
            <a:off x="444600" y="2986200"/>
            <a:ext cx="1439640" cy="1104480"/>
            <a:chOff x="444600" y="2986200"/>
            <a:chExt cx="1439640" cy="1104480"/>
          </a:xfrm>
        </p:grpSpPr>
        <p:grpSp>
          <p:nvGrpSpPr>
            <p:cNvPr id="576" name=""/>
            <p:cNvGrpSpPr/>
            <p:nvPr/>
          </p:nvGrpSpPr>
          <p:grpSpPr>
            <a:xfrm>
              <a:off x="444600" y="3059640"/>
              <a:ext cx="1439640" cy="1031040"/>
              <a:chOff x="444600" y="3059640"/>
              <a:chExt cx="1439640" cy="1031040"/>
            </a:xfrm>
          </p:grpSpPr>
          <p:sp>
            <p:nvSpPr>
              <p:cNvPr id="577" name=""/>
              <p:cNvSpPr/>
              <p:nvPr/>
            </p:nvSpPr>
            <p:spPr>
              <a:xfrm>
                <a:off x="444600" y="3059640"/>
                <a:ext cx="1439640" cy="1031040"/>
              </a:xfrm>
              <a:custGeom>
                <a:avLst/>
                <a:gdLst/>
                <a:ahLst/>
                <a:rect l="l" t="t" r="r" b="b"/>
                <a:pathLst>
                  <a:path w="3870" h="2736">
                    <a:moveTo>
                      <a:pt x="0" y="2037"/>
                    </a:moveTo>
                    <a:lnTo>
                      <a:pt x="45" y="2111"/>
                    </a:lnTo>
                    <a:lnTo>
                      <a:pt x="90" y="2166"/>
                    </a:lnTo>
                    <a:lnTo>
                      <a:pt x="181" y="2202"/>
                    </a:lnTo>
                    <a:lnTo>
                      <a:pt x="2580" y="2724"/>
                    </a:lnTo>
                    <a:lnTo>
                      <a:pt x="2652" y="2736"/>
                    </a:lnTo>
                    <a:lnTo>
                      <a:pt x="2710" y="2729"/>
                    </a:lnTo>
                    <a:lnTo>
                      <a:pt x="2777" y="2662"/>
                    </a:lnTo>
                    <a:lnTo>
                      <a:pt x="3846" y="801"/>
                    </a:lnTo>
                    <a:lnTo>
                      <a:pt x="3870" y="747"/>
                    </a:lnTo>
                    <a:lnTo>
                      <a:pt x="3867" y="708"/>
                    </a:lnTo>
                    <a:lnTo>
                      <a:pt x="3848" y="655"/>
                    </a:lnTo>
                    <a:lnTo>
                      <a:pt x="3809" y="583"/>
                    </a:lnTo>
                    <a:lnTo>
                      <a:pt x="3747" y="554"/>
                    </a:lnTo>
                    <a:lnTo>
                      <a:pt x="1251" y="7"/>
                    </a:lnTo>
                    <a:lnTo>
                      <a:pt x="1182" y="0"/>
                    </a:lnTo>
                    <a:lnTo>
                      <a:pt x="1131" y="27"/>
                    </a:lnTo>
                    <a:lnTo>
                      <a:pt x="1088" y="84"/>
                    </a:lnTo>
                    <a:lnTo>
                      <a:pt x="13" y="1961"/>
                    </a:lnTo>
                    <a:lnTo>
                      <a:pt x="0" y="20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1717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97160" y="3290760"/>
                <a:ext cx="480600" cy="798840"/>
              </a:xfrm>
              <a:custGeom>
                <a:avLst/>
                <a:gdLst/>
                <a:ahLst/>
                <a:rect l="l" t="t" r="r" b="b"/>
                <a:pathLst>
                  <a:path w="1292" h="2120">
                    <a:moveTo>
                      <a:pt x="1248" y="0"/>
                    </a:moveTo>
                    <a:lnTo>
                      <a:pt x="164" y="1908"/>
                    </a:lnTo>
                    <a:lnTo>
                      <a:pt x="82" y="2000"/>
                    </a:lnTo>
                    <a:lnTo>
                      <a:pt x="0" y="2009"/>
                    </a:lnTo>
                    <a:lnTo>
                      <a:pt x="106" y="2024"/>
                    </a:lnTo>
                    <a:lnTo>
                      <a:pt x="125" y="2062"/>
                    </a:lnTo>
                    <a:lnTo>
                      <a:pt x="135" y="2096"/>
                    </a:lnTo>
                    <a:lnTo>
                      <a:pt x="125" y="2120"/>
                    </a:lnTo>
                    <a:lnTo>
                      <a:pt x="212" y="2028"/>
                    </a:lnTo>
                    <a:lnTo>
                      <a:pt x="1287" y="147"/>
                    </a:lnTo>
                    <a:lnTo>
                      <a:pt x="1292" y="99"/>
                    </a:lnTo>
                    <a:lnTo>
                      <a:pt x="1272" y="32"/>
                    </a:lnTo>
                    <a:lnTo>
                      <a:pt x="12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17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0720" y="3810960"/>
                <a:ext cx="943200" cy="235080"/>
              </a:xfrm>
              <a:custGeom>
                <a:avLst/>
                <a:gdLst/>
                <a:ahLst/>
                <a:rect l="l" t="t" r="r" b="b"/>
                <a:pathLst>
                  <a:path w="2535" h="624">
                    <a:moveTo>
                      <a:pt x="0" y="0"/>
                    </a:moveTo>
                    <a:lnTo>
                      <a:pt x="34" y="53"/>
                    </a:lnTo>
                    <a:lnTo>
                      <a:pt x="68" y="77"/>
                    </a:lnTo>
                    <a:lnTo>
                      <a:pt x="2535" y="620"/>
                    </a:lnTo>
                    <a:lnTo>
                      <a:pt x="2496" y="624"/>
                    </a:lnTo>
                    <a:lnTo>
                      <a:pt x="39" y="87"/>
                    </a:lnTo>
                    <a:lnTo>
                      <a:pt x="15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24160" y="3103920"/>
                <a:ext cx="1255320" cy="860760"/>
              </a:xfrm>
              <a:custGeom>
                <a:avLst/>
                <a:gdLst/>
                <a:ahLst/>
                <a:rect l="l" t="t" r="r" b="b"/>
                <a:pathLst>
                  <a:path w="3375" h="2284">
                    <a:moveTo>
                      <a:pt x="3375" y="532"/>
                    </a:moveTo>
                    <a:lnTo>
                      <a:pt x="984" y="0"/>
                    </a:lnTo>
                    <a:lnTo>
                      <a:pt x="0" y="1737"/>
                    </a:lnTo>
                    <a:lnTo>
                      <a:pt x="2352" y="2284"/>
                    </a:lnTo>
                    <a:lnTo>
                      <a:pt x="3375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50800" y="3120840"/>
                <a:ext cx="1194480" cy="820440"/>
              </a:xfrm>
              <a:custGeom>
                <a:avLst/>
                <a:gdLst/>
                <a:ahLst/>
                <a:rect l="l" t="t" r="r" b="b"/>
                <a:pathLst>
                  <a:path w="3211" h="2177">
                    <a:moveTo>
                      <a:pt x="3211" y="502"/>
                    </a:moveTo>
                    <a:lnTo>
                      <a:pt x="946" y="0"/>
                    </a:lnTo>
                    <a:lnTo>
                      <a:pt x="0" y="1659"/>
                    </a:lnTo>
                    <a:lnTo>
                      <a:pt x="2237" y="2177"/>
                    </a:lnTo>
                    <a:lnTo>
                      <a:pt x="3211" y="5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ccff"/>
                  </a:gs>
                  <a:gs pos="100000">
                    <a:srgbClr val="b5e5fe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803880" y="3262680"/>
              <a:ext cx="398880" cy="324720"/>
            </a:xfrm>
            <a:custGeom>
              <a:avLst/>
              <a:gdLst>
                <a:gd name="textAreaLeft" fmla="*/ 91080 w 398880"/>
                <a:gd name="textAreaRight" fmla="*/ 307800 w 398880"/>
                <a:gd name="textAreaTop" fmla="*/ 74160 h 324720"/>
                <a:gd name="textAreaBottom" fmla="*/ 250560 h 3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81040" y="3029760"/>
              <a:ext cx="442800" cy="442800"/>
              <a:chOff x="581040" y="3029760"/>
              <a:chExt cx="442800" cy="442800"/>
            </a:xfrm>
          </p:grpSpPr>
          <p:sp>
            <p:nvSpPr>
              <p:cNvPr id="584" name=""/>
              <p:cNvSpPr/>
              <p:nvPr/>
            </p:nvSpPr>
            <p:spPr>
              <a:xfrm rot="8100000">
                <a:off x="748080" y="2983680"/>
                <a:ext cx="80280" cy="506160"/>
              </a:xfrm>
              <a:custGeom>
                <a:avLst/>
                <a:gdLst>
                  <a:gd name="textAreaLeft" fmla="*/ 11520 w 80280"/>
                  <a:gd name="textAreaRight" fmla="*/ 68760 w 80280"/>
                  <a:gd name="textAreaTop" fmla="*/ 11520 h 506160"/>
                  <a:gd name="textAreaBottom" fmla="*/ 494640 h 506160"/>
                </a:gdLst>
                <a:ahLst/>
                <a:rect l="textAreaLeft" t="textAreaTop" r="textAreaRight" b="textAreaBottom"/>
                <a:pathLst>
                  <a:path w="21600" h="135675">
                    <a:moveTo>
                      <a:pt x="10800" y="0"/>
                    </a:moveTo>
                    <a:arcTo wR="10800" hR="10800" stAng="16200000" swAng="-5400000"/>
                    <a:lnTo>
                      <a:pt x="0" y="124875"/>
                    </a:lnTo>
                    <a:arcTo wR="10800" hR="10800" stAng="10800000" swAng="-5400000"/>
                    <a:lnTo>
                      <a:pt x="10800" y="13567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8100000">
                <a:off x="933840" y="3392280"/>
                <a:ext cx="80280" cy="60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 txBox="1"/>
            <p:nvPr/>
          </p:nvSpPr>
          <p:spPr>
            <a:xfrm rot="20700000">
              <a:off x="1163520" y="3059640"/>
              <a:ext cx="599040" cy="2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18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メイリオ"/>
                </a:rPr>
                <a:t>TOUCH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360520" y="3045240"/>
            <a:ext cx="1440000" cy="1104120"/>
            <a:chOff x="2360520" y="3045240"/>
            <a:chExt cx="1440000" cy="1104120"/>
          </a:xfrm>
        </p:grpSpPr>
        <p:grpSp>
          <p:nvGrpSpPr>
            <p:cNvPr id="588" name=""/>
            <p:cNvGrpSpPr/>
            <p:nvPr/>
          </p:nvGrpSpPr>
          <p:grpSpPr>
            <a:xfrm>
              <a:off x="2360520" y="3118680"/>
              <a:ext cx="1440000" cy="1030680"/>
              <a:chOff x="2360520" y="3118680"/>
              <a:chExt cx="1440000" cy="1030680"/>
            </a:xfrm>
          </p:grpSpPr>
          <p:sp>
            <p:nvSpPr>
              <p:cNvPr id="589" name=""/>
              <p:cNvSpPr/>
              <p:nvPr/>
            </p:nvSpPr>
            <p:spPr>
              <a:xfrm>
                <a:off x="2360520" y="3118680"/>
                <a:ext cx="1440000" cy="1030680"/>
              </a:xfrm>
              <a:custGeom>
                <a:avLst/>
                <a:gdLst/>
                <a:ahLst/>
                <a:rect l="l" t="t" r="r" b="b"/>
                <a:pathLst>
                  <a:path w="3870" h="2736">
                    <a:moveTo>
                      <a:pt x="0" y="2037"/>
                    </a:moveTo>
                    <a:lnTo>
                      <a:pt x="45" y="2111"/>
                    </a:lnTo>
                    <a:lnTo>
                      <a:pt x="90" y="2166"/>
                    </a:lnTo>
                    <a:lnTo>
                      <a:pt x="181" y="2202"/>
                    </a:lnTo>
                    <a:lnTo>
                      <a:pt x="2580" y="2724"/>
                    </a:lnTo>
                    <a:lnTo>
                      <a:pt x="2652" y="2736"/>
                    </a:lnTo>
                    <a:lnTo>
                      <a:pt x="2710" y="2729"/>
                    </a:lnTo>
                    <a:lnTo>
                      <a:pt x="2777" y="2662"/>
                    </a:lnTo>
                    <a:lnTo>
                      <a:pt x="3846" y="801"/>
                    </a:lnTo>
                    <a:lnTo>
                      <a:pt x="3870" y="747"/>
                    </a:lnTo>
                    <a:lnTo>
                      <a:pt x="3867" y="708"/>
                    </a:lnTo>
                    <a:lnTo>
                      <a:pt x="3848" y="655"/>
                    </a:lnTo>
                    <a:lnTo>
                      <a:pt x="3809" y="583"/>
                    </a:lnTo>
                    <a:lnTo>
                      <a:pt x="3747" y="554"/>
                    </a:lnTo>
                    <a:lnTo>
                      <a:pt x="1251" y="7"/>
                    </a:lnTo>
                    <a:lnTo>
                      <a:pt x="1182" y="0"/>
                    </a:lnTo>
                    <a:lnTo>
                      <a:pt x="1131" y="27"/>
                    </a:lnTo>
                    <a:lnTo>
                      <a:pt x="1088" y="84"/>
                    </a:lnTo>
                    <a:lnTo>
                      <a:pt x="13" y="1961"/>
                    </a:lnTo>
                    <a:lnTo>
                      <a:pt x="0" y="20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2e2e2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13440" y="3349800"/>
                <a:ext cx="480600" cy="798480"/>
              </a:xfrm>
              <a:custGeom>
                <a:avLst/>
                <a:gdLst/>
                <a:ahLst/>
                <a:rect l="l" t="t" r="r" b="b"/>
                <a:pathLst>
                  <a:path w="1292" h="2120">
                    <a:moveTo>
                      <a:pt x="1248" y="0"/>
                    </a:moveTo>
                    <a:lnTo>
                      <a:pt x="164" y="1908"/>
                    </a:lnTo>
                    <a:lnTo>
                      <a:pt x="82" y="2000"/>
                    </a:lnTo>
                    <a:lnTo>
                      <a:pt x="0" y="2009"/>
                    </a:lnTo>
                    <a:lnTo>
                      <a:pt x="106" y="2024"/>
                    </a:lnTo>
                    <a:lnTo>
                      <a:pt x="125" y="2062"/>
                    </a:lnTo>
                    <a:lnTo>
                      <a:pt x="135" y="2096"/>
                    </a:lnTo>
                    <a:lnTo>
                      <a:pt x="125" y="2120"/>
                    </a:lnTo>
                    <a:lnTo>
                      <a:pt x="212" y="2028"/>
                    </a:lnTo>
                    <a:lnTo>
                      <a:pt x="1287" y="147"/>
                    </a:lnTo>
                    <a:lnTo>
                      <a:pt x="1292" y="99"/>
                    </a:lnTo>
                    <a:lnTo>
                      <a:pt x="1272" y="32"/>
                    </a:lnTo>
                    <a:lnTo>
                      <a:pt x="12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366640" y="3870000"/>
                <a:ext cx="943200" cy="235080"/>
              </a:xfrm>
              <a:custGeom>
                <a:avLst/>
                <a:gdLst/>
                <a:ahLst/>
                <a:rect l="l" t="t" r="r" b="b"/>
                <a:pathLst>
                  <a:path w="2535" h="624">
                    <a:moveTo>
                      <a:pt x="0" y="0"/>
                    </a:moveTo>
                    <a:lnTo>
                      <a:pt x="34" y="53"/>
                    </a:lnTo>
                    <a:lnTo>
                      <a:pt x="68" y="77"/>
                    </a:lnTo>
                    <a:lnTo>
                      <a:pt x="2535" y="620"/>
                    </a:lnTo>
                    <a:lnTo>
                      <a:pt x="2496" y="624"/>
                    </a:lnTo>
                    <a:lnTo>
                      <a:pt x="39" y="87"/>
                    </a:lnTo>
                    <a:lnTo>
                      <a:pt x="15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40080" y="3162960"/>
                <a:ext cx="1255680" cy="860400"/>
              </a:xfrm>
              <a:custGeom>
                <a:avLst/>
                <a:gdLst/>
                <a:ahLst/>
                <a:rect l="l" t="t" r="r" b="b"/>
                <a:pathLst>
                  <a:path w="3375" h="2284">
                    <a:moveTo>
                      <a:pt x="3375" y="532"/>
                    </a:moveTo>
                    <a:lnTo>
                      <a:pt x="984" y="0"/>
                    </a:lnTo>
                    <a:lnTo>
                      <a:pt x="0" y="1737"/>
                    </a:lnTo>
                    <a:lnTo>
                      <a:pt x="2352" y="2284"/>
                    </a:lnTo>
                    <a:lnTo>
                      <a:pt x="3375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66720" y="3179880"/>
                <a:ext cx="1194840" cy="820080"/>
              </a:xfrm>
              <a:custGeom>
                <a:avLst/>
                <a:gdLst/>
                <a:ahLst/>
                <a:rect l="l" t="t" r="r" b="b"/>
                <a:pathLst>
                  <a:path w="3211" h="2177">
                    <a:moveTo>
                      <a:pt x="3211" y="502"/>
                    </a:moveTo>
                    <a:lnTo>
                      <a:pt x="946" y="0"/>
                    </a:lnTo>
                    <a:lnTo>
                      <a:pt x="0" y="1659"/>
                    </a:lnTo>
                    <a:lnTo>
                      <a:pt x="2237" y="2177"/>
                    </a:lnTo>
                    <a:lnTo>
                      <a:pt x="3211" y="5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edfe"/>
                  </a:gs>
                  <a:gs pos="100000">
                    <a:srgbClr val="66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2719800" y="3280320"/>
              <a:ext cx="398880" cy="324360"/>
            </a:xfrm>
            <a:custGeom>
              <a:avLst/>
              <a:gdLst>
                <a:gd name="textAreaLeft" fmla="*/ 91080 w 398880"/>
                <a:gd name="textAreaRight" fmla="*/ 307800 w 398880"/>
                <a:gd name="textAreaTop" fmla="*/ 73800 h 324360"/>
                <a:gd name="textAreaBottom" fmla="*/ 250560 h 32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2538360" y="3049200"/>
              <a:ext cx="442440" cy="442440"/>
              <a:chOff x="2538360" y="3049200"/>
              <a:chExt cx="442440" cy="442440"/>
            </a:xfrm>
          </p:grpSpPr>
          <p:sp>
            <p:nvSpPr>
              <p:cNvPr id="596" name=""/>
              <p:cNvSpPr/>
              <p:nvPr/>
            </p:nvSpPr>
            <p:spPr>
              <a:xfrm rot="8100000">
                <a:off x="2705040" y="3003120"/>
                <a:ext cx="80280" cy="505800"/>
              </a:xfrm>
              <a:custGeom>
                <a:avLst/>
                <a:gdLst>
                  <a:gd name="textAreaLeft" fmla="*/ 11520 w 80280"/>
                  <a:gd name="textAreaRight" fmla="*/ 68760 w 80280"/>
                  <a:gd name="textAreaTop" fmla="*/ 11520 h 505800"/>
                  <a:gd name="textAreaBottom" fmla="*/ 494280 h 505800"/>
                </a:gdLst>
                <a:ahLst/>
                <a:rect l="textAreaLeft" t="textAreaTop" r="textAreaRight" b="textAreaBottom"/>
                <a:pathLst>
                  <a:path w="21600" h="135579">
                    <a:moveTo>
                      <a:pt x="10800" y="0"/>
                    </a:moveTo>
                    <a:arcTo wR="10800" hR="10800" stAng="16200000" swAng="-5400000"/>
                    <a:lnTo>
                      <a:pt x="0" y="124779"/>
                    </a:lnTo>
                    <a:arcTo wR="10800" hR="10800" stAng="10800000" swAng="-5400000"/>
                    <a:lnTo>
                      <a:pt x="10800" y="1355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8100000">
                <a:off x="2890800" y="3411360"/>
                <a:ext cx="80280" cy="60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44444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 txBox="1"/>
            <p:nvPr/>
          </p:nvSpPr>
          <p:spPr>
            <a:xfrm rot="20700000">
              <a:off x="3120480" y="3118680"/>
              <a:ext cx="599400" cy="24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18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メイリオ"/>
                </a:rPr>
                <a:t>TOUCH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232160" y="1065240"/>
            <a:ext cx="1424160" cy="1068480"/>
            <a:chOff x="4232160" y="1065240"/>
            <a:chExt cx="1424160" cy="1068480"/>
          </a:xfrm>
        </p:grpSpPr>
        <p:sp>
          <p:nvSpPr>
            <p:cNvPr id="600" name=""/>
            <p:cNvSpPr/>
            <p:nvPr/>
          </p:nvSpPr>
          <p:spPr>
            <a:xfrm>
              <a:off x="4232160" y="1065240"/>
              <a:ext cx="1424160" cy="1068480"/>
            </a:xfrm>
            <a:prstGeom prst="roundRect">
              <a:avLst>
                <a:gd name="adj" fmla="val 2435"/>
              </a:avLst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269600" y="1101960"/>
              <a:ext cx="1348920" cy="993600"/>
            </a:xfrm>
            <a:prstGeom prst="roundRect">
              <a:avLst>
                <a:gd name="adj" fmla="val 14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307400" y="1139760"/>
              <a:ext cx="1273320" cy="918360"/>
            </a:xfrm>
            <a:prstGeom prst="bevel">
              <a:avLst>
                <a:gd name="adj" fmla="val 3389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25760" y="1158120"/>
              <a:ext cx="1236600" cy="881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63560" y="119592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63560" y="13460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12960" y="119592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9dfe"/>
                </a:gs>
                <a:gs pos="100000">
                  <a:srgbClr val="cc66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12960" y="13460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bdbd"/>
                </a:gs>
                <a:gs pos="100000">
                  <a:srgbClr val="009999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63560" y="14954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363560" y="164556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12960" y="14954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12960" y="164556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63560" y="179568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9d5c"/>
                </a:gs>
                <a:gs pos="100000">
                  <a:srgbClr val="0066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12960" y="179568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9d5c"/>
                </a:gs>
                <a:gs pos="100000">
                  <a:srgbClr val="ff66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12600" y="119592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12600" y="13460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12600" y="14954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2600" y="164556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12600" y="179568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9d5c"/>
                </a:gs>
                <a:gs pos="100000">
                  <a:srgbClr val="0066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6105600" y="1065240"/>
            <a:ext cx="1423800" cy="1068480"/>
            <a:chOff x="6105600" y="1065240"/>
            <a:chExt cx="1423800" cy="1068480"/>
          </a:xfrm>
        </p:grpSpPr>
        <p:sp>
          <p:nvSpPr>
            <p:cNvPr id="620" name=""/>
            <p:cNvSpPr/>
            <p:nvPr/>
          </p:nvSpPr>
          <p:spPr>
            <a:xfrm>
              <a:off x="6105600" y="1065240"/>
              <a:ext cx="1423800" cy="1068480"/>
            </a:xfrm>
            <a:prstGeom prst="roundRect">
              <a:avLst>
                <a:gd name="adj" fmla="val 2435"/>
              </a:avLst>
            </a:prstGeom>
            <a:gradFill rotWithShape="0">
              <a:gsLst>
                <a:gs pos="0">
                  <a:srgbClr val="858585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43040" y="1101960"/>
              <a:ext cx="1348560" cy="993600"/>
            </a:xfrm>
            <a:prstGeom prst="roundRect">
              <a:avLst>
                <a:gd name="adj" fmla="val 14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80840" y="1139760"/>
              <a:ext cx="1272960" cy="918360"/>
            </a:xfrm>
            <a:prstGeom prst="bevel">
              <a:avLst>
                <a:gd name="adj" fmla="val 3389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9200" y="1158120"/>
              <a:ext cx="1236240" cy="881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37000" y="119592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37000" y="13460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86400" y="119592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9dfe"/>
                </a:gs>
                <a:gs pos="100000">
                  <a:srgbClr val="cc66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86400" y="13460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bdbd"/>
                </a:gs>
                <a:gs pos="100000">
                  <a:srgbClr val="009999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37000" y="14954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37000" y="164556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86400" y="14954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86400" y="164556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37000" y="179568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9d5c"/>
                </a:gs>
                <a:gs pos="100000">
                  <a:srgbClr val="0066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86400" y="179568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9d5c"/>
                </a:gs>
                <a:gs pos="100000">
                  <a:srgbClr val="ff66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85680" y="119592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85680" y="13460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85680" y="14954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85680" y="164556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85680" y="179568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9d5c"/>
                </a:gs>
                <a:gs pos="100000">
                  <a:srgbClr val="0066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488880" y="1052640"/>
            <a:ext cx="1457280" cy="1093680"/>
            <a:chOff x="488880" y="1052640"/>
            <a:chExt cx="1457280" cy="1093680"/>
          </a:xfrm>
        </p:grpSpPr>
        <p:sp>
          <p:nvSpPr>
            <p:cNvPr id="640" name=""/>
            <p:cNvSpPr/>
            <p:nvPr/>
          </p:nvSpPr>
          <p:spPr>
            <a:xfrm>
              <a:off x="488880" y="1052640"/>
              <a:ext cx="1457280" cy="1093680"/>
            </a:xfrm>
            <a:prstGeom prst="roundRect">
              <a:avLst>
                <a:gd name="adj" fmla="val 2435"/>
              </a:avLst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6320" y="1090080"/>
              <a:ext cx="1381680" cy="1016280"/>
            </a:xfrm>
            <a:prstGeom prst="roundRect">
              <a:avLst>
                <a:gd name="adj" fmla="val 14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5920" y="1129320"/>
              <a:ext cx="1302840" cy="939600"/>
            </a:xfrm>
            <a:prstGeom prst="bevel">
              <a:avLst>
                <a:gd name="adj" fmla="val 3389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5360" y="1147320"/>
              <a:ext cx="1263600" cy="901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360520" y="1052640"/>
            <a:ext cx="1459080" cy="1093680"/>
            <a:chOff x="2360520" y="1052640"/>
            <a:chExt cx="1459080" cy="1093680"/>
          </a:xfrm>
        </p:grpSpPr>
        <p:sp>
          <p:nvSpPr>
            <p:cNvPr id="645" name=""/>
            <p:cNvSpPr/>
            <p:nvPr/>
          </p:nvSpPr>
          <p:spPr>
            <a:xfrm>
              <a:off x="2360520" y="1052640"/>
              <a:ext cx="1459080" cy="1093680"/>
            </a:xfrm>
            <a:prstGeom prst="roundRect">
              <a:avLst>
                <a:gd name="adj" fmla="val 2435"/>
              </a:avLst>
            </a:prstGeom>
            <a:gradFill rotWithShape="0">
              <a:gsLst>
                <a:gs pos="0">
                  <a:srgbClr val="858585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97960" y="1090080"/>
              <a:ext cx="1383480" cy="1016280"/>
            </a:xfrm>
            <a:prstGeom prst="roundRect">
              <a:avLst>
                <a:gd name="adj" fmla="val 14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37560" y="1129320"/>
              <a:ext cx="1304640" cy="939600"/>
            </a:xfrm>
            <a:prstGeom prst="bevel">
              <a:avLst>
                <a:gd name="adj" fmla="val 3389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57000" y="1147320"/>
              <a:ext cx="1265400" cy="901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7977240" y="1065240"/>
            <a:ext cx="1423800" cy="1068480"/>
            <a:chOff x="7977240" y="1065240"/>
            <a:chExt cx="1423800" cy="1068480"/>
          </a:xfrm>
        </p:grpSpPr>
        <p:sp>
          <p:nvSpPr>
            <p:cNvPr id="650" name=""/>
            <p:cNvSpPr/>
            <p:nvPr/>
          </p:nvSpPr>
          <p:spPr>
            <a:xfrm>
              <a:off x="7977240" y="1065240"/>
              <a:ext cx="1423800" cy="1068480"/>
            </a:xfrm>
            <a:prstGeom prst="roundRect">
              <a:avLst>
                <a:gd name="adj" fmla="val 2435"/>
              </a:avLst>
            </a:prstGeom>
            <a:gradFill rotWithShape="0">
              <a:gsLst>
                <a:gs pos="0">
                  <a:srgbClr val="23236a"/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14680" y="1101960"/>
              <a:ext cx="1348560" cy="993600"/>
            </a:xfrm>
            <a:prstGeom prst="roundRect">
              <a:avLst>
                <a:gd name="adj" fmla="val 1463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52480" y="1139760"/>
              <a:ext cx="1272960" cy="918360"/>
            </a:xfrm>
            <a:prstGeom prst="bevel">
              <a:avLst>
                <a:gd name="adj" fmla="val 3389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70840" y="1158120"/>
              <a:ext cx="1236240" cy="881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08640" y="119592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08640" y="13460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258040" y="119592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9dfe"/>
                </a:gs>
                <a:gs pos="100000">
                  <a:srgbClr val="cc66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58040" y="13460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bdbd"/>
                </a:gs>
                <a:gs pos="100000">
                  <a:srgbClr val="009999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108640" y="14954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108640" y="164556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58040" y="14954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258040" y="164556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108640" y="179568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9d5c"/>
                </a:gs>
                <a:gs pos="100000">
                  <a:srgbClr val="0066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258040" y="179568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9d5c"/>
                </a:gs>
                <a:gs pos="100000">
                  <a:srgbClr val="ff66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157320" y="119592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157320" y="13460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157320" y="149544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5c"/>
                </a:gs>
                <a:gs pos="100000">
                  <a:srgbClr val="cccc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157320" y="164556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d5c"/>
                </a:gs>
                <a:gs pos="100000">
                  <a:srgbClr val="cc99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157320" y="1795680"/>
              <a:ext cx="112680" cy="11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9d5c"/>
                </a:gs>
                <a:gs pos="100000">
                  <a:srgbClr val="006600"/>
                </a:gs>
              </a:gsLst>
              <a:lin ang="5400000"/>
            </a:gradFill>
            <a:ln w="324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431640" y="5079960"/>
            <a:ext cx="1587600" cy="1012320"/>
            <a:chOff x="431640" y="5079960"/>
            <a:chExt cx="1587600" cy="1012320"/>
          </a:xfrm>
        </p:grpSpPr>
        <p:grpSp>
          <p:nvGrpSpPr>
            <p:cNvPr id="670" name=""/>
            <p:cNvGrpSpPr/>
            <p:nvPr/>
          </p:nvGrpSpPr>
          <p:grpSpPr>
            <a:xfrm>
              <a:off x="631800" y="5079960"/>
              <a:ext cx="1387440" cy="979560"/>
              <a:chOff x="631800" y="5079960"/>
              <a:chExt cx="1387440" cy="979560"/>
            </a:xfrm>
          </p:grpSpPr>
          <p:sp>
            <p:nvSpPr>
              <p:cNvPr id="671" name=""/>
              <p:cNvSpPr/>
              <p:nvPr/>
            </p:nvSpPr>
            <p:spPr>
              <a:xfrm>
                <a:off x="631800" y="5079960"/>
                <a:ext cx="1387440" cy="979560"/>
              </a:xfrm>
              <a:custGeom>
                <a:avLst/>
                <a:gdLst/>
                <a:ahLst/>
                <a:rect l="l" t="t" r="r" b="b"/>
                <a:pathLst>
                  <a:path w="3870" h="2736">
                    <a:moveTo>
                      <a:pt x="0" y="2037"/>
                    </a:moveTo>
                    <a:lnTo>
                      <a:pt x="45" y="2111"/>
                    </a:lnTo>
                    <a:lnTo>
                      <a:pt x="90" y="2166"/>
                    </a:lnTo>
                    <a:lnTo>
                      <a:pt x="181" y="2202"/>
                    </a:lnTo>
                    <a:lnTo>
                      <a:pt x="2580" y="2724"/>
                    </a:lnTo>
                    <a:lnTo>
                      <a:pt x="2652" y="2736"/>
                    </a:lnTo>
                    <a:lnTo>
                      <a:pt x="2710" y="2729"/>
                    </a:lnTo>
                    <a:lnTo>
                      <a:pt x="2777" y="2662"/>
                    </a:lnTo>
                    <a:lnTo>
                      <a:pt x="3846" y="801"/>
                    </a:lnTo>
                    <a:lnTo>
                      <a:pt x="3870" y="747"/>
                    </a:lnTo>
                    <a:lnTo>
                      <a:pt x="3867" y="708"/>
                    </a:lnTo>
                    <a:lnTo>
                      <a:pt x="3848" y="655"/>
                    </a:lnTo>
                    <a:lnTo>
                      <a:pt x="3809" y="583"/>
                    </a:lnTo>
                    <a:lnTo>
                      <a:pt x="3747" y="554"/>
                    </a:lnTo>
                    <a:lnTo>
                      <a:pt x="1251" y="7"/>
                    </a:lnTo>
                    <a:lnTo>
                      <a:pt x="1182" y="0"/>
                    </a:lnTo>
                    <a:lnTo>
                      <a:pt x="1131" y="27"/>
                    </a:lnTo>
                    <a:lnTo>
                      <a:pt x="1088" y="84"/>
                    </a:lnTo>
                    <a:lnTo>
                      <a:pt x="13" y="1961"/>
                    </a:lnTo>
                    <a:lnTo>
                      <a:pt x="0" y="20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1717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549800" y="5299560"/>
                <a:ext cx="463320" cy="758880"/>
              </a:xfrm>
              <a:custGeom>
                <a:avLst/>
                <a:gdLst/>
                <a:ahLst/>
                <a:rect l="l" t="t" r="r" b="b"/>
                <a:pathLst>
                  <a:path w="1292" h="2120">
                    <a:moveTo>
                      <a:pt x="1248" y="0"/>
                    </a:moveTo>
                    <a:lnTo>
                      <a:pt x="164" y="1908"/>
                    </a:lnTo>
                    <a:lnTo>
                      <a:pt x="82" y="2000"/>
                    </a:lnTo>
                    <a:lnTo>
                      <a:pt x="0" y="2009"/>
                    </a:lnTo>
                    <a:lnTo>
                      <a:pt x="106" y="2024"/>
                    </a:lnTo>
                    <a:lnTo>
                      <a:pt x="125" y="2062"/>
                    </a:lnTo>
                    <a:lnTo>
                      <a:pt x="135" y="2096"/>
                    </a:lnTo>
                    <a:lnTo>
                      <a:pt x="125" y="2120"/>
                    </a:lnTo>
                    <a:lnTo>
                      <a:pt x="212" y="2028"/>
                    </a:lnTo>
                    <a:lnTo>
                      <a:pt x="1287" y="147"/>
                    </a:lnTo>
                    <a:lnTo>
                      <a:pt x="1292" y="99"/>
                    </a:lnTo>
                    <a:lnTo>
                      <a:pt x="1272" y="32"/>
                    </a:lnTo>
                    <a:lnTo>
                      <a:pt x="12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17"/>
                  </a:gs>
                  <a:gs pos="100000">
                    <a:srgbClr val="3333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37560" y="5793840"/>
                <a:ext cx="909000" cy="223200"/>
              </a:xfrm>
              <a:custGeom>
                <a:avLst/>
                <a:gdLst/>
                <a:ahLst/>
                <a:rect l="l" t="t" r="r" b="b"/>
                <a:pathLst>
                  <a:path w="2535" h="624">
                    <a:moveTo>
                      <a:pt x="0" y="0"/>
                    </a:moveTo>
                    <a:lnTo>
                      <a:pt x="34" y="53"/>
                    </a:lnTo>
                    <a:lnTo>
                      <a:pt x="68" y="77"/>
                    </a:lnTo>
                    <a:lnTo>
                      <a:pt x="2535" y="620"/>
                    </a:lnTo>
                    <a:lnTo>
                      <a:pt x="2496" y="624"/>
                    </a:lnTo>
                    <a:lnTo>
                      <a:pt x="39" y="87"/>
                    </a:lnTo>
                    <a:lnTo>
                      <a:pt x="15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480" y="5122080"/>
                <a:ext cx="1209960" cy="817560"/>
              </a:xfrm>
              <a:custGeom>
                <a:avLst/>
                <a:gdLst/>
                <a:ahLst/>
                <a:rect l="l" t="t" r="r" b="b"/>
                <a:pathLst>
                  <a:path w="3375" h="2284">
                    <a:moveTo>
                      <a:pt x="3375" y="532"/>
                    </a:moveTo>
                    <a:lnTo>
                      <a:pt x="984" y="0"/>
                    </a:lnTo>
                    <a:lnTo>
                      <a:pt x="0" y="1737"/>
                    </a:lnTo>
                    <a:lnTo>
                      <a:pt x="2352" y="2284"/>
                    </a:lnTo>
                    <a:lnTo>
                      <a:pt x="3375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4040" y="5138280"/>
                <a:ext cx="1151280" cy="779400"/>
              </a:xfrm>
              <a:custGeom>
                <a:avLst/>
                <a:gdLst/>
                <a:ahLst/>
                <a:rect l="l" t="t" r="r" b="b"/>
                <a:pathLst>
                  <a:path w="3211" h="2177">
                    <a:moveTo>
                      <a:pt x="3211" y="502"/>
                    </a:moveTo>
                    <a:lnTo>
                      <a:pt x="946" y="0"/>
                    </a:lnTo>
                    <a:lnTo>
                      <a:pt x="0" y="1659"/>
                    </a:lnTo>
                    <a:lnTo>
                      <a:pt x="2237" y="2177"/>
                    </a:lnTo>
                    <a:lnTo>
                      <a:pt x="3211" y="5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ccff"/>
                  </a:gs>
                  <a:gs pos="100000">
                    <a:srgbClr val="b5e5fe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31640" y="5106600"/>
              <a:ext cx="985680" cy="985680"/>
              <a:chOff x="431640" y="5106600"/>
              <a:chExt cx="985680" cy="985680"/>
            </a:xfrm>
          </p:grpSpPr>
          <p:sp>
            <p:nvSpPr>
              <p:cNvPr id="677" name=""/>
              <p:cNvSpPr/>
              <p:nvPr/>
            </p:nvSpPr>
            <p:spPr>
              <a:xfrm flipH="1" rot="2700000">
                <a:off x="888840" y="5482080"/>
                <a:ext cx="235080" cy="230760"/>
              </a:xfrm>
              <a:custGeom>
                <a:avLst/>
                <a:gdLst/>
                <a:ahLst/>
                <a:rect l="l" t="t" r="r" b="b"/>
                <a:pathLst>
                  <a:path w="470" h="461">
                    <a:moveTo>
                      <a:pt x="197" y="0"/>
                    </a:moveTo>
                    <a:cubicBezTo>
                      <a:pt x="148" y="20"/>
                      <a:pt x="41" y="80"/>
                      <a:pt x="16" y="131"/>
                    </a:cubicBezTo>
                    <a:cubicBezTo>
                      <a:pt x="0" y="186"/>
                      <a:pt x="27" y="254"/>
                      <a:pt x="48" y="309"/>
                    </a:cubicBezTo>
                    <a:lnTo>
                      <a:pt x="145" y="461"/>
                    </a:lnTo>
                    <a:lnTo>
                      <a:pt x="373" y="435"/>
                    </a:lnTo>
                    <a:lnTo>
                      <a:pt x="470" y="233"/>
                    </a:lnTo>
                    <a:lnTo>
                      <a:pt x="373" y="81"/>
                    </a:lnTo>
                    <a:lnTo>
                      <a:pt x="311" y="9"/>
                    </a:lnTo>
                    <a:lnTo>
                      <a:pt x="1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bb8c"/>
                  </a:gs>
                  <a:gs pos="100000">
                    <a:srgbClr val="ffcc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700000">
                <a:off x="943920" y="5546880"/>
                <a:ext cx="113400" cy="84960"/>
              </a:xfrm>
              <a:custGeom>
                <a:avLst/>
                <a:gdLst/>
                <a:ahLst/>
                <a:rect l="l" t="t" r="r" b="b"/>
                <a:pathLst>
                  <a:path w="227" h="170">
                    <a:moveTo>
                      <a:pt x="0" y="0"/>
                    </a:moveTo>
                    <a:lnTo>
                      <a:pt x="57" y="85"/>
                    </a:lnTo>
                    <a:lnTo>
                      <a:pt x="29" y="170"/>
                    </a:lnTo>
                    <a:lnTo>
                      <a:pt x="85" y="113"/>
                    </a:lnTo>
                    <a:lnTo>
                      <a:pt x="142" y="170"/>
                    </a:lnTo>
                    <a:lnTo>
                      <a:pt x="227" y="113"/>
                    </a:lnTo>
                    <a:lnTo>
                      <a:pt x="170" y="0"/>
                    </a:lnTo>
                    <a:lnTo>
                      <a:pt x="8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 rot="2700000">
                <a:off x="631440" y="5195160"/>
                <a:ext cx="585360" cy="808560"/>
              </a:xfrm>
              <a:custGeom>
                <a:avLst/>
                <a:gdLst/>
                <a:ahLst/>
                <a:rect l="l" t="t" r="r" b="b"/>
                <a:pathLst>
                  <a:path w="1170" h="1614">
                    <a:moveTo>
                      <a:pt x="234" y="56"/>
                    </a:moveTo>
                    <a:lnTo>
                      <a:pt x="459" y="176"/>
                    </a:lnTo>
                    <a:lnTo>
                      <a:pt x="642" y="338"/>
                    </a:lnTo>
                    <a:lnTo>
                      <a:pt x="804" y="507"/>
                    </a:lnTo>
                    <a:cubicBezTo>
                      <a:pt x="856" y="576"/>
                      <a:pt x="915" y="659"/>
                      <a:pt x="954" y="753"/>
                    </a:cubicBezTo>
                    <a:cubicBezTo>
                      <a:pt x="993" y="847"/>
                      <a:pt x="1017" y="978"/>
                      <a:pt x="1038" y="1074"/>
                    </a:cubicBezTo>
                    <a:cubicBezTo>
                      <a:pt x="1059" y="1170"/>
                      <a:pt x="1061" y="1242"/>
                      <a:pt x="1083" y="1332"/>
                    </a:cubicBezTo>
                    <a:lnTo>
                      <a:pt x="1170" y="1614"/>
                    </a:lnTo>
                    <a:lnTo>
                      <a:pt x="780" y="1614"/>
                    </a:lnTo>
                    <a:cubicBezTo>
                      <a:pt x="667" y="1572"/>
                      <a:pt x="566" y="1462"/>
                      <a:pt x="489" y="1359"/>
                    </a:cubicBezTo>
                    <a:cubicBezTo>
                      <a:pt x="406" y="1257"/>
                      <a:pt x="388" y="1081"/>
                      <a:pt x="321" y="997"/>
                    </a:cubicBezTo>
                    <a:lnTo>
                      <a:pt x="162" y="885"/>
                    </a:lnTo>
                    <a:lnTo>
                      <a:pt x="66" y="770"/>
                    </a:lnTo>
                    <a:cubicBezTo>
                      <a:pt x="50" y="732"/>
                      <a:pt x="47" y="676"/>
                      <a:pt x="66" y="657"/>
                    </a:cubicBezTo>
                    <a:cubicBezTo>
                      <a:pt x="85" y="638"/>
                      <a:pt x="141" y="652"/>
                      <a:pt x="179" y="657"/>
                    </a:cubicBezTo>
                    <a:cubicBezTo>
                      <a:pt x="213" y="663"/>
                      <a:pt x="242" y="679"/>
                      <a:pt x="270" y="693"/>
                    </a:cubicBezTo>
                    <a:cubicBezTo>
                      <a:pt x="298" y="707"/>
                      <a:pt x="314" y="724"/>
                      <a:pt x="349" y="742"/>
                    </a:cubicBezTo>
                    <a:cubicBezTo>
                      <a:pt x="384" y="760"/>
                      <a:pt x="449" y="810"/>
                      <a:pt x="477" y="801"/>
                    </a:cubicBezTo>
                    <a:cubicBezTo>
                      <a:pt x="505" y="792"/>
                      <a:pt x="515" y="727"/>
                      <a:pt x="519" y="685"/>
                    </a:cubicBezTo>
                    <a:lnTo>
                      <a:pt x="486" y="573"/>
                    </a:lnTo>
                    <a:lnTo>
                      <a:pt x="406" y="459"/>
                    </a:lnTo>
                    <a:lnTo>
                      <a:pt x="279" y="288"/>
                    </a:lnTo>
                    <a:lnTo>
                      <a:pt x="66" y="155"/>
                    </a:lnTo>
                    <a:cubicBezTo>
                      <a:pt x="24" y="114"/>
                      <a:pt x="0" y="84"/>
                      <a:pt x="24" y="42"/>
                    </a:cubicBezTo>
                    <a:cubicBezTo>
                      <a:pt x="48" y="0"/>
                      <a:pt x="86" y="34"/>
                      <a:pt x="123" y="33"/>
                    </a:cubicBezTo>
                    <a:lnTo>
                      <a:pt x="234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fc0"/>
                  </a:gs>
                  <a:gs pos="100000">
                    <a:srgbClr val="ffcc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0" name=""/>
          <p:cNvGrpSpPr/>
          <p:nvPr/>
        </p:nvGrpSpPr>
        <p:grpSpPr>
          <a:xfrm>
            <a:off x="2232000" y="5073480"/>
            <a:ext cx="1663200" cy="990720"/>
            <a:chOff x="2232000" y="5073480"/>
            <a:chExt cx="1663200" cy="990720"/>
          </a:xfrm>
        </p:grpSpPr>
        <p:grpSp>
          <p:nvGrpSpPr>
            <p:cNvPr id="681" name=""/>
            <p:cNvGrpSpPr/>
            <p:nvPr/>
          </p:nvGrpSpPr>
          <p:grpSpPr>
            <a:xfrm>
              <a:off x="2508120" y="5084640"/>
              <a:ext cx="1387080" cy="979560"/>
              <a:chOff x="2508120" y="5084640"/>
              <a:chExt cx="1387080" cy="979560"/>
            </a:xfrm>
          </p:grpSpPr>
          <p:sp>
            <p:nvSpPr>
              <p:cNvPr id="682" name=""/>
              <p:cNvSpPr/>
              <p:nvPr/>
            </p:nvSpPr>
            <p:spPr>
              <a:xfrm>
                <a:off x="2508120" y="5084640"/>
                <a:ext cx="1387080" cy="979560"/>
              </a:xfrm>
              <a:custGeom>
                <a:avLst/>
                <a:gdLst/>
                <a:ahLst/>
                <a:rect l="l" t="t" r="r" b="b"/>
                <a:pathLst>
                  <a:path w="3870" h="2736">
                    <a:moveTo>
                      <a:pt x="0" y="2037"/>
                    </a:moveTo>
                    <a:lnTo>
                      <a:pt x="45" y="2111"/>
                    </a:lnTo>
                    <a:lnTo>
                      <a:pt x="90" y="2166"/>
                    </a:lnTo>
                    <a:lnTo>
                      <a:pt x="181" y="2202"/>
                    </a:lnTo>
                    <a:lnTo>
                      <a:pt x="2580" y="2724"/>
                    </a:lnTo>
                    <a:lnTo>
                      <a:pt x="2652" y="2736"/>
                    </a:lnTo>
                    <a:lnTo>
                      <a:pt x="2710" y="2729"/>
                    </a:lnTo>
                    <a:lnTo>
                      <a:pt x="2777" y="2662"/>
                    </a:lnTo>
                    <a:lnTo>
                      <a:pt x="3846" y="801"/>
                    </a:lnTo>
                    <a:lnTo>
                      <a:pt x="3870" y="747"/>
                    </a:lnTo>
                    <a:lnTo>
                      <a:pt x="3867" y="708"/>
                    </a:lnTo>
                    <a:lnTo>
                      <a:pt x="3848" y="655"/>
                    </a:lnTo>
                    <a:lnTo>
                      <a:pt x="3809" y="583"/>
                    </a:lnTo>
                    <a:lnTo>
                      <a:pt x="3747" y="554"/>
                    </a:lnTo>
                    <a:lnTo>
                      <a:pt x="1251" y="7"/>
                    </a:lnTo>
                    <a:lnTo>
                      <a:pt x="1182" y="0"/>
                    </a:lnTo>
                    <a:lnTo>
                      <a:pt x="1131" y="27"/>
                    </a:lnTo>
                    <a:lnTo>
                      <a:pt x="1088" y="84"/>
                    </a:lnTo>
                    <a:lnTo>
                      <a:pt x="13" y="1961"/>
                    </a:lnTo>
                    <a:lnTo>
                      <a:pt x="0" y="20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2e2e2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426120" y="5304240"/>
                <a:ext cx="462960" cy="758880"/>
              </a:xfrm>
              <a:custGeom>
                <a:avLst/>
                <a:gdLst/>
                <a:ahLst/>
                <a:rect l="l" t="t" r="r" b="b"/>
                <a:pathLst>
                  <a:path w="1292" h="2120">
                    <a:moveTo>
                      <a:pt x="1248" y="0"/>
                    </a:moveTo>
                    <a:lnTo>
                      <a:pt x="164" y="1908"/>
                    </a:lnTo>
                    <a:lnTo>
                      <a:pt x="82" y="2000"/>
                    </a:lnTo>
                    <a:lnTo>
                      <a:pt x="0" y="2009"/>
                    </a:lnTo>
                    <a:lnTo>
                      <a:pt x="106" y="2024"/>
                    </a:lnTo>
                    <a:lnTo>
                      <a:pt x="125" y="2062"/>
                    </a:lnTo>
                    <a:lnTo>
                      <a:pt x="135" y="2096"/>
                    </a:lnTo>
                    <a:lnTo>
                      <a:pt x="125" y="2120"/>
                    </a:lnTo>
                    <a:lnTo>
                      <a:pt x="212" y="2028"/>
                    </a:lnTo>
                    <a:lnTo>
                      <a:pt x="1287" y="147"/>
                    </a:lnTo>
                    <a:lnTo>
                      <a:pt x="1292" y="99"/>
                    </a:lnTo>
                    <a:lnTo>
                      <a:pt x="1272" y="32"/>
                    </a:lnTo>
                    <a:lnTo>
                      <a:pt x="12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513880" y="5798520"/>
                <a:ext cx="908640" cy="223200"/>
              </a:xfrm>
              <a:custGeom>
                <a:avLst/>
                <a:gdLst/>
                <a:ahLst/>
                <a:rect l="l" t="t" r="r" b="b"/>
                <a:pathLst>
                  <a:path w="2535" h="624">
                    <a:moveTo>
                      <a:pt x="0" y="0"/>
                    </a:moveTo>
                    <a:lnTo>
                      <a:pt x="34" y="53"/>
                    </a:lnTo>
                    <a:lnTo>
                      <a:pt x="68" y="77"/>
                    </a:lnTo>
                    <a:lnTo>
                      <a:pt x="2535" y="620"/>
                    </a:lnTo>
                    <a:lnTo>
                      <a:pt x="2496" y="624"/>
                    </a:lnTo>
                    <a:lnTo>
                      <a:pt x="39" y="87"/>
                    </a:lnTo>
                    <a:lnTo>
                      <a:pt x="15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584800" y="5126760"/>
                <a:ext cx="1209600" cy="817560"/>
              </a:xfrm>
              <a:custGeom>
                <a:avLst/>
                <a:gdLst/>
                <a:ahLst/>
                <a:rect l="l" t="t" r="r" b="b"/>
                <a:pathLst>
                  <a:path w="3375" h="2284">
                    <a:moveTo>
                      <a:pt x="3375" y="532"/>
                    </a:moveTo>
                    <a:lnTo>
                      <a:pt x="984" y="0"/>
                    </a:lnTo>
                    <a:lnTo>
                      <a:pt x="0" y="1737"/>
                    </a:lnTo>
                    <a:lnTo>
                      <a:pt x="2352" y="2284"/>
                    </a:lnTo>
                    <a:lnTo>
                      <a:pt x="3375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10360" y="5142960"/>
                <a:ext cx="1150920" cy="779400"/>
              </a:xfrm>
              <a:custGeom>
                <a:avLst/>
                <a:gdLst/>
                <a:ahLst/>
                <a:rect l="l" t="t" r="r" b="b"/>
                <a:pathLst>
                  <a:path w="3211" h="2177">
                    <a:moveTo>
                      <a:pt x="3211" y="502"/>
                    </a:moveTo>
                    <a:lnTo>
                      <a:pt x="946" y="0"/>
                    </a:lnTo>
                    <a:lnTo>
                      <a:pt x="0" y="1659"/>
                    </a:lnTo>
                    <a:lnTo>
                      <a:pt x="2237" y="2177"/>
                    </a:lnTo>
                    <a:lnTo>
                      <a:pt x="3211" y="5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edfe"/>
                  </a:gs>
                  <a:gs pos="100000">
                    <a:srgbClr val="66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2232000" y="5073480"/>
              <a:ext cx="985320" cy="985320"/>
              <a:chOff x="2232000" y="5073480"/>
              <a:chExt cx="985320" cy="985320"/>
            </a:xfrm>
          </p:grpSpPr>
          <p:sp>
            <p:nvSpPr>
              <p:cNvPr id="688" name=""/>
              <p:cNvSpPr/>
              <p:nvPr/>
            </p:nvSpPr>
            <p:spPr>
              <a:xfrm flipH="1" rot="2700000">
                <a:off x="2689200" y="5449320"/>
                <a:ext cx="235080" cy="230760"/>
              </a:xfrm>
              <a:custGeom>
                <a:avLst/>
                <a:gdLst/>
                <a:ahLst/>
                <a:rect l="l" t="t" r="r" b="b"/>
                <a:pathLst>
                  <a:path w="470" h="461">
                    <a:moveTo>
                      <a:pt x="197" y="0"/>
                    </a:moveTo>
                    <a:cubicBezTo>
                      <a:pt x="148" y="20"/>
                      <a:pt x="41" y="80"/>
                      <a:pt x="16" y="131"/>
                    </a:cubicBezTo>
                    <a:cubicBezTo>
                      <a:pt x="0" y="186"/>
                      <a:pt x="27" y="254"/>
                      <a:pt x="48" y="309"/>
                    </a:cubicBezTo>
                    <a:lnTo>
                      <a:pt x="145" y="461"/>
                    </a:lnTo>
                    <a:lnTo>
                      <a:pt x="373" y="435"/>
                    </a:lnTo>
                    <a:lnTo>
                      <a:pt x="470" y="233"/>
                    </a:lnTo>
                    <a:lnTo>
                      <a:pt x="373" y="81"/>
                    </a:lnTo>
                    <a:lnTo>
                      <a:pt x="311" y="9"/>
                    </a:lnTo>
                    <a:lnTo>
                      <a:pt x="1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bb8c"/>
                  </a:gs>
                  <a:gs pos="100000">
                    <a:srgbClr val="ffcc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 rot="2700000">
                <a:off x="2744280" y="5513400"/>
                <a:ext cx="113400" cy="84960"/>
              </a:xfrm>
              <a:custGeom>
                <a:avLst/>
                <a:gdLst/>
                <a:ahLst/>
                <a:rect l="l" t="t" r="r" b="b"/>
                <a:pathLst>
                  <a:path w="227" h="170">
                    <a:moveTo>
                      <a:pt x="0" y="0"/>
                    </a:moveTo>
                    <a:lnTo>
                      <a:pt x="57" y="85"/>
                    </a:lnTo>
                    <a:lnTo>
                      <a:pt x="29" y="170"/>
                    </a:lnTo>
                    <a:lnTo>
                      <a:pt x="85" y="113"/>
                    </a:lnTo>
                    <a:lnTo>
                      <a:pt x="142" y="170"/>
                    </a:lnTo>
                    <a:lnTo>
                      <a:pt x="227" y="113"/>
                    </a:lnTo>
                    <a:lnTo>
                      <a:pt x="170" y="0"/>
                    </a:lnTo>
                    <a:lnTo>
                      <a:pt x="8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 rot="2700000">
                <a:off x="2431440" y="5162040"/>
                <a:ext cx="585360" cy="808200"/>
              </a:xfrm>
              <a:custGeom>
                <a:avLst/>
                <a:gdLst/>
                <a:ahLst/>
                <a:rect l="l" t="t" r="r" b="b"/>
                <a:pathLst>
                  <a:path w="1170" h="1614">
                    <a:moveTo>
                      <a:pt x="234" y="56"/>
                    </a:moveTo>
                    <a:lnTo>
                      <a:pt x="459" y="176"/>
                    </a:lnTo>
                    <a:lnTo>
                      <a:pt x="642" y="338"/>
                    </a:lnTo>
                    <a:lnTo>
                      <a:pt x="804" y="507"/>
                    </a:lnTo>
                    <a:cubicBezTo>
                      <a:pt x="856" y="576"/>
                      <a:pt x="915" y="659"/>
                      <a:pt x="954" y="753"/>
                    </a:cubicBezTo>
                    <a:cubicBezTo>
                      <a:pt x="993" y="847"/>
                      <a:pt x="1017" y="978"/>
                      <a:pt x="1038" y="1074"/>
                    </a:cubicBezTo>
                    <a:cubicBezTo>
                      <a:pt x="1059" y="1170"/>
                      <a:pt x="1061" y="1242"/>
                      <a:pt x="1083" y="1332"/>
                    </a:cubicBezTo>
                    <a:lnTo>
                      <a:pt x="1170" y="1614"/>
                    </a:lnTo>
                    <a:lnTo>
                      <a:pt x="780" y="1614"/>
                    </a:lnTo>
                    <a:cubicBezTo>
                      <a:pt x="667" y="1572"/>
                      <a:pt x="566" y="1462"/>
                      <a:pt x="489" y="1359"/>
                    </a:cubicBezTo>
                    <a:cubicBezTo>
                      <a:pt x="406" y="1257"/>
                      <a:pt x="388" y="1081"/>
                      <a:pt x="321" y="997"/>
                    </a:cubicBezTo>
                    <a:lnTo>
                      <a:pt x="162" y="885"/>
                    </a:lnTo>
                    <a:lnTo>
                      <a:pt x="66" y="770"/>
                    </a:lnTo>
                    <a:cubicBezTo>
                      <a:pt x="50" y="732"/>
                      <a:pt x="47" y="676"/>
                      <a:pt x="66" y="657"/>
                    </a:cubicBezTo>
                    <a:cubicBezTo>
                      <a:pt x="85" y="638"/>
                      <a:pt x="141" y="652"/>
                      <a:pt x="179" y="657"/>
                    </a:cubicBezTo>
                    <a:cubicBezTo>
                      <a:pt x="213" y="663"/>
                      <a:pt x="242" y="679"/>
                      <a:pt x="270" y="693"/>
                    </a:cubicBezTo>
                    <a:cubicBezTo>
                      <a:pt x="298" y="707"/>
                      <a:pt x="314" y="724"/>
                      <a:pt x="349" y="742"/>
                    </a:cubicBezTo>
                    <a:cubicBezTo>
                      <a:pt x="384" y="760"/>
                      <a:pt x="449" y="810"/>
                      <a:pt x="477" y="801"/>
                    </a:cubicBezTo>
                    <a:cubicBezTo>
                      <a:pt x="505" y="792"/>
                      <a:pt x="515" y="727"/>
                      <a:pt x="519" y="685"/>
                    </a:cubicBezTo>
                    <a:lnTo>
                      <a:pt x="486" y="573"/>
                    </a:lnTo>
                    <a:lnTo>
                      <a:pt x="406" y="459"/>
                    </a:lnTo>
                    <a:lnTo>
                      <a:pt x="279" y="288"/>
                    </a:lnTo>
                    <a:lnTo>
                      <a:pt x="66" y="155"/>
                    </a:lnTo>
                    <a:cubicBezTo>
                      <a:pt x="24" y="114"/>
                      <a:pt x="0" y="84"/>
                      <a:pt x="24" y="42"/>
                    </a:cubicBezTo>
                    <a:cubicBezTo>
                      <a:pt x="48" y="0"/>
                      <a:pt x="86" y="34"/>
                      <a:pt x="123" y="33"/>
                    </a:cubicBezTo>
                    <a:lnTo>
                      <a:pt x="234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dfc0"/>
                  </a:gs>
                  <a:gs pos="100000">
                    <a:srgbClr val="ffcc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1" name=""/>
          <p:cNvGrpSpPr/>
          <p:nvPr/>
        </p:nvGrpSpPr>
        <p:grpSpPr>
          <a:xfrm>
            <a:off x="4148640" y="5016240"/>
            <a:ext cx="1534320" cy="974880"/>
            <a:chOff x="4148640" y="5016240"/>
            <a:chExt cx="1534320" cy="974880"/>
          </a:xfrm>
        </p:grpSpPr>
        <p:grpSp>
          <p:nvGrpSpPr>
            <p:cNvPr id="692" name=""/>
            <p:cNvGrpSpPr/>
            <p:nvPr/>
          </p:nvGrpSpPr>
          <p:grpSpPr>
            <a:xfrm>
              <a:off x="4347000" y="5048280"/>
              <a:ext cx="1335960" cy="942840"/>
              <a:chOff x="4347000" y="5048280"/>
              <a:chExt cx="1335960" cy="94284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4347000" y="5048280"/>
                <a:ext cx="1335960" cy="942840"/>
                <a:chOff x="4347000" y="5048280"/>
                <a:chExt cx="1335960" cy="94284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347000" y="5048280"/>
                  <a:ext cx="1335960" cy="942840"/>
                </a:xfrm>
                <a:custGeom>
                  <a:avLst/>
                  <a:gdLst/>
                  <a:ahLst/>
                  <a:rect l="l" t="t" r="r" b="b"/>
                  <a:pathLst>
                    <a:path w="3870" h="2736">
                      <a:moveTo>
                        <a:pt x="0" y="2037"/>
                      </a:moveTo>
                      <a:lnTo>
                        <a:pt x="45" y="2111"/>
                      </a:lnTo>
                      <a:lnTo>
                        <a:pt x="90" y="2166"/>
                      </a:lnTo>
                      <a:lnTo>
                        <a:pt x="181" y="2202"/>
                      </a:lnTo>
                      <a:lnTo>
                        <a:pt x="2580" y="2724"/>
                      </a:lnTo>
                      <a:lnTo>
                        <a:pt x="2652" y="2736"/>
                      </a:lnTo>
                      <a:lnTo>
                        <a:pt x="2710" y="2729"/>
                      </a:lnTo>
                      <a:lnTo>
                        <a:pt x="2777" y="2662"/>
                      </a:lnTo>
                      <a:lnTo>
                        <a:pt x="3846" y="801"/>
                      </a:lnTo>
                      <a:lnTo>
                        <a:pt x="3870" y="747"/>
                      </a:lnTo>
                      <a:lnTo>
                        <a:pt x="3867" y="708"/>
                      </a:lnTo>
                      <a:lnTo>
                        <a:pt x="3848" y="655"/>
                      </a:lnTo>
                      <a:lnTo>
                        <a:pt x="3809" y="583"/>
                      </a:lnTo>
                      <a:lnTo>
                        <a:pt x="3747" y="554"/>
                      </a:lnTo>
                      <a:lnTo>
                        <a:pt x="1251" y="7"/>
                      </a:lnTo>
                      <a:lnTo>
                        <a:pt x="1182" y="0"/>
                      </a:lnTo>
                      <a:lnTo>
                        <a:pt x="1131" y="27"/>
                      </a:lnTo>
                      <a:lnTo>
                        <a:pt x="1088" y="84"/>
                      </a:lnTo>
                      <a:lnTo>
                        <a:pt x="13" y="1961"/>
                      </a:lnTo>
                      <a:lnTo>
                        <a:pt x="0" y="2037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442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"/>
                <p:cNvGrpSpPr/>
                <p:nvPr/>
              </p:nvGrpSpPr>
              <p:grpSpPr>
                <a:xfrm>
                  <a:off x="4347000" y="5048280"/>
                  <a:ext cx="1335960" cy="942840"/>
                  <a:chOff x="4347000" y="5048280"/>
                  <a:chExt cx="1335960" cy="94284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4347000" y="5048280"/>
                    <a:ext cx="133596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870" h="2736">
                        <a:moveTo>
                          <a:pt x="0" y="2037"/>
                        </a:moveTo>
                        <a:lnTo>
                          <a:pt x="45" y="2111"/>
                        </a:lnTo>
                        <a:lnTo>
                          <a:pt x="90" y="2166"/>
                        </a:lnTo>
                        <a:lnTo>
                          <a:pt x="181" y="2202"/>
                        </a:lnTo>
                        <a:lnTo>
                          <a:pt x="2580" y="2724"/>
                        </a:lnTo>
                        <a:lnTo>
                          <a:pt x="2652" y="2736"/>
                        </a:lnTo>
                        <a:lnTo>
                          <a:pt x="2710" y="2729"/>
                        </a:lnTo>
                        <a:lnTo>
                          <a:pt x="2777" y="2662"/>
                        </a:lnTo>
                        <a:lnTo>
                          <a:pt x="3846" y="801"/>
                        </a:lnTo>
                        <a:lnTo>
                          <a:pt x="3870" y="747"/>
                        </a:lnTo>
                        <a:lnTo>
                          <a:pt x="3867" y="708"/>
                        </a:lnTo>
                        <a:lnTo>
                          <a:pt x="3848" y="655"/>
                        </a:lnTo>
                        <a:lnTo>
                          <a:pt x="3809" y="583"/>
                        </a:lnTo>
                        <a:lnTo>
                          <a:pt x="3747" y="554"/>
                        </a:lnTo>
                        <a:lnTo>
                          <a:pt x="1251" y="7"/>
                        </a:lnTo>
                        <a:lnTo>
                          <a:pt x="1182" y="0"/>
                        </a:lnTo>
                        <a:lnTo>
                          <a:pt x="1131" y="27"/>
                        </a:lnTo>
                        <a:lnTo>
                          <a:pt x="1088" y="84"/>
                        </a:lnTo>
                        <a:lnTo>
                          <a:pt x="13" y="1961"/>
                        </a:lnTo>
                        <a:lnTo>
                          <a:pt x="0" y="20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171717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5231160" y="5259960"/>
                    <a:ext cx="446040" cy="73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2" h="2120">
                        <a:moveTo>
                          <a:pt x="1248" y="0"/>
                        </a:moveTo>
                        <a:lnTo>
                          <a:pt x="164" y="1908"/>
                        </a:lnTo>
                        <a:lnTo>
                          <a:pt x="82" y="2000"/>
                        </a:lnTo>
                        <a:lnTo>
                          <a:pt x="0" y="2009"/>
                        </a:lnTo>
                        <a:lnTo>
                          <a:pt x="106" y="2024"/>
                        </a:lnTo>
                        <a:lnTo>
                          <a:pt x="125" y="2062"/>
                        </a:lnTo>
                        <a:lnTo>
                          <a:pt x="135" y="2096"/>
                        </a:lnTo>
                        <a:lnTo>
                          <a:pt x="125" y="2120"/>
                        </a:lnTo>
                        <a:lnTo>
                          <a:pt x="212" y="2028"/>
                        </a:lnTo>
                        <a:lnTo>
                          <a:pt x="1287" y="147"/>
                        </a:lnTo>
                        <a:lnTo>
                          <a:pt x="1292" y="99"/>
                        </a:lnTo>
                        <a:lnTo>
                          <a:pt x="1272" y="32"/>
                        </a:lnTo>
                        <a:lnTo>
                          <a:pt x="124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71717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4352760" y="5735520"/>
                    <a:ext cx="875160" cy="21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5" h="624">
                        <a:moveTo>
                          <a:pt x="0" y="0"/>
                        </a:moveTo>
                        <a:lnTo>
                          <a:pt x="34" y="53"/>
                        </a:lnTo>
                        <a:lnTo>
                          <a:pt x="68" y="77"/>
                        </a:lnTo>
                        <a:lnTo>
                          <a:pt x="2535" y="620"/>
                        </a:lnTo>
                        <a:lnTo>
                          <a:pt x="2496" y="624"/>
                        </a:lnTo>
                        <a:lnTo>
                          <a:pt x="39" y="87"/>
                        </a:lnTo>
                        <a:lnTo>
                          <a:pt x="15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4420800" y="5088960"/>
                    <a:ext cx="1164960" cy="78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5" h="2284">
                        <a:moveTo>
                          <a:pt x="3375" y="532"/>
                        </a:moveTo>
                        <a:lnTo>
                          <a:pt x="984" y="0"/>
                        </a:lnTo>
                        <a:lnTo>
                          <a:pt x="0" y="1737"/>
                        </a:lnTo>
                        <a:lnTo>
                          <a:pt x="2352" y="2284"/>
                        </a:lnTo>
                        <a:lnTo>
                          <a:pt x="3375" y="5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4445640" y="5104440"/>
                    <a:ext cx="1108440" cy="75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11" h="2177">
                        <a:moveTo>
                          <a:pt x="3211" y="502"/>
                        </a:moveTo>
                        <a:lnTo>
                          <a:pt x="946" y="0"/>
                        </a:lnTo>
                        <a:lnTo>
                          <a:pt x="0" y="1659"/>
                        </a:lnTo>
                        <a:lnTo>
                          <a:pt x="2237" y="2177"/>
                        </a:lnTo>
                        <a:lnTo>
                          <a:pt x="3211" y="502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1" name=""/>
              <p:cNvGrpSpPr/>
              <p:nvPr/>
            </p:nvGrpSpPr>
            <p:grpSpPr>
              <a:xfrm>
                <a:off x="4526280" y="5147640"/>
                <a:ext cx="674280" cy="532440"/>
                <a:chOff x="4526280" y="5147640"/>
                <a:chExt cx="674280" cy="532440"/>
              </a:xfrm>
            </p:grpSpPr>
            <p:sp>
              <p:nvSpPr>
                <p:cNvPr id="702" name=""/>
                <p:cNvSpPr/>
                <p:nvPr/>
              </p:nvSpPr>
              <p:spPr>
                <a:xfrm rot="659400">
                  <a:off x="4777200" y="515988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bddd5c"/>
                    </a:gs>
                    <a:gs pos="100000">
                      <a:srgbClr val="99cc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rot="659400">
                  <a:off x="4914720" y="518652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dd9dfe"/>
                    </a:gs>
                    <a:gs pos="100000">
                      <a:srgbClr val="cc66ff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rot="659400">
                  <a:off x="5052240" y="5213520"/>
                  <a:ext cx="140400" cy="93960"/>
                </a:xfrm>
                <a:prstGeom prst="parallelogram">
                  <a:avLst>
                    <a:gd name="adj" fmla="val 37356"/>
                  </a:avLst>
                </a:prstGeom>
                <a:gradFill rotWithShape="0">
                  <a:gsLst>
                    <a:gs pos="0">
                      <a:srgbClr val="5c9d5c"/>
                    </a:gs>
                    <a:gs pos="100000">
                      <a:srgbClr val="0066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rot="659400">
                  <a:off x="4696920" y="5279040"/>
                  <a:ext cx="140040" cy="94320"/>
                </a:xfrm>
                <a:prstGeom prst="parallelogram">
                  <a:avLst>
                    <a:gd name="adj" fmla="val 37118"/>
                  </a:avLst>
                </a:prstGeom>
                <a:gradFill rotWithShape="0">
                  <a:gsLst>
                    <a:gs pos="0">
                      <a:srgbClr val="ddbd5c"/>
                    </a:gs>
                    <a:gs pos="100000">
                      <a:srgbClr val="cc99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rot="659400">
                  <a:off x="4834440" y="5305680"/>
                  <a:ext cx="140400" cy="94320"/>
                </a:xfrm>
                <a:prstGeom prst="parallelogram">
                  <a:avLst>
                    <a:gd name="adj" fmla="val 37214"/>
                  </a:avLst>
                </a:prstGeom>
                <a:gradFill rotWithShape="0">
                  <a:gsLst>
                    <a:gs pos="0">
                      <a:srgbClr val="5cbdbd"/>
                    </a:gs>
                    <a:gs pos="100000">
                      <a:srgbClr val="009999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rot="659400">
                  <a:off x="4972680" y="5332320"/>
                  <a:ext cx="140040" cy="94320"/>
                </a:xfrm>
                <a:prstGeom prst="parallelogram">
                  <a:avLst>
                    <a:gd name="adj" fmla="val 37118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rot="659400">
                  <a:off x="4613760" y="540072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7c7cbd"/>
                    </a:gs>
                    <a:gs pos="100000">
                      <a:srgbClr val="333399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rot="659400">
                  <a:off x="4751640" y="5427360"/>
                  <a:ext cx="140400" cy="93960"/>
                </a:xfrm>
                <a:prstGeom prst="parallelogram">
                  <a:avLst>
                    <a:gd name="adj" fmla="val 37356"/>
                  </a:avLst>
                </a:prstGeom>
                <a:gradFill rotWithShape="0">
                  <a:gsLst>
                    <a:gs pos="0">
                      <a:srgbClr val="ad5c5c"/>
                    </a:gs>
                    <a:gs pos="100000">
                      <a:srgbClr val="8000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rot="659400">
                  <a:off x="4889520" y="545436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d6d6d6"/>
                    </a:gs>
                    <a:gs pos="100000">
                      <a:srgbClr val="c0c0c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rot="659400">
                  <a:off x="4533840" y="5520240"/>
                  <a:ext cx="140400" cy="93960"/>
                </a:xfrm>
                <a:prstGeom prst="parallelogram">
                  <a:avLst>
                    <a:gd name="adj" fmla="val 37356"/>
                  </a:avLst>
                </a:prstGeom>
                <a:gradFill rotWithShape="0">
                  <a:gsLst>
                    <a:gs pos="0">
                      <a:srgbClr val="fe9d5c"/>
                    </a:gs>
                    <a:gs pos="100000">
                      <a:srgbClr val="ff66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659400">
                  <a:off x="4671720" y="554688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adadad"/>
                    </a:gs>
                    <a:gs pos="100000">
                      <a:srgbClr val="80808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rot="659400">
                  <a:off x="4809240" y="557352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dddd5c"/>
                    </a:gs>
                    <a:gs pos="100000">
                      <a:srgbClr val="cccc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4" name=""/>
            <p:cNvGrpSpPr/>
            <p:nvPr/>
          </p:nvGrpSpPr>
          <p:grpSpPr>
            <a:xfrm>
              <a:off x="4148640" y="5019480"/>
              <a:ext cx="878760" cy="956880"/>
              <a:chOff x="4148640" y="5019480"/>
              <a:chExt cx="878760" cy="95688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4149000" y="5019480"/>
                <a:ext cx="878400" cy="956880"/>
                <a:chOff x="4149000" y="5019480"/>
                <a:chExt cx="878400" cy="956880"/>
              </a:xfrm>
            </p:grpSpPr>
            <p:sp>
              <p:nvSpPr>
                <p:cNvPr id="716" name=""/>
                <p:cNvSpPr/>
                <p:nvPr/>
              </p:nvSpPr>
              <p:spPr>
                <a:xfrm flipH="1" rot="1800000">
                  <a:off x="4550760" y="5364360"/>
                  <a:ext cx="226800" cy="222480"/>
                </a:xfrm>
                <a:custGeom>
                  <a:avLst/>
                  <a:gdLst/>
                  <a:ahLst/>
                  <a:rect l="l" t="t" r="r" b="b"/>
                  <a:pathLst>
                    <a:path w="470" h="461">
                      <a:moveTo>
                        <a:pt x="197" y="0"/>
                      </a:moveTo>
                      <a:cubicBezTo>
                        <a:pt x="148" y="20"/>
                        <a:pt x="41" y="80"/>
                        <a:pt x="16" y="131"/>
                      </a:cubicBezTo>
                      <a:cubicBezTo>
                        <a:pt x="0" y="186"/>
                        <a:pt x="27" y="254"/>
                        <a:pt x="48" y="309"/>
                      </a:cubicBezTo>
                      <a:lnTo>
                        <a:pt x="145" y="461"/>
                      </a:lnTo>
                      <a:lnTo>
                        <a:pt x="373" y="435"/>
                      </a:lnTo>
                      <a:lnTo>
                        <a:pt x="470" y="233"/>
                      </a:lnTo>
                      <a:lnTo>
                        <a:pt x="373" y="81"/>
                      </a:lnTo>
                      <a:lnTo>
                        <a:pt x="311" y="9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 rot="1800000">
                  <a:off x="4601880" y="5428440"/>
                  <a:ext cx="109440" cy="82080"/>
                </a:xfrm>
                <a:custGeom>
                  <a:avLst/>
                  <a:gdLst/>
                  <a:ahLst/>
                  <a:rect l="l" t="t" r="r" b="b"/>
                  <a:pathLst>
                    <a:path w="227" h="170">
                      <a:moveTo>
                        <a:pt x="0" y="0"/>
                      </a:moveTo>
                      <a:lnTo>
                        <a:pt x="57" y="85"/>
                      </a:lnTo>
                      <a:lnTo>
                        <a:pt x="29" y="170"/>
                      </a:lnTo>
                      <a:lnTo>
                        <a:pt x="85" y="113"/>
                      </a:lnTo>
                      <a:lnTo>
                        <a:pt x="142" y="170"/>
                      </a:lnTo>
                      <a:lnTo>
                        <a:pt x="227" y="113"/>
                      </a:lnTo>
                      <a:lnTo>
                        <a:pt x="170" y="0"/>
                      </a:lnTo>
                      <a:lnTo>
                        <a:pt x="85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 rot="1800000">
                  <a:off x="4305600" y="5108400"/>
                  <a:ext cx="564840" cy="779040"/>
                </a:xfrm>
                <a:custGeom>
                  <a:avLst/>
                  <a:gdLst/>
                  <a:ahLst/>
                  <a:rect l="l" t="t" r="r" b="b"/>
                  <a:pathLst>
                    <a:path w="1170" h="1614">
                      <a:moveTo>
                        <a:pt x="234" y="56"/>
                      </a:moveTo>
                      <a:lnTo>
                        <a:pt x="459" y="176"/>
                      </a:lnTo>
                      <a:lnTo>
                        <a:pt x="642" y="338"/>
                      </a:lnTo>
                      <a:lnTo>
                        <a:pt x="804" y="507"/>
                      </a:lnTo>
                      <a:cubicBezTo>
                        <a:pt x="856" y="576"/>
                        <a:pt x="915" y="659"/>
                        <a:pt x="954" y="753"/>
                      </a:cubicBezTo>
                      <a:cubicBezTo>
                        <a:pt x="993" y="847"/>
                        <a:pt x="1017" y="978"/>
                        <a:pt x="1038" y="1074"/>
                      </a:cubicBezTo>
                      <a:cubicBezTo>
                        <a:pt x="1059" y="1170"/>
                        <a:pt x="1061" y="1242"/>
                        <a:pt x="1083" y="1332"/>
                      </a:cubicBezTo>
                      <a:lnTo>
                        <a:pt x="1170" y="1614"/>
                      </a:lnTo>
                      <a:lnTo>
                        <a:pt x="780" y="1614"/>
                      </a:lnTo>
                      <a:cubicBezTo>
                        <a:pt x="667" y="1572"/>
                        <a:pt x="566" y="1462"/>
                        <a:pt x="489" y="1359"/>
                      </a:cubicBezTo>
                      <a:cubicBezTo>
                        <a:pt x="406" y="1257"/>
                        <a:pt x="388" y="1081"/>
                        <a:pt x="321" y="997"/>
                      </a:cubicBezTo>
                      <a:lnTo>
                        <a:pt x="162" y="885"/>
                      </a:lnTo>
                      <a:lnTo>
                        <a:pt x="66" y="770"/>
                      </a:lnTo>
                      <a:cubicBezTo>
                        <a:pt x="50" y="732"/>
                        <a:pt x="47" y="676"/>
                        <a:pt x="66" y="657"/>
                      </a:cubicBezTo>
                      <a:cubicBezTo>
                        <a:pt x="85" y="638"/>
                        <a:pt x="141" y="652"/>
                        <a:pt x="179" y="657"/>
                      </a:cubicBezTo>
                      <a:cubicBezTo>
                        <a:pt x="213" y="663"/>
                        <a:pt x="242" y="679"/>
                        <a:pt x="270" y="693"/>
                      </a:cubicBezTo>
                      <a:cubicBezTo>
                        <a:pt x="298" y="707"/>
                        <a:pt x="314" y="724"/>
                        <a:pt x="349" y="742"/>
                      </a:cubicBezTo>
                      <a:cubicBezTo>
                        <a:pt x="384" y="760"/>
                        <a:pt x="449" y="810"/>
                        <a:pt x="477" y="801"/>
                      </a:cubicBezTo>
                      <a:cubicBezTo>
                        <a:pt x="505" y="792"/>
                        <a:pt x="515" y="727"/>
                        <a:pt x="519" y="685"/>
                      </a:cubicBezTo>
                      <a:lnTo>
                        <a:pt x="486" y="573"/>
                      </a:lnTo>
                      <a:lnTo>
                        <a:pt x="406" y="459"/>
                      </a:lnTo>
                      <a:lnTo>
                        <a:pt x="279" y="288"/>
                      </a:lnTo>
                      <a:lnTo>
                        <a:pt x="66" y="155"/>
                      </a:lnTo>
                      <a:cubicBezTo>
                        <a:pt x="24" y="114"/>
                        <a:pt x="0" y="84"/>
                        <a:pt x="24" y="42"/>
                      </a:cubicBezTo>
                      <a:cubicBezTo>
                        <a:pt x="48" y="0"/>
                        <a:pt x="86" y="34"/>
                        <a:pt x="123" y="33"/>
                      </a:cubicBezTo>
                      <a:lnTo>
                        <a:pt x="234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4148640" y="5019480"/>
                <a:ext cx="878400" cy="956880"/>
                <a:chOff x="4148640" y="5019480"/>
                <a:chExt cx="878400" cy="956880"/>
              </a:xfrm>
            </p:grpSpPr>
            <p:sp>
              <p:nvSpPr>
                <p:cNvPr id="720" name=""/>
                <p:cNvSpPr/>
                <p:nvPr/>
              </p:nvSpPr>
              <p:spPr>
                <a:xfrm flipH="1" rot="1800000">
                  <a:off x="4550040" y="5364720"/>
                  <a:ext cx="226800" cy="222480"/>
                </a:xfrm>
                <a:custGeom>
                  <a:avLst/>
                  <a:gdLst/>
                  <a:ahLst/>
                  <a:rect l="l" t="t" r="r" b="b"/>
                  <a:pathLst>
                    <a:path w="470" h="461">
                      <a:moveTo>
                        <a:pt x="197" y="0"/>
                      </a:moveTo>
                      <a:cubicBezTo>
                        <a:pt x="148" y="20"/>
                        <a:pt x="41" y="80"/>
                        <a:pt x="16" y="131"/>
                      </a:cubicBezTo>
                      <a:cubicBezTo>
                        <a:pt x="0" y="186"/>
                        <a:pt x="27" y="254"/>
                        <a:pt x="48" y="309"/>
                      </a:cubicBezTo>
                      <a:lnTo>
                        <a:pt x="145" y="461"/>
                      </a:lnTo>
                      <a:lnTo>
                        <a:pt x="373" y="435"/>
                      </a:lnTo>
                      <a:lnTo>
                        <a:pt x="470" y="233"/>
                      </a:lnTo>
                      <a:lnTo>
                        <a:pt x="373" y="81"/>
                      </a:lnTo>
                      <a:lnTo>
                        <a:pt x="311" y="9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bb8c"/>
                    </a:gs>
                    <a:gs pos="100000">
                      <a:srgbClr val="ffcc9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 rot="1800000">
                  <a:off x="4601160" y="5428440"/>
                  <a:ext cx="109440" cy="82080"/>
                </a:xfrm>
                <a:custGeom>
                  <a:avLst/>
                  <a:gdLst/>
                  <a:ahLst/>
                  <a:rect l="l" t="t" r="r" b="b"/>
                  <a:pathLst>
                    <a:path w="227" h="170">
                      <a:moveTo>
                        <a:pt x="0" y="0"/>
                      </a:moveTo>
                      <a:lnTo>
                        <a:pt x="57" y="85"/>
                      </a:lnTo>
                      <a:lnTo>
                        <a:pt x="29" y="170"/>
                      </a:lnTo>
                      <a:lnTo>
                        <a:pt x="85" y="113"/>
                      </a:lnTo>
                      <a:lnTo>
                        <a:pt x="142" y="170"/>
                      </a:lnTo>
                      <a:lnTo>
                        <a:pt x="227" y="113"/>
                      </a:lnTo>
                      <a:lnTo>
                        <a:pt x="170" y="0"/>
                      </a:lnTo>
                      <a:lnTo>
                        <a:pt x="85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 rot="1800000">
                  <a:off x="4305240" y="5108400"/>
                  <a:ext cx="564840" cy="779040"/>
                </a:xfrm>
                <a:custGeom>
                  <a:avLst/>
                  <a:gdLst/>
                  <a:ahLst/>
                  <a:rect l="l" t="t" r="r" b="b"/>
                  <a:pathLst>
                    <a:path w="1170" h="1614">
                      <a:moveTo>
                        <a:pt x="234" y="56"/>
                      </a:moveTo>
                      <a:lnTo>
                        <a:pt x="459" y="176"/>
                      </a:lnTo>
                      <a:lnTo>
                        <a:pt x="642" y="338"/>
                      </a:lnTo>
                      <a:lnTo>
                        <a:pt x="804" y="507"/>
                      </a:lnTo>
                      <a:cubicBezTo>
                        <a:pt x="856" y="576"/>
                        <a:pt x="915" y="659"/>
                        <a:pt x="954" y="753"/>
                      </a:cubicBezTo>
                      <a:cubicBezTo>
                        <a:pt x="993" y="847"/>
                        <a:pt x="1017" y="978"/>
                        <a:pt x="1038" y="1074"/>
                      </a:cubicBezTo>
                      <a:cubicBezTo>
                        <a:pt x="1059" y="1170"/>
                        <a:pt x="1061" y="1242"/>
                        <a:pt x="1083" y="1332"/>
                      </a:cubicBezTo>
                      <a:lnTo>
                        <a:pt x="1170" y="1614"/>
                      </a:lnTo>
                      <a:lnTo>
                        <a:pt x="780" y="1614"/>
                      </a:lnTo>
                      <a:cubicBezTo>
                        <a:pt x="667" y="1572"/>
                        <a:pt x="566" y="1462"/>
                        <a:pt x="489" y="1359"/>
                      </a:cubicBezTo>
                      <a:cubicBezTo>
                        <a:pt x="406" y="1257"/>
                        <a:pt x="388" y="1081"/>
                        <a:pt x="321" y="997"/>
                      </a:cubicBezTo>
                      <a:lnTo>
                        <a:pt x="162" y="885"/>
                      </a:lnTo>
                      <a:lnTo>
                        <a:pt x="66" y="770"/>
                      </a:lnTo>
                      <a:cubicBezTo>
                        <a:pt x="50" y="732"/>
                        <a:pt x="47" y="676"/>
                        <a:pt x="66" y="657"/>
                      </a:cubicBezTo>
                      <a:cubicBezTo>
                        <a:pt x="85" y="638"/>
                        <a:pt x="141" y="652"/>
                        <a:pt x="179" y="657"/>
                      </a:cubicBezTo>
                      <a:cubicBezTo>
                        <a:pt x="213" y="663"/>
                        <a:pt x="242" y="679"/>
                        <a:pt x="270" y="693"/>
                      </a:cubicBezTo>
                      <a:cubicBezTo>
                        <a:pt x="298" y="707"/>
                        <a:pt x="314" y="724"/>
                        <a:pt x="349" y="742"/>
                      </a:cubicBezTo>
                      <a:cubicBezTo>
                        <a:pt x="384" y="760"/>
                        <a:pt x="449" y="810"/>
                        <a:pt x="477" y="801"/>
                      </a:cubicBezTo>
                      <a:cubicBezTo>
                        <a:pt x="505" y="792"/>
                        <a:pt x="515" y="727"/>
                        <a:pt x="519" y="685"/>
                      </a:cubicBezTo>
                      <a:lnTo>
                        <a:pt x="486" y="573"/>
                      </a:lnTo>
                      <a:lnTo>
                        <a:pt x="406" y="459"/>
                      </a:lnTo>
                      <a:lnTo>
                        <a:pt x="279" y="288"/>
                      </a:lnTo>
                      <a:lnTo>
                        <a:pt x="66" y="155"/>
                      </a:lnTo>
                      <a:cubicBezTo>
                        <a:pt x="24" y="114"/>
                        <a:pt x="0" y="84"/>
                        <a:pt x="24" y="42"/>
                      </a:cubicBezTo>
                      <a:cubicBezTo>
                        <a:pt x="48" y="0"/>
                        <a:pt x="86" y="34"/>
                        <a:pt x="123" y="33"/>
                      </a:cubicBezTo>
                      <a:lnTo>
                        <a:pt x="234" y="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dfc0"/>
                    </a:gs>
                    <a:gs pos="100000">
                      <a:srgbClr val="ffcc9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3" name=""/>
            <p:cNvGrpSpPr/>
            <p:nvPr/>
          </p:nvGrpSpPr>
          <p:grpSpPr>
            <a:xfrm>
              <a:off x="5033160" y="5016240"/>
              <a:ext cx="594360" cy="358560"/>
              <a:chOff x="5033160" y="5016240"/>
              <a:chExt cx="594360" cy="358560"/>
            </a:xfrm>
          </p:grpSpPr>
          <p:sp>
            <p:nvSpPr>
              <p:cNvPr id="724" name=""/>
              <p:cNvSpPr txBox="1"/>
              <p:nvPr/>
            </p:nvSpPr>
            <p:spPr>
              <a:xfrm rot="20700000">
                <a:off x="5052240" y="5084280"/>
                <a:ext cx="555840" cy="22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Left">
                  <a:avLst>
                    <a:gd name="adj" fmla="val 180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TOUCH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725" name=""/>
              <p:cNvSpPr txBox="1"/>
              <p:nvPr/>
            </p:nvSpPr>
            <p:spPr>
              <a:xfrm rot="20700000">
                <a:off x="5052240" y="5084280"/>
                <a:ext cx="555840" cy="22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Left">
                  <a:avLst>
                    <a:gd name="adj" fmla="val 180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メイリオ"/>
                  </a:rPr>
                  <a:t>TOUCH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6019920" y="5018040"/>
            <a:ext cx="1571040" cy="974880"/>
            <a:chOff x="6019920" y="5018040"/>
            <a:chExt cx="1571040" cy="974880"/>
          </a:xfrm>
        </p:grpSpPr>
        <p:grpSp>
          <p:nvGrpSpPr>
            <p:cNvPr id="727" name=""/>
            <p:cNvGrpSpPr/>
            <p:nvPr/>
          </p:nvGrpSpPr>
          <p:grpSpPr>
            <a:xfrm>
              <a:off x="6255360" y="5049720"/>
              <a:ext cx="1335600" cy="943200"/>
              <a:chOff x="6255360" y="5049720"/>
              <a:chExt cx="1335600" cy="943200"/>
            </a:xfrm>
          </p:grpSpPr>
          <p:grpSp>
            <p:nvGrpSpPr>
              <p:cNvPr id="728" name=""/>
              <p:cNvGrpSpPr/>
              <p:nvPr/>
            </p:nvGrpSpPr>
            <p:grpSpPr>
              <a:xfrm>
                <a:off x="6255360" y="5049720"/>
                <a:ext cx="1335600" cy="943200"/>
                <a:chOff x="6255360" y="5049720"/>
                <a:chExt cx="1335600" cy="94320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6255360" y="5049720"/>
                  <a:ext cx="1335600" cy="943200"/>
                </a:xfrm>
                <a:custGeom>
                  <a:avLst/>
                  <a:gdLst/>
                  <a:ahLst/>
                  <a:rect l="l" t="t" r="r" b="b"/>
                  <a:pathLst>
                    <a:path w="3870" h="2736">
                      <a:moveTo>
                        <a:pt x="0" y="2037"/>
                      </a:moveTo>
                      <a:lnTo>
                        <a:pt x="45" y="2111"/>
                      </a:lnTo>
                      <a:lnTo>
                        <a:pt x="90" y="2166"/>
                      </a:lnTo>
                      <a:lnTo>
                        <a:pt x="181" y="2202"/>
                      </a:lnTo>
                      <a:lnTo>
                        <a:pt x="2580" y="2724"/>
                      </a:lnTo>
                      <a:lnTo>
                        <a:pt x="2652" y="2736"/>
                      </a:lnTo>
                      <a:lnTo>
                        <a:pt x="2710" y="2729"/>
                      </a:lnTo>
                      <a:lnTo>
                        <a:pt x="2777" y="2662"/>
                      </a:lnTo>
                      <a:lnTo>
                        <a:pt x="3846" y="801"/>
                      </a:lnTo>
                      <a:lnTo>
                        <a:pt x="3870" y="747"/>
                      </a:lnTo>
                      <a:lnTo>
                        <a:pt x="3867" y="708"/>
                      </a:lnTo>
                      <a:lnTo>
                        <a:pt x="3848" y="655"/>
                      </a:lnTo>
                      <a:lnTo>
                        <a:pt x="3809" y="583"/>
                      </a:lnTo>
                      <a:lnTo>
                        <a:pt x="3747" y="554"/>
                      </a:lnTo>
                      <a:lnTo>
                        <a:pt x="1251" y="7"/>
                      </a:lnTo>
                      <a:lnTo>
                        <a:pt x="1182" y="0"/>
                      </a:lnTo>
                      <a:lnTo>
                        <a:pt x="1131" y="27"/>
                      </a:lnTo>
                      <a:lnTo>
                        <a:pt x="1088" y="84"/>
                      </a:lnTo>
                      <a:lnTo>
                        <a:pt x="13" y="1961"/>
                      </a:lnTo>
                      <a:lnTo>
                        <a:pt x="0" y="2037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442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"/>
                <p:cNvGrpSpPr/>
                <p:nvPr/>
              </p:nvGrpSpPr>
              <p:grpSpPr>
                <a:xfrm>
                  <a:off x="6255360" y="5049720"/>
                  <a:ext cx="1335600" cy="943200"/>
                  <a:chOff x="6255360" y="5049720"/>
                  <a:chExt cx="1335600" cy="94320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6255360" y="5049720"/>
                    <a:ext cx="13356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70" h="2736">
                        <a:moveTo>
                          <a:pt x="0" y="2037"/>
                        </a:moveTo>
                        <a:lnTo>
                          <a:pt x="45" y="2111"/>
                        </a:lnTo>
                        <a:lnTo>
                          <a:pt x="90" y="2166"/>
                        </a:lnTo>
                        <a:lnTo>
                          <a:pt x="181" y="2202"/>
                        </a:lnTo>
                        <a:lnTo>
                          <a:pt x="2580" y="2724"/>
                        </a:lnTo>
                        <a:lnTo>
                          <a:pt x="2652" y="2736"/>
                        </a:lnTo>
                        <a:lnTo>
                          <a:pt x="2710" y="2729"/>
                        </a:lnTo>
                        <a:lnTo>
                          <a:pt x="2777" y="2662"/>
                        </a:lnTo>
                        <a:lnTo>
                          <a:pt x="3846" y="801"/>
                        </a:lnTo>
                        <a:lnTo>
                          <a:pt x="3870" y="747"/>
                        </a:lnTo>
                        <a:lnTo>
                          <a:pt x="3867" y="708"/>
                        </a:lnTo>
                        <a:lnTo>
                          <a:pt x="3848" y="655"/>
                        </a:lnTo>
                        <a:lnTo>
                          <a:pt x="3809" y="583"/>
                        </a:lnTo>
                        <a:lnTo>
                          <a:pt x="3747" y="554"/>
                        </a:lnTo>
                        <a:lnTo>
                          <a:pt x="1251" y="7"/>
                        </a:lnTo>
                        <a:lnTo>
                          <a:pt x="1182" y="0"/>
                        </a:lnTo>
                        <a:lnTo>
                          <a:pt x="1131" y="27"/>
                        </a:lnTo>
                        <a:lnTo>
                          <a:pt x="1088" y="84"/>
                        </a:lnTo>
                        <a:lnTo>
                          <a:pt x="13" y="1961"/>
                        </a:lnTo>
                        <a:lnTo>
                          <a:pt x="0" y="20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7139160" y="5261400"/>
                    <a:ext cx="445680" cy="73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2" h="2120">
                        <a:moveTo>
                          <a:pt x="1248" y="0"/>
                        </a:moveTo>
                        <a:lnTo>
                          <a:pt x="164" y="1908"/>
                        </a:lnTo>
                        <a:lnTo>
                          <a:pt x="82" y="2000"/>
                        </a:lnTo>
                        <a:lnTo>
                          <a:pt x="0" y="2009"/>
                        </a:lnTo>
                        <a:lnTo>
                          <a:pt x="106" y="2024"/>
                        </a:lnTo>
                        <a:lnTo>
                          <a:pt x="125" y="2062"/>
                        </a:lnTo>
                        <a:lnTo>
                          <a:pt x="135" y="2096"/>
                        </a:lnTo>
                        <a:lnTo>
                          <a:pt x="125" y="2120"/>
                        </a:lnTo>
                        <a:lnTo>
                          <a:pt x="212" y="2028"/>
                        </a:lnTo>
                        <a:lnTo>
                          <a:pt x="1287" y="147"/>
                        </a:lnTo>
                        <a:lnTo>
                          <a:pt x="1292" y="99"/>
                        </a:lnTo>
                        <a:lnTo>
                          <a:pt x="1272" y="32"/>
                        </a:lnTo>
                        <a:lnTo>
                          <a:pt x="124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eaeae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6261120" y="5737320"/>
                    <a:ext cx="874800" cy="21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5" h="624">
                        <a:moveTo>
                          <a:pt x="0" y="0"/>
                        </a:moveTo>
                        <a:lnTo>
                          <a:pt x="34" y="53"/>
                        </a:lnTo>
                        <a:lnTo>
                          <a:pt x="68" y="77"/>
                        </a:lnTo>
                        <a:lnTo>
                          <a:pt x="2535" y="620"/>
                        </a:lnTo>
                        <a:lnTo>
                          <a:pt x="2496" y="624"/>
                        </a:lnTo>
                        <a:lnTo>
                          <a:pt x="39" y="87"/>
                        </a:lnTo>
                        <a:lnTo>
                          <a:pt x="15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6329160" y="5090400"/>
                    <a:ext cx="1164600" cy="78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5" h="2284">
                        <a:moveTo>
                          <a:pt x="3375" y="532"/>
                        </a:moveTo>
                        <a:lnTo>
                          <a:pt x="984" y="0"/>
                        </a:lnTo>
                        <a:lnTo>
                          <a:pt x="0" y="1737"/>
                        </a:lnTo>
                        <a:lnTo>
                          <a:pt x="2352" y="2284"/>
                        </a:lnTo>
                        <a:lnTo>
                          <a:pt x="3375" y="5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6354000" y="5105880"/>
                    <a:ext cx="1108080" cy="75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1" h="2177">
                        <a:moveTo>
                          <a:pt x="3211" y="502"/>
                        </a:moveTo>
                        <a:lnTo>
                          <a:pt x="946" y="0"/>
                        </a:lnTo>
                        <a:lnTo>
                          <a:pt x="0" y="1659"/>
                        </a:lnTo>
                        <a:lnTo>
                          <a:pt x="2237" y="2177"/>
                        </a:lnTo>
                        <a:lnTo>
                          <a:pt x="3211" y="502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6" name=""/>
              <p:cNvGrpSpPr/>
              <p:nvPr/>
            </p:nvGrpSpPr>
            <p:grpSpPr>
              <a:xfrm>
                <a:off x="6435720" y="5158440"/>
                <a:ext cx="674280" cy="532440"/>
                <a:chOff x="6435720" y="5158440"/>
                <a:chExt cx="674280" cy="532440"/>
              </a:xfrm>
            </p:grpSpPr>
            <p:sp>
              <p:nvSpPr>
                <p:cNvPr id="737" name=""/>
                <p:cNvSpPr/>
                <p:nvPr/>
              </p:nvSpPr>
              <p:spPr>
                <a:xfrm rot="659400">
                  <a:off x="6686640" y="517068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bddd5c"/>
                    </a:gs>
                    <a:gs pos="100000">
                      <a:srgbClr val="99cc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rot="659400">
                  <a:off x="6824160" y="519732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dd9dfe"/>
                    </a:gs>
                    <a:gs pos="100000">
                      <a:srgbClr val="cc66ff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rot="659400">
                  <a:off x="6961680" y="5224320"/>
                  <a:ext cx="140400" cy="93960"/>
                </a:xfrm>
                <a:prstGeom prst="parallelogram">
                  <a:avLst>
                    <a:gd name="adj" fmla="val 37356"/>
                  </a:avLst>
                </a:prstGeom>
                <a:gradFill rotWithShape="0">
                  <a:gsLst>
                    <a:gs pos="0">
                      <a:srgbClr val="5c9d5c"/>
                    </a:gs>
                    <a:gs pos="100000">
                      <a:srgbClr val="0066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rot="659400">
                  <a:off x="6606360" y="5289840"/>
                  <a:ext cx="140040" cy="94320"/>
                </a:xfrm>
                <a:prstGeom prst="parallelogram">
                  <a:avLst>
                    <a:gd name="adj" fmla="val 37118"/>
                  </a:avLst>
                </a:prstGeom>
                <a:gradFill rotWithShape="0">
                  <a:gsLst>
                    <a:gs pos="0">
                      <a:srgbClr val="ddbd5c"/>
                    </a:gs>
                    <a:gs pos="100000">
                      <a:srgbClr val="cc99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rot="659400">
                  <a:off x="6743880" y="5316480"/>
                  <a:ext cx="140400" cy="94320"/>
                </a:xfrm>
                <a:prstGeom prst="parallelogram">
                  <a:avLst>
                    <a:gd name="adj" fmla="val 37214"/>
                  </a:avLst>
                </a:prstGeom>
                <a:gradFill rotWithShape="0">
                  <a:gsLst>
                    <a:gs pos="0">
                      <a:srgbClr val="5cbdbd"/>
                    </a:gs>
                    <a:gs pos="100000">
                      <a:srgbClr val="009999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rot="659400">
                  <a:off x="6882120" y="5343120"/>
                  <a:ext cx="140040" cy="94320"/>
                </a:xfrm>
                <a:prstGeom prst="parallelogram">
                  <a:avLst>
                    <a:gd name="adj" fmla="val 37118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rot="659400">
                  <a:off x="6523200" y="541152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7c7cbd"/>
                    </a:gs>
                    <a:gs pos="100000">
                      <a:srgbClr val="333399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rot="659400">
                  <a:off x="6661080" y="5438160"/>
                  <a:ext cx="140400" cy="93960"/>
                </a:xfrm>
                <a:prstGeom prst="parallelogram">
                  <a:avLst>
                    <a:gd name="adj" fmla="val 37356"/>
                  </a:avLst>
                </a:prstGeom>
                <a:gradFill rotWithShape="0">
                  <a:gsLst>
                    <a:gs pos="0">
                      <a:srgbClr val="ad5c5c"/>
                    </a:gs>
                    <a:gs pos="100000">
                      <a:srgbClr val="8000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rot="659400">
                  <a:off x="6798960" y="546516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d6d6d6"/>
                    </a:gs>
                    <a:gs pos="100000">
                      <a:srgbClr val="c0c0c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659400">
                  <a:off x="6443280" y="5531040"/>
                  <a:ext cx="140400" cy="93960"/>
                </a:xfrm>
                <a:prstGeom prst="parallelogram">
                  <a:avLst>
                    <a:gd name="adj" fmla="val 37356"/>
                  </a:avLst>
                </a:prstGeom>
                <a:gradFill rotWithShape="0">
                  <a:gsLst>
                    <a:gs pos="0">
                      <a:srgbClr val="fe9d5c"/>
                    </a:gs>
                    <a:gs pos="100000">
                      <a:srgbClr val="ff66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659400">
                  <a:off x="6581160" y="555768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adadad"/>
                    </a:gs>
                    <a:gs pos="100000">
                      <a:srgbClr val="80808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rot="659400">
                  <a:off x="6718680" y="558432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dddd5c"/>
                    </a:gs>
                    <a:gs pos="100000">
                      <a:srgbClr val="cccc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6019920" y="5020920"/>
              <a:ext cx="879120" cy="957240"/>
              <a:chOff x="6019920" y="5020920"/>
              <a:chExt cx="879120" cy="95724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6020640" y="5020920"/>
                <a:ext cx="878400" cy="956880"/>
                <a:chOff x="6020640" y="5020920"/>
                <a:chExt cx="878400" cy="9568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800000">
                  <a:off x="6422040" y="5366160"/>
                  <a:ext cx="226800" cy="222480"/>
                </a:xfrm>
                <a:custGeom>
                  <a:avLst/>
                  <a:gdLst/>
                  <a:ahLst/>
                  <a:rect l="l" t="t" r="r" b="b"/>
                  <a:pathLst>
                    <a:path w="470" h="461">
                      <a:moveTo>
                        <a:pt x="197" y="0"/>
                      </a:moveTo>
                      <a:cubicBezTo>
                        <a:pt x="148" y="20"/>
                        <a:pt x="41" y="80"/>
                        <a:pt x="16" y="131"/>
                      </a:cubicBezTo>
                      <a:cubicBezTo>
                        <a:pt x="0" y="186"/>
                        <a:pt x="27" y="254"/>
                        <a:pt x="48" y="309"/>
                      </a:cubicBezTo>
                      <a:lnTo>
                        <a:pt x="145" y="461"/>
                      </a:lnTo>
                      <a:lnTo>
                        <a:pt x="373" y="435"/>
                      </a:lnTo>
                      <a:lnTo>
                        <a:pt x="470" y="233"/>
                      </a:lnTo>
                      <a:lnTo>
                        <a:pt x="373" y="81"/>
                      </a:lnTo>
                      <a:lnTo>
                        <a:pt x="311" y="9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800000">
                  <a:off x="6473520" y="5429880"/>
                  <a:ext cx="109440" cy="82080"/>
                </a:xfrm>
                <a:custGeom>
                  <a:avLst/>
                  <a:gdLst/>
                  <a:ahLst/>
                  <a:rect l="l" t="t" r="r" b="b"/>
                  <a:pathLst>
                    <a:path w="227" h="170">
                      <a:moveTo>
                        <a:pt x="0" y="0"/>
                      </a:moveTo>
                      <a:lnTo>
                        <a:pt x="57" y="85"/>
                      </a:lnTo>
                      <a:lnTo>
                        <a:pt x="29" y="170"/>
                      </a:lnTo>
                      <a:lnTo>
                        <a:pt x="85" y="113"/>
                      </a:lnTo>
                      <a:lnTo>
                        <a:pt x="142" y="170"/>
                      </a:lnTo>
                      <a:lnTo>
                        <a:pt x="227" y="113"/>
                      </a:lnTo>
                      <a:lnTo>
                        <a:pt x="170" y="0"/>
                      </a:lnTo>
                      <a:lnTo>
                        <a:pt x="85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800000">
                  <a:off x="6177240" y="5109840"/>
                  <a:ext cx="564840" cy="779040"/>
                </a:xfrm>
                <a:custGeom>
                  <a:avLst/>
                  <a:gdLst/>
                  <a:ahLst/>
                  <a:rect l="l" t="t" r="r" b="b"/>
                  <a:pathLst>
                    <a:path w="1170" h="1614">
                      <a:moveTo>
                        <a:pt x="234" y="56"/>
                      </a:moveTo>
                      <a:lnTo>
                        <a:pt x="459" y="176"/>
                      </a:lnTo>
                      <a:lnTo>
                        <a:pt x="642" y="338"/>
                      </a:lnTo>
                      <a:lnTo>
                        <a:pt x="804" y="507"/>
                      </a:lnTo>
                      <a:cubicBezTo>
                        <a:pt x="856" y="576"/>
                        <a:pt x="915" y="659"/>
                        <a:pt x="954" y="753"/>
                      </a:cubicBezTo>
                      <a:cubicBezTo>
                        <a:pt x="993" y="847"/>
                        <a:pt x="1017" y="978"/>
                        <a:pt x="1038" y="1074"/>
                      </a:cubicBezTo>
                      <a:cubicBezTo>
                        <a:pt x="1059" y="1170"/>
                        <a:pt x="1061" y="1242"/>
                        <a:pt x="1083" y="1332"/>
                      </a:cubicBezTo>
                      <a:lnTo>
                        <a:pt x="1170" y="1614"/>
                      </a:lnTo>
                      <a:lnTo>
                        <a:pt x="780" y="1614"/>
                      </a:lnTo>
                      <a:cubicBezTo>
                        <a:pt x="667" y="1572"/>
                        <a:pt x="566" y="1462"/>
                        <a:pt x="489" y="1359"/>
                      </a:cubicBezTo>
                      <a:cubicBezTo>
                        <a:pt x="406" y="1257"/>
                        <a:pt x="388" y="1081"/>
                        <a:pt x="321" y="997"/>
                      </a:cubicBezTo>
                      <a:lnTo>
                        <a:pt x="162" y="885"/>
                      </a:lnTo>
                      <a:lnTo>
                        <a:pt x="66" y="770"/>
                      </a:lnTo>
                      <a:cubicBezTo>
                        <a:pt x="50" y="732"/>
                        <a:pt x="47" y="676"/>
                        <a:pt x="66" y="657"/>
                      </a:cubicBezTo>
                      <a:cubicBezTo>
                        <a:pt x="85" y="638"/>
                        <a:pt x="141" y="652"/>
                        <a:pt x="179" y="657"/>
                      </a:cubicBezTo>
                      <a:cubicBezTo>
                        <a:pt x="213" y="663"/>
                        <a:pt x="242" y="679"/>
                        <a:pt x="270" y="693"/>
                      </a:cubicBezTo>
                      <a:cubicBezTo>
                        <a:pt x="298" y="707"/>
                        <a:pt x="314" y="724"/>
                        <a:pt x="349" y="742"/>
                      </a:cubicBezTo>
                      <a:cubicBezTo>
                        <a:pt x="384" y="760"/>
                        <a:pt x="449" y="810"/>
                        <a:pt x="477" y="801"/>
                      </a:cubicBezTo>
                      <a:cubicBezTo>
                        <a:pt x="505" y="792"/>
                        <a:pt x="515" y="727"/>
                        <a:pt x="519" y="685"/>
                      </a:cubicBezTo>
                      <a:lnTo>
                        <a:pt x="486" y="573"/>
                      </a:lnTo>
                      <a:lnTo>
                        <a:pt x="406" y="459"/>
                      </a:lnTo>
                      <a:lnTo>
                        <a:pt x="279" y="288"/>
                      </a:lnTo>
                      <a:lnTo>
                        <a:pt x="66" y="155"/>
                      </a:lnTo>
                      <a:cubicBezTo>
                        <a:pt x="24" y="114"/>
                        <a:pt x="0" y="84"/>
                        <a:pt x="24" y="42"/>
                      </a:cubicBezTo>
                      <a:cubicBezTo>
                        <a:pt x="48" y="0"/>
                        <a:pt x="86" y="34"/>
                        <a:pt x="123" y="33"/>
                      </a:cubicBezTo>
                      <a:lnTo>
                        <a:pt x="234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6019920" y="5021280"/>
                <a:ext cx="878400" cy="956880"/>
                <a:chOff x="6019920" y="5021280"/>
                <a:chExt cx="878400" cy="956880"/>
              </a:xfrm>
            </p:grpSpPr>
            <p:sp>
              <p:nvSpPr>
                <p:cNvPr id="755" name=""/>
                <p:cNvSpPr/>
                <p:nvPr/>
              </p:nvSpPr>
              <p:spPr>
                <a:xfrm flipH="1" rot="1800000">
                  <a:off x="6421680" y="5366520"/>
                  <a:ext cx="226800" cy="222480"/>
                </a:xfrm>
                <a:custGeom>
                  <a:avLst/>
                  <a:gdLst/>
                  <a:ahLst/>
                  <a:rect l="l" t="t" r="r" b="b"/>
                  <a:pathLst>
                    <a:path w="470" h="461">
                      <a:moveTo>
                        <a:pt x="197" y="0"/>
                      </a:moveTo>
                      <a:cubicBezTo>
                        <a:pt x="148" y="20"/>
                        <a:pt x="41" y="80"/>
                        <a:pt x="16" y="131"/>
                      </a:cubicBezTo>
                      <a:cubicBezTo>
                        <a:pt x="0" y="186"/>
                        <a:pt x="27" y="254"/>
                        <a:pt x="48" y="309"/>
                      </a:cubicBezTo>
                      <a:lnTo>
                        <a:pt x="145" y="461"/>
                      </a:lnTo>
                      <a:lnTo>
                        <a:pt x="373" y="435"/>
                      </a:lnTo>
                      <a:lnTo>
                        <a:pt x="470" y="233"/>
                      </a:lnTo>
                      <a:lnTo>
                        <a:pt x="373" y="81"/>
                      </a:lnTo>
                      <a:lnTo>
                        <a:pt x="311" y="9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bb8c"/>
                    </a:gs>
                    <a:gs pos="100000">
                      <a:srgbClr val="ffcc9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 rot="1800000">
                  <a:off x="6472800" y="5429880"/>
                  <a:ext cx="109440" cy="82080"/>
                </a:xfrm>
                <a:custGeom>
                  <a:avLst/>
                  <a:gdLst/>
                  <a:ahLst/>
                  <a:rect l="l" t="t" r="r" b="b"/>
                  <a:pathLst>
                    <a:path w="227" h="170">
                      <a:moveTo>
                        <a:pt x="0" y="0"/>
                      </a:moveTo>
                      <a:lnTo>
                        <a:pt x="57" y="85"/>
                      </a:lnTo>
                      <a:lnTo>
                        <a:pt x="29" y="170"/>
                      </a:lnTo>
                      <a:lnTo>
                        <a:pt x="85" y="113"/>
                      </a:lnTo>
                      <a:lnTo>
                        <a:pt x="142" y="170"/>
                      </a:lnTo>
                      <a:lnTo>
                        <a:pt x="227" y="113"/>
                      </a:lnTo>
                      <a:lnTo>
                        <a:pt x="170" y="0"/>
                      </a:lnTo>
                      <a:lnTo>
                        <a:pt x="85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800000">
                  <a:off x="6176520" y="5110200"/>
                  <a:ext cx="564840" cy="779040"/>
                </a:xfrm>
                <a:custGeom>
                  <a:avLst/>
                  <a:gdLst/>
                  <a:ahLst/>
                  <a:rect l="l" t="t" r="r" b="b"/>
                  <a:pathLst>
                    <a:path w="1170" h="1614">
                      <a:moveTo>
                        <a:pt x="234" y="56"/>
                      </a:moveTo>
                      <a:lnTo>
                        <a:pt x="459" y="176"/>
                      </a:lnTo>
                      <a:lnTo>
                        <a:pt x="642" y="338"/>
                      </a:lnTo>
                      <a:lnTo>
                        <a:pt x="804" y="507"/>
                      </a:lnTo>
                      <a:cubicBezTo>
                        <a:pt x="856" y="576"/>
                        <a:pt x="915" y="659"/>
                        <a:pt x="954" y="753"/>
                      </a:cubicBezTo>
                      <a:cubicBezTo>
                        <a:pt x="993" y="847"/>
                        <a:pt x="1017" y="978"/>
                        <a:pt x="1038" y="1074"/>
                      </a:cubicBezTo>
                      <a:cubicBezTo>
                        <a:pt x="1059" y="1170"/>
                        <a:pt x="1061" y="1242"/>
                        <a:pt x="1083" y="1332"/>
                      </a:cubicBezTo>
                      <a:lnTo>
                        <a:pt x="1170" y="1614"/>
                      </a:lnTo>
                      <a:lnTo>
                        <a:pt x="780" y="1614"/>
                      </a:lnTo>
                      <a:cubicBezTo>
                        <a:pt x="667" y="1572"/>
                        <a:pt x="566" y="1462"/>
                        <a:pt x="489" y="1359"/>
                      </a:cubicBezTo>
                      <a:cubicBezTo>
                        <a:pt x="406" y="1257"/>
                        <a:pt x="388" y="1081"/>
                        <a:pt x="321" y="997"/>
                      </a:cubicBezTo>
                      <a:lnTo>
                        <a:pt x="162" y="885"/>
                      </a:lnTo>
                      <a:lnTo>
                        <a:pt x="66" y="770"/>
                      </a:lnTo>
                      <a:cubicBezTo>
                        <a:pt x="50" y="732"/>
                        <a:pt x="47" y="676"/>
                        <a:pt x="66" y="657"/>
                      </a:cubicBezTo>
                      <a:cubicBezTo>
                        <a:pt x="85" y="638"/>
                        <a:pt x="141" y="652"/>
                        <a:pt x="179" y="657"/>
                      </a:cubicBezTo>
                      <a:cubicBezTo>
                        <a:pt x="213" y="663"/>
                        <a:pt x="242" y="679"/>
                        <a:pt x="270" y="693"/>
                      </a:cubicBezTo>
                      <a:cubicBezTo>
                        <a:pt x="298" y="707"/>
                        <a:pt x="314" y="724"/>
                        <a:pt x="349" y="742"/>
                      </a:cubicBezTo>
                      <a:cubicBezTo>
                        <a:pt x="384" y="760"/>
                        <a:pt x="449" y="810"/>
                        <a:pt x="477" y="801"/>
                      </a:cubicBezTo>
                      <a:cubicBezTo>
                        <a:pt x="505" y="792"/>
                        <a:pt x="515" y="727"/>
                        <a:pt x="519" y="685"/>
                      </a:cubicBezTo>
                      <a:lnTo>
                        <a:pt x="486" y="573"/>
                      </a:lnTo>
                      <a:lnTo>
                        <a:pt x="406" y="459"/>
                      </a:lnTo>
                      <a:lnTo>
                        <a:pt x="279" y="288"/>
                      </a:lnTo>
                      <a:lnTo>
                        <a:pt x="66" y="155"/>
                      </a:lnTo>
                      <a:cubicBezTo>
                        <a:pt x="24" y="114"/>
                        <a:pt x="0" y="84"/>
                        <a:pt x="24" y="42"/>
                      </a:cubicBezTo>
                      <a:cubicBezTo>
                        <a:pt x="48" y="0"/>
                        <a:pt x="86" y="34"/>
                        <a:pt x="123" y="33"/>
                      </a:cubicBezTo>
                      <a:lnTo>
                        <a:pt x="234" y="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dfc0"/>
                    </a:gs>
                    <a:gs pos="100000">
                      <a:srgbClr val="ffcc9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8" name=""/>
            <p:cNvGrpSpPr/>
            <p:nvPr/>
          </p:nvGrpSpPr>
          <p:grpSpPr>
            <a:xfrm>
              <a:off x="6904800" y="5018040"/>
              <a:ext cx="594360" cy="358560"/>
              <a:chOff x="6904800" y="5018040"/>
              <a:chExt cx="594360" cy="358560"/>
            </a:xfrm>
          </p:grpSpPr>
          <p:sp>
            <p:nvSpPr>
              <p:cNvPr id="759" name=""/>
              <p:cNvSpPr txBox="1"/>
              <p:nvPr/>
            </p:nvSpPr>
            <p:spPr>
              <a:xfrm rot="20700000">
                <a:off x="6923880" y="5086080"/>
                <a:ext cx="555840" cy="22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Left">
                  <a:avLst>
                    <a:gd name="adj" fmla="val 180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TOUCH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 rot="20700000">
                <a:off x="6923880" y="5086080"/>
                <a:ext cx="555840" cy="22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Left">
                  <a:avLst>
                    <a:gd name="adj" fmla="val 180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メイリオ"/>
                  </a:rPr>
                  <a:t>TOUCH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761" name=""/>
          <p:cNvGrpSpPr/>
          <p:nvPr/>
        </p:nvGrpSpPr>
        <p:grpSpPr>
          <a:xfrm>
            <a:off x="7820280" y="5029560"/>
            <a:ext cx="1571040" cy="961560"/>
            <a:chOff x="7820280" y="5029560"/>
            <a:chExt cx="1571040" cy="961560"/>
          </a:xfrm>
        </p:grpSpPr>
        <p:grpSp>
          <p:nvGrpSpPr>
            <p:cNvPr id="762" name=""/>
            <p:cNvGrpSpPr/>
            <p:nvPr/>
          </p:nvGrpSpPr>
          <p:grpSpPr>
            <a:xfrm>
              <a:off x="8055360" y="5048280"/>
              <a:ext cx="1335960" cy="942840"/>
              <a:chOff x="8055360" y="5048280"/>
              <a:chExt cx="1335960" cy="942840"/>
            </a:xfrm>
          </p:grpSpPr>
          <p:grpSp>
            <p:nvGrpSpPr>
              <p:cNvPr id="763" name=""/>
              <p:cNvGrpSpPr/>
              <p:nvPr/>
            </p:nvGrpSpPr>
            <p:grpSpPr>
              <a:xfrm>
                <a:off x="8055360" y="5048280"/>
                <a:ext cx="1335960" cy="942840"/>
                <a:chOff x="8055360" y="5048280"/>
                <a:chExt cx="1335960" cy="94284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8055360" y="5048280"/>
                  <a:ext cx="1335960" cy="942840"/>
                </a:xfrm>
                <a:custGeom>
                  <a:avLst/>
                  <a:gdLst/>
                  <a:ahLst/>
                  <a:rect l="l" t="t" r="r" b="b"/>
                  <a:pathLst>
                    <a:path w="3870" h="2736">
                      <a:moveTo>
                        <a:pt x="0" y="2037"/>
                      </a:moveTo>
                      <a:lnTo>
                        <a:pt x="45" y="2111"/>
                      </a:lnTo>
                      <a:lnTo>
                        <a:pt x="90" y="2166"/>
                      </a:lnTo>
                      <a:lnTo>
                        <a:pt x="181" y="2202"/>
                      </a:lnTo>
                      <a:lnTo>
                        <a:pt x="2580" y="2724"/>
                      </a:lnTo>
                      <a:lnTo>
                        <a:pt x="2652" y="2736"/>
                      </a:lnTo>
                      <a:lnTo>
                        <a:pt x="2710" y="2729"/>
                      </a:lnTo>
                      <a:lnTo>
                        <a:pt x="2777" y="2662"/>
                      </a:lnTo>
                      <a:lnTo>
                        <a:pt x="3846" y="801"/>
                      </a:lnTo>
                      <a:lnTo>
                        <a:pt x="3870" y="747"/>
                      </a:lnTo>
                      <a:lnTo>
                        <a:pt x="3867" y="708"/>
                      </a:lnTo>
                      <a:lnTo>
                        <a:pt x="3848" y="655"/>
                      </a:lnTo>
                      <a:lnTo>
                        <a:pt x="3809" y="583"/>
                      </a:lnTo>
                      <a:lnTo>
                        <a:pt x="3747" y="554"/>
                      </a:lnTo>
                      <a:lnTo>
                        <a:pt x="1251" y="7"/>
                      </a:lnTo>
                      <a:lnTo>
                        <a:pt x="1182" y="0"/>
                      </a:lnTo>
                      <a:lnTo>
                        <a:pt x="1131" y="27"/>
                      </a:lnTo>
                      <a:lnTo>
                        <a:pt x="1088" y="84"/>
                      </a:lnTo>
                      <a:lnTo>
                        <a:pt x="13" y="1961"/>
                      </a:lnTo>
                      <a:lnTo>
                        <a:pt x="0" y="2037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442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"/>
                <p:cNvGrpSpPr/>
                <p:nvPr/>
              </p:nvGrpSpPr>
              <p:grpSpPr>
                <a:xfrm>
                  <a:off x="8055360" y="5048280"/>
                  <a:ext cx="1335960" cy="942840"/>
                  <a:chOff x="8055360" y="5048280"/>
                  <a:chExt cx="1335960" cy="94284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8055360" y="5048280"/>
                    <a:ext cx="133596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870" h="2736">
                        <a:moveTo>
                          <a:pt x="0" y="2037"/>
                        </a:moveTo>
                        <a:lnTo>
                          <a:pt x="45" y="2111"/>
                        </a:lnTo>
                        <a:lnTo>
                          <a:pt x="90" y="2166"/>
                        </a:lnTo>
                        <a:lnTo>
                          <a:pt x="181" y="2202"/>
                        </a:lnTo>
                        <a:lnTo>
                          <a:pt x="2580" y="2724"/>
                        </a:lnTo>
                        <a:lnTo>
                          <a:pt x="2652" y="2736"/>
                        </a:lnTo>
                        <a:lnTo>
                          <a:pt x="2710" y="2729"/>
                        </a:lnTo>
                        <a:lnTo>
                          <a:pt x="2777" y="2662"/>
                        </a:lnTo>
                        <a:lnTo>
                          <a:pt x="3846" y="801"/>
                        </a:lnTo>
                        <a:lnTo>
                          <a:pt x="3870" y="747"/>
                        </a:lnTo>
                        <a:lnTo>
                          <a:pt x="3867" y="708"/>
                        </a:lnTo>
                        <a:lnTo>
                          <a:pt x="3848" y="655"/>
                        </a:lnTo>
                        <a:lnTo>
                          <a:pt x="3809" y="583"/>
                        </a:lnTo>
                        <a:lnTo>
                          <a:pt x="3747" y="554"/>
                        </a:lnTo>
                        <a:lnTo>
                          <a:pt x="1251" y="7"/>
                        </a:lnTo>
                        <a:lnTo>
                          <a:pt x="1182" y="0"/>
                        </a:lnTo>
                        <a:lnTo>
                          <a:pt x="1131" y="27"/>
                        </a:lnTo>
                        <a:lnTo>
                          <a:pt x="1088" y="84"/>
                        </a:lnTo>
                        <a:lnTo>
                          <a:pt x="13" y="1961"/>
                        </a:lnTo>
                        <a:lnTo>
                          <a:pt x="0" y="203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8939520" y="5259960"/>
                    <a:ext cx="446040" cy="73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2" h="2120">
                        <a:moveTo>
                          <a:pt x="1248" y="0"/>
                        </a:moveTo>
                        <a:lnTo>
                          <a:pt x="164" y="1908"/>
                        </a:lnTo>
                        <a:lnTo>
                          <a:pt x="82" y="2000"/>
                        </a:lnTo>
                        <a:lnTo>
                          <a:pt x="0" y="2009"/>
                        </a:lnTo>
                        <a:lnTo>
                          <a:pt x="106" y="2024"/>
                        </a:lnTo>
                        <a:lnTo>
                          <a:pt x="125" y="2062"/>
                        </a:lnTo>
                        <a:lnTo>
                          <a:pt x="135" y="2096"/>
                        </a:lnTo>
                        <a:lnTo>
                          <a:pt x="125" y="2120"/>
                        </a:lnTo>
                        <a:lnTo>
                          <a:pt x="212" y="2028"/>
                        </a:lnTo>
                        <a:lnTo>
                          <a:pt x="1287" y="147"/>
                        </a:lnTo>
                        <a:lnTo>
                          <a:pt x="1292" y="99"/>
                        </a:lnTo>
                        <a:lnTo>
                          <a:pt x="1272" y="32"/>
                        </a:lnTo>
                        <a:lnTo>
                          <a:pt x="1248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71717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8061120" y="5735520"/>
                    <a:ext cx="875160" cy="21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5" h="624">
                        <a:moveTo>
                          <a:pt x="0" y="0"/>
                        </a:moveTo>
                        <a:lnTo>
                          <a:pt x="34" y="53"/>
                        </a:lnTo>
                        <a:lnTo>
                          <a:pt x="68" y="77"/>
                        </a:lnTo>
                        <a:lnTo>
                          <a:pt x="2535" y="620"/>
                        </a:lnTo>
                        <a:lnTo>
                          <a:pt x="2496" y="624"/>
                        </a:lnTo>
                        <a:lnTo>
                          <a:pt x="39" y="87"/>
                        </a:lnTo>
                        <a:lnTo>
                          <a:pt x="15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8129160" y="5088960"/>
                    <a:ext cx="1164960" cy="78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5" h="2284">
                        <a:moveTo>
                          <a:pt x="3375" y="532"/>
                        </a:moveTo>
                        <a:lnTo>
                          <a:pt x="984" y="0"/>
                        </a:lnTo>
                        <a:lnTo>
                          <a:pt x="0" y="1737"/>
                        </a:lnTo>
                        <a:lnTo>
                          <a:pt x="2352" y="2284"/>
                        </a:lnTo>
                        <a:lnTo>
                          <a:pt x="3375" y="5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8154000" y="5104440"/>
                    <a:ext cx="1108440" cy="75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11" h="2177">
                        <a:moveTo>
                          <a:pt x="3211" y="502"/>
                        </a:moveTo>
                        <a:lnTo>
                          <a:pt x="946" y="0"/>
                        </a:lnTo>
                        <a:lnTo>
                          <a:pt x="0" y="1659"/>
                        </a:lnTo>
                        <a:lnTo>
                          <a:pt x="2237" y="2177"/>
                        </a:lnTo>
                        <a:lnTo>
                          <a:pt x="3211" y="502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1" name=""/>
              <p:cNvGrpSpPr/>
              <p:nvPr/>
            </p:nvGrpSpPr>
            <p:grpSpPr>
              <a:xfrm>
                <a:off x="8234640" y="5147640"/>
                <a:ext cx="674280" cy="532440"/>
                <a:chOff x="8234640" y="5147640"/>
                <a:chExt cx="674280" cy="532440"/>
              </a:xfrm>
            </p:grpSpPr>
            <p:sp>
              <p:nvSpPr>
                <p:cNvPr id="772" name=""/>
                <p:cNvSpPr/>
                <p:nvPr/>
              </p:nvSpPr>
              <p:spPr>
                <a:xfrm rot="659400">
                  <a:off x="8485560" y="515988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bddd5c"/>
                    </a:gs>
                    <a:gs pos="100000">
                      <a:srgbClr val="99cc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659400">
                  <a:off x="8623080" y="518652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dd9dfe"/>
                    </a:gs>
                    <a:gs pos="100000">
                      <a:srgbClr val="cc66ff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rot="659400">
                  <a:off x="8760600" y="5213520"/>
                  <a:ext cx="140400" cy="93960"/>
                </a:xfrm>
                <a:prstGeom prst="parallelogram">
                  <a:avLst>
                    <a:gd name="adj" fmla="val 37356"/>
                  </a:avLst>
                </a:prstGeom>
                <a:gradFill rotWithShape="0">
                  <a:gsLst>
                    <a:gs pos="0">
                      <a:srgbClr val="5c9d5c"/>
                    </a:gs>
                    <a:gs pos="100000">
                      <a:srgbClr val="0066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rot="659400">
                  <a:off x="8405280" y="5279040"/>
                  <a:ext cx="140040" cy="94320"/>
                </a:xfrm>
                <a:prstGeom prst="parallelogram">
                  <a:avLst>
                    <a:gd name="adj" fmla="val 37118"/>
                  </a:avLst>
                </a:prstGeom>
                <a:gradFill rotWithShape="0">
                  <a:gsLst>
                    <a:gs pos="0">
                      <a:srgbClr val="ddbd5c"/>
                    </a:gs>
                    <a:gs pos="100000">
                      <a:srgbClr val="cc99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659400">
                  <a:off x="8542800" y="5305680"/>
                  <a:ext cx="140400" cy="94320"/>
                </a:xfrm>
                <a:prstGeom prst="parallelogram">
                  <a:avLst>
                    <a:gd name="adj" fmla="val 37214"/>
                  </a:avLst>
                </a:prstGeom>
                <a:gradFill rotWithShape="0">
                  <a:gsLst>
                    <a:gs pos="0">
                      <a:srgbClr val="5cbdbd"/>
                    </a:gs>
                    <a:gs pos="100000">
                      <a:srgbClr val="009999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rot="659400">
                  <a:off x="8681040" y="5332320"/>
                  <a:ext cx="140040" cy="94320"/>
                </a:xfrm>
                <a:prstGeom prst="parallelogram">
                  <a:avLst>
                    <a:gd name="adj" fmla="val 37118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rot="659400">
                  <a:off x="8322120" y="540072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7c7cbd"/>
                    </a:gs>
                    <a:gs pos="100000">
                      <a:srgbClr val="333399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659400">
                  <a:off x="8460000" y="5427360"/>
                  <a:ext cx="140400" cy="93960"/>
                </a:xfrm>
                <a:prstGeom prst="parallelogram">
                  <a:avLst>
                    <a:gd name="adj" fmla="val 37356"/>
                  </a:avLst>
                </a:prstGeom>
                <a:gradFill rotWithShape="0">
                  <a:gsLst>
                    <a:gs pos="0">
                      <a:srgbClr val="ad5c5c"/>
                    </a:gs>
                    <a:gs pos="100000">
                      <a:srgbClr val="8000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rot="659400">
                  <a:off x="8597880" y="545436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d6d6d6"/>
                    </a:gs>
                    <a:gs pos="100000">
                      <a:srgbClr val="c0c0c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rot="659400">
                  <a:off x="8242200" y="5520240"/>
                  <a:ext cx="140400" cy="93960"/>
                </a:xfrm>
                <a:prstGeom prst="parallelogram">
                  <a:avLst>
                    <a:gd name="adj" fmla="val 37356"/>
                  </a:avLst>
                </a:prstGeom>
                <a:gradFill rotWithShape="0">
                  <a:gsLst>
                    <a:gs pos="0">
                      <a:srgbClr val="fe9d5c"/>
                    </a:gs>
                    <a:gs pos="100000">
                      <a:srgbClr val="ff66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659400">
                  <a:off x="8380080" y="554688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adadad"/>
                    </a:gs>
                    <a:gs pos="100000">
                      <a:srgbClr val="80808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rot="659400">
                  <a:off x="8517600" y="5573520"/>
                  <a:ext cx="140040" cy="93960"/>
                </a:xfrm>
                <a:prstGeom prst="parallelogram">
                  <a:avLst>
                    <a:gd name="adj" fmla="val 37261"/>
                  </a:avLst>
                </a:prstGeom>
                <a:gradFill rotWithShape="0">
                  <a:gsLst>
                    <a:gs pos="0">
                      <a:srgbClr val="dddd5c"/>
                    </a:gs>
                    <a:gs pos="100000">
                      <a:srgbClr val="cccc00"/>
                    </a:gs>
                  </a:gsLst>
                  <a:lin ang="5400000"/>
                </a:gradFill>
                <a:ln w="3240">
                  <a:solidFill>
                    <a:srgbClr val="333333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4" name=""/>
            <p:cNvGrpSpPr/>
            <p:nvPr/>
          </p:nvGrpSpPr>
          <p:grpSpPr>
            <a:xfrm>
              <a:off x="7820280" y="5032440"/>
              <a:ext cx="879120" cy="957240"/>
              <a:chOff x="7820280" y="5032440"/>
              <a:chExt cx="879120" cy="9572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7821000" y="5032440"/>
                <a:ext cx="878400" cy="956880"/>
                <a:chOff x="7821000" y="5032440"/>
                <a:chExt cx="878400" cy="956880"/>
              </a:xfrm>
            </p:grpSpPr>
            <p:sp>
              <p:nvSpPr>
                <p:cNvPr id="786" name=""/>
                <p:cNvSpPr/>
                <p:nvPr/>
              </p:nvSpPr>
              <p:spPr>
                <a:xfrm flipH="1" rot="1800000">
                  <a:off x="8222400" y="5377680"/>
                  <a:ext cx="226800" cy="222480"/>
                </a:xfrm>
                <a:custGeom>
                  <a:avLst/>
                  <a:gdLst/>
                  <a:ahLst/>
                  <a:rect l="l" t="t" r="r" b="b"/>
                  <a:pathLst>
                    <a:path w="470" h="461">
                      <a:moveTo>
                        <a:pt x="197" y="0"/>
                      </a:moveTo>
                      <a:cubicBezTo>
                        <a:pt x="148" y="20"/>
                        <a:pt x="41" y="80"/>
                        <a:pt x="16" y="131"/>
                      </a:cubicBezTo>
                      <a:cubicBezTo>
                        <a:pt x="0" y="186"/>
                        <a:pt x="27" y="254"/>
                        <a:pt x="48" y="309"/>
                      </a:cubicBezTo>
                      <a:lnTo>
                        <a:pt x="145" y="461"/>
                      </a:lnTo>
                      <a:lnTo>
                        <a:pt x="373" y="435"/>
                      </a:lnTo>
                      <a:lnTo>
                        <a:pt x="470" y="233"/>
                      </a:lnTo>
                      <a:lnTo>
                        <a:pt x="373" y="81"/>
                      </a:lnTo>
                      <a:lnTo>
                        <a:pt x="311" y="9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 rot="1800000">
                  <a:off x="8273880" y="5441400"/>
                  <a:ext cx="109440" cy="82080"/>
                </a:xfrm>
                <a:custGeom>
                  <a:avLst/>
                  <a:gdLst/>
                  <a:ahLst/>
                  <a:rect l="l" t="t" r="r" b="b"/>
                  <a:pathLst>
                    <a:path w="227" h="170">
                      <a:moveTo>
                        <a:pt x="0" y="0"/>
                      </a:moveTo>
                      <a:lnTo>
                        <a:pt x="57" y="85"/>
                      </a:lnTo>
                      <a:lnTo>
                        <a:pt x="29" y="170"/>
                      </a:lnTo>
                      <a:lnTo>
                        <a:pt x="85" y="113"/>
                      </a:lnTo>
                      <a:lnTo>
                        <a:pt x="142" y="170"/>
                      </a:lnTo>
                      <a:lnTo>
                        <a:pt x="227" y="113"/>
                      </a:lnTo>
                      <a:lnTo>
                        <a:pt x="170" y="0"/>
                      </a:lnTo>
                      <a:lnTo>
                        <a:pt x="85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800000">
                  <a:off x="7977600" y="5121360"/>
                  <a:ext cx="564840" cy="779040"/>
                </a:xfrm>
                <a:custGeom>
                  <a:avLst/>
                  <a:gdLst/>
                  <a:ahLst/>
                  <a:rect l="l" t="t" r="r" b="b"/>
                  <a:pathLst>
                    <a:path w="1170" h="1614">
                      <a:moveTo>
                        <a:pt x="234" y="56"/>
                      </a:moveTo>
                      <a:lnTo>
                        <a:pt x="459" y="176"/>
                      </a:lnTo>
                      <a:lnTo>
                        <a:pt x="642" y="338"/>
                      </a:lnTo>
                      <a:lnTo>
                        <a:pt x="804" y="507"/>
                      </a:lnTo>
                      <a:cubicBezTo>
                        <a:pt x="856" y="576"/>
                        <a:pt x="915" y="659"/>
                        <a:pt x="954" y="753"/>
                      </a:cubicBezTo>
                      <a:cubicBezTo>
                        <a:pt x="993" y="847"/>
                        <a:pt x="1017" y="978"/>
                        <a:pt x="1038" y="1074"/>
                      </a:cubicBezTo>
                      <a:cubicBezTo>
                        <a:pt x="1059" y="1170"/>
                        <a:pt x="1061" y="1242"/>
                        <a:pt x="1083" y="1332"/>
                      </a:cubicBezTo>
                      <a:lnTo>
                        <a:pt x="1170" y="1614"/>
                      </a:lnTo>
                      <a:lnTo>
                        <a:pt x="780" y="1614"/>
                      </a:lnTo>
                      <a:cubicBezTo>
                        <a:pt x="667" y="1572"/>
                        <a:pt x="566" y="1462"/>
                        <a:pt x="489" y="1359"/>
                      </a:cubicBezTo>
                      <a:cubicBezTo>
                        <a:pt x="406" y="1257"/>
                        <a:pt x="388" y="1081"/>
                        <a:pt x="321" y="997"/>
                      </a:cubicBezTo>
                      <a:lnTo>
                        <a:pt x="162" y="885"/>
                      </a:lnTo>
                      <a:lnTo>
                        <a:pt x="66" y="770"/>
                      </a:lnTo>
                      <a:cubicBezTo>
                        <a:pt x="50" y="732"/>
                        <a:pt x="47" y="676"/>
                        <a:pt x="66" y="657"/>
                      </a:cubicBezTo>
                      <a:cubicBezTo>
                        <a:pt x="85" y="638"/>
                        <a:pt x="141" y="652"/>
                        <a:pt x="179" y="657"/>
                      </a:cubicBezTo>
                      <a:cubicBezTo>
                        <a:pt x="213" y="663"/>
                        <a:pt x="242" y="679"/>
                        <a:pt x="270" y="693"/>
                      </a:cubicBezTo>
                      <a:cubicBezTo>
                        <a:pt x="298" y="707"/>
                        <a:pt x="314" y="724"/>
                        <a:pt x="349" y="742"/>
                      </a:cubicBezTo>
                      <a:cubicBezTo>
                        <a:pt x="384" y="760"/>
                        <a:pt x="449" y="810"/>
                        <a:pt x="477" y="801"/>
                      </a:cubicBezTo>
                      <a:cubicBezTo>
                        <a:pt x="505" y="792"/>
                        <a:pt x="515" y="727"/>
                        <a:pt x="519" y="685"/>
                      </a:cubicBezTo>
                      <a:lnTo>
                        <a:pt x="486" y="573"/>
                      </a:lnTo>
                      <a:lnTo>
                        <a:pt x="406" y="459"/>
                      </a:lnTo>
                      <a:lnTo>
                        <a:pt x="279" y="288"/>
                      </a:lnTo>
                      <a:lnTo>
                        <a:pt x="66" y="155"/>
                      </a:lnTo>
                      <a:cubicBezTo>
                        <a:pt x="24" y="114"/>
                        <a:pt x="0" y="84"/>
                        <a:pt x="24" y="42"/>
                      </a:cubicBezTo>
                      <a:cubicBezTo>
                        <a:pt x="48" y="0"/>
                        <a:pt x="86" y="34"/>
                        <a:pt x="123" y="33"/>
                      </a:cubicBezTo>
                      <a:lnTo>
                        <a:pt x="234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7820280" y="5032800"/>
                <a:ext cx="878400" cy="956880"/>
                <a:chOff x="7820280" y="5032800"/>
                <a:chExt cx="878400" cy="956880"/>
              </a:xfrm>
            </p:grpSpPr>
            <p:sp>
              <p:nvSpPr>
                <p:cNvPr id="790" name=""/>
                <p:cNvSpPr/>
                <p:nvPr/>
              </p:nvSpPr>
              <p:spPr>
                <a:xfrm flipH="1" rot="1800000">
                  <a:off x="8222040" y="5378040"/>
                  <a:ext cx="226800" cy="222480"/>
                </a:xfrm>
                <a:custGeom>
                  <a:avLst/>
                  <a:gdLst/>
                  <a:ahLst/>
                  <a:rect l="l" t="t" r="r" b="b"/>
                  <a:pathLst>
                    <a:path w="470" h="461">
                      <a:moveTo>
                        <a:pt x="197" y="0"/>
                      </a:moveTo>
                      <a:cubicBezTo>
                        <a:pt x="148" y="20"/>
                        <a:pt x="41" y="80"/>
                        <a:pt x="16" y="131"/>
                      </a:cubicBezTo>
                      <a:cubicBezTo>
                        <a:pt x="0" y="186"/>
                        <a:pt x="27" y="254"/>
                        <a:pt x="48" y="309"/>
                      </a:cubicBezTo>
                      <a:lnTo>
                        <a:pt x="145" y="461"/>
                      </a:lnTo>
                      <a:lnTo>
                        <a:pt x="373" y="435"/>
                      </a:lnTo>
                      <a:lnTo>
                        <a:pt x="470" y="233"/>
                      </a:lnTo>
                      <a:lnTo>
                        <a:pt x="373" y="81"/>
                      </a:lnTo>
                      <a:lnTo>
                        <a:pt x="311" y="9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bb8c"/>
                    </a:gs>
                    <a:gs pos="100000">
                      <a:srgbClr val="ffcc9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 rot="1800000">
                  <a:off x="8273160" y="5441400"/>
                  <a:ext cx="109440" cy="82080"/>
                </a:xfrm>
                <a:custGeom>
                  <a:avLst/>
                  <a:gdLst/>
                  <a:ahLst/>
                  <a:rect l="l" t="t" r="r" b="b"/>
                  <a:pathLst>
                    <a:path w="227" h="170">
                      <a:moveTo>
                        <a:pt x="0" y="0"/>
                      </a:moveTo>
                      <a:lnTo>
                        <a:pt x="57" y="85"/>
                      </a:lnTo>
                      <a:lnTo>
                        <a:pt x="29" y="170"/>
                      </a:lnTo>
                      <a:lnTo>
                        <a:pt x="85" y="113"/>
                      </a:lnTo>
                      <a:lnTo>
                        <a:pt x="142" y="170"/>
                      </a:lnTo>
                      <a:lnTo>
                        <a:pt x="227" y="113"/>
                      </a:lnTo>
                      <a:lnTo>
                        <a:pt x="170" y="0"/>
                      </a:lnTo>
                      <a:lnTo>
                        <a:pt x="85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 rot="1800000">
                  <a:off x="7976880" y="5121720"/>
                  <a:ext cx="564840" cy="779040"/>
                </a:xfrm>
                <a:custGeom>
                  <a:avLst/>
                  <a:gdLst/>
                  <a:ahLst/>
                  <a:rect l="l" t="t" r="r" b="b"/>
                  <a:pathLst>
                    <a:path w="1170" h="1614">
                      <a:moveTo>
                        <a:pt x="234" y="56"/>
                      </a:moveTo>
                      <a:lnTo>
                        <a:pt x="459" y="176"/>
                      </a:lnTo>
                      <a:lnTo>
                        <a:pt x="642" y="338"/>
                      </a:lnTo>
                      <a:lnTo>
                        <a:pt x="804" y="507"/>
                      </a:lnTo>
                      <a:cubicBezTo>
                        <a:pt x="856" y="576"/>
                        <a:pt x="915" y="659"/>
                        <a:pt x="954" y="753"/>
                      </a:cubicBezTo>
                      <a:cubicBezTo>
                        <a:pt x="993" y="847"/>
                        <a:pt x="1017" y="978"/>
                        <a:pt x="1038" y="1074"/>
                      </a:cubicBezTo>
                      <a:cubicBezTo>
                        <a:pt x="1059" y="1170"/>
                        <a:pt x="1061" y="1242"/>
                        <a:pt x="1083" y="1332"/>
                      </a:cubicBezTo>
                      <a:lnTo>
                        <a:pt x="1170" y="1614"/>
                      </a:lnTo>
                      <a:lnTo>
                        <a:pt x="780" y="1614"/>
                      </a:lnTo>
                      <a:cubicBezTo>
                        <a:pt x="667" y="1572"/>
                        <a:pt x="566" y="1462"/>
                        <a:pt x="489" y="1359"/>
                      </a:cubicBezTo>
                      <a:cubicBezTo>
                        <a:pt x="406" y="1257"/>
                        <a:pt x="388" y="1081"/>
                        <a:pt x="321" y="997"/>
                      </a:cubicBezTo>
                      <a:lnTo>
                        <a:pt x="162" y="885"/>
                      </a:lnTo>
                      <a:lnTo>
                        <a:pt x="66" y="770"/>
                      </a:lnTo>
                      <a:cubicBezTo>
                        <a:pt x="50" y="732"/>
                        <a:pt x="47" y="676"/>
                        <a:pt x="66" y="657"/>
                      </a:cubicBezTo>
                      <a:cubicBezTo>
                        <a:pt x="85" y="638"/>
                        <a:pt x="141" y="652"/>
                        <a:pt x="179" y="657"/>
                      </a:cubicBezTo>
                      <a:cubicBezTo>
                        <a:pt x="213" y="663"/>
                        <a:pt x="242" y="679"/>
                        <a:pt x="270" y="693"/>
                      </a:cubicBezTo>
                      <a:cubicBezTo>
                        <a:pt x="298" y="707"/>
                        <a:pt x="314" y="724"/>
                        <a:pt x="349" y="742"/>
                      </a:cubicBezTo>
                      <a:cubicBezTo>
                        <a:pt x="384" y="760"/>
                        <a:pt x="449" y="810"/>
                        <a:pt x="477" y="801"/>
                      </a:cubicBezTo>
                      <a:cubicBezTo>
                        <a:pt x="505" y="792"/>
                        <a:pt x="515" y="727"/>
                        <a:pt x="519" y="685"/>
                      </a:cubicBezTo>
                      <a:lnTo>
                        <a:pt x="486" y="573"/>
                      </a:lnTo>
                      <a:lnTo>
                        <a:pt x="406" y="459"/>
                      </a:lnTo>
                      <a:lnTo>
                        <a:pt x="279" y="288"/>
                      </a:lnTo>
                      <a:lnTo>
                        <a:pt x="66" y="155"/>
                      </a:lnTo>
                      <a:cubicBezTo>
                        <a:pt x="24" y="114"/>
                        <a:pt x="0" y="84"/>
                        <a:pt x="24" y="42"/>
                      </a:cubicBezTo>
                      <a:cubicBezTo>
                        <a:pt x="48" y="0"/>
                        <a:pt x="86" y="34"/>
                        <a:pt x="123" y="33"/>
                      </a:cubicBezTo>
                      <a:lnTo>
                        <a:pt x="234" y="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dfc0"/>
                    </a:gs>
                    <a:gs pos="100000">
                      <a:srgbClr val="ffcc9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3" name=""/>
            <p:cNvGrpSpPr/>
            <p:nvPr/>
          </p:nvGrpSpPr>
          <p:grpSpPr>
            <a:xfrm>
              <a:off x="8705160" y="5029560"/>
              <a:ext cx="594720" cy="358560"/>
              <a:chOff x="8705160" y="5029560"/>
              <a:chExt cx="594720" cy="358560"/>
            </a:xfrm>
          </p:grpSpPr>
          <p:sp>
            <p:nvSpPr>
              <p:cNvPr id="794" name=""/>
              <p:cNvSpPr txBox="1"/>
              <p:nvPr/>
            </p:nvSpPr>
            <p:spPr>
              <a:xfrm rot="20700000">
                <a:off x="8724240" y="5097600"/>
                <a:ext cx="556200" cy="22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Left">
                  <a:avLst>
                    <a:gd name="adj" fmla="val 180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TOUCH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795" name=""/>
              <p:cNvSpPr txBox="1"/>
              <p:nvPr/>
            </p:nvSpPr>
            <p:spPr>
              <a:xfrm rot="20700000">
                <a:off x="8724240" y="5097600"/>
                <a:ext cx="556200" cy="22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Left">
                  <a:avLst>
                    <a:gd name="adj" fmla="val 180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メイリオ"/>
                  </a:rPr>
                  <a:t>TOUCH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メイリオ"/>
                  <a:ea typeface="メイリオ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2-06-12T00:52:04Z</dcterms:modified>
  <cp:revision>1</cp:revision>
  <dc:subject>PPT169_タブレットPC</dc:subject>
  <dc:title>PPT169_タブレットPC</dc:title>
</cp:coreProperties>
</file>